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B0C6D-3D37-468E-BE6E-0C50F0FB82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07DA0-66F3-4129-B21C-B15DFC6C14B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D7200-2BFE-499F-BC2D-AE4080B0A0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04C4A-00AE-4DA4-8714-BC883EE103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11D07-5083-4A54-AD8B-202B6A0EBF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5821E-E96E-44FA-8BF9-E478E9BC8B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8F803E-3598-4B45-BA74-EE3D5BA166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750FD-86AD-4B29-8601-84AE4DD0B7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85163-2019-4685-B66A-40AA9F13BD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A0564-260A-450C-BD65-ADC11D2F45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D46FC6-3215-4181-BCC2-9308560ED6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0CF6E-DC6C-426B-91AA-5D56C793EF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66"/>
                </a:solidFill>
                <a:latin typeface="Arial"/>
              </a:rPr>
              <a:t>Analyse van ervaring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vis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Voorwaarden voor succ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org voor een veilig klimaat in de groep (wat binnen de groep wordt besproken blijft daar oo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ak emoties bespreekb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es elkaars gelijken (onafhankelijk van wie de leiding heef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obeer suggesties daadwerkelijk u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et Begeleid Intervisie Mod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zelfstur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op reflectie 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etreft werkproble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advisering onder gelij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s doel- en oplossingsgerich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leidt tot een ervaringsgericht leerpro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Vaardig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Goede vragen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ellen en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doorvra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blemen herkad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geven en ontvan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sprek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dvis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Tahoma"/>
              </a:rPr>
              <a:t>De ijsber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3366"/>
              </a:solidFill>
              <a:latin typeface="Tahoma"/>
            </a:endParaRPr>
          </a:p>
        </p:txBody>
      </p:sp>
      <p:sp>
        <p:nvSpPr>
          <p:cNvPr id="88" name="AutoShape 4"/>
          <p:cNvSpPr/>
          <p:nvPr/>
        </p:nvSpPr>
        <p:spPr>
          <a:xfrm>
            <a:off x="2771640" y="1628640"/>
            <a:ext cx="2808360" cy="4680000"/>
          </a:xfrm>
          <a:prstGeom prst="triangle">
            <a:avLst>
              <a:gd name="adj" fmla="val 5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Freeform 5"/>
          <p:cNvSpPr/>
          <p:nvPr/>
        </p:nvSpPr>
        <p:spPr>
          <a:xfrm>
            <a:off x="2033640" y="3087720"/>
            <a:ext cx="5238720" cy="163440"/>
          </a:xfrm>
          <a:custGeom>
            <a:avLst/>
            <a:gdLst>
              <a:gd name="textAreaLeft" fmla="*/ 0 w 5238720"/>
              <a:gd name="textAreaRight" fmla="*/ 5239080 w 5238720"/>
              <a:gd name="textAreaTop" fmla="*/ 0 h 163440"/>
              <a:gd name="textAreaBottom" fmla="*/ 163800 h 163440"/>
            </a:gdLst>
            <a:ahLst/>
            <a:rect l="textAreaLeft" t="textAreaTop" r="textAreaRight" b="textAreaBottom"/>
            <a:pathLst>
              <a:path w="3300" h="103">
                <a:moveTo>
                  <a:pt x="0" y="7"/>
                </a:moveTo>
                <a:cubicBezTo>
                  <a:pt x="79" y="11"/>
                  <a:pt x="153" y="20"/>
                  <a:pt x="230" y="0"/>
                </a:cubicBezTo>
                <a:cubicBezTo>
                  <a:pt x="275" y="12"/>
                  <a:pt x="321" y="14"/>
                  <a:pt x="366" y="27"/>
                </a:cubicBezTo>
                <a:cubicBezTo>
                  <a:pt x="384" y="32"/>
                  <a:pt x="420" y="41"/>
                  <a:pt x="420" y="41"/>
                </a:cubicBezTo>
                <a:cubicBezTo>
                  <a:pt x="472" y="23"/>
                  <a:pt x="407" y="41"/>
                  <a:pt x="461" y="41"/>
                </a:cubicBezTo>
                <a:cubicBezTo>
                  <a:pt x="479" y="41"/>
                  <a:pt x="497" y="36"/>
                  <a:pt x="515" y="34"/>
                </a:cubicBezTo>
                <a:cubicBezTo>
                  <a:pt x="570" y="44"/>
                  <a:pt x="621" y="32"/>
                  <a:pt x="677" y="27"/>
                </a:cubicBezTo>
                <a:cubicBezTo>
                  <a:pt x="715" y="14"/>
                  <a:pt x="723" y="10"/>
                  <a:pt x="779" y="13"/>
                </a:cubicBezTo>
                <a:cubicBezTo>
                  <a:pt x="793" y="14"/>
                  <a:pt x="806" y="22"/>
                  <a:pt x="820" y="27"/>
                </a:cubicBezTo>
                <a:cubicBezTo>
                  <a:pt x="827" y="29"/>
                  <a:pt x="840" y="34"/>
                  <a:pt x="840" y="34"/>
                </a:cubicBezTo>
                <a:cubicBezTo>
                  <a:pt x="951" y="28"/>
                  <a:pt x="1051" y="32"/>
                  <a:pt x="1159" y="54"/>
                </a:cubicBezTo>
                <a:cubicBezTo>
                  <a:pt x="1199" y="40"/>
                  <a:pt x="1240" y="44"/>
                  <a:pt x="1281" y="34"/>
                </a:cubicBezTo>
                <a:cubicBezTo>
                  <a:pt x="1325" y="41"/>
                  <a:pt x="1364" y="49"/>
                  <a:pt x="1409" y="54"/>
                </a:cubicBezTo>
                <a:cubicBezTo>
                  <a:pt x="1431" y="61"/>
                  <a:pt x="1470" y="88"/>
                  <a:pt x="1470" y="88"/>
                </a:cubicBezTo>
                <a:cubicBezTo>
                  <a:pt x="1559" y="58"/>
                  <a:pt x="1584" y="76"/>
                  <a:pt x="1714" y="81"/>
                </a:cubicBezTo>
                <a:cubicBezTo>
                  <a:pt x="1758" y="89"/>
                  <a:pt x="1793" y="81"/>
                  <a:pt x="1836" y="68"/>
                </a:cubicBezTo>
                <a:cubicBezTo>
                  <a:pt x="1888" y="33"/>
                  <a:pt x="1961" y="64"/>
                  <a:pt x="2019" y="74"/>
                </a:cubicBezTo>
                <a:cubicBezTo>
                  <a:pt x="2061" y="61"/>
                  <a:pt x="2105" y="54"/>
                  <a:pt x="2148" y="47"/>
                </a:cubicBezTo>
                <a:cubicBezTo>
                  <a:pt x="2304" y="65"/>
                  <a:pt x="2457" y="84"/>
                  <a:pt x="2615" y="95"/>
                </a:cubicBezTo>
                <a:cubicBezTo>
                  <a:pt x="2681" y="73"/>
                  <a:pt x="2584" y="103"/>
                  <a:pt x="2751" y="95"/>
                </a:cubicBezTo>
                <a:cubicBezTo>
                  <a:pt x="2776" y="94"/>
                  <a:pt x="2839" y="72"/>
                  <a:pt x="2866" y="68"/>
                </a:cubicBezTo>
                <a:cubicBezTo>
                  <a:pt x="2888" y="61"/>
                  <a:pt x="2904" y="48"/>
                  <a:pt x="2927" y="41"/>
                </a:cubicBezTo>
                <a:cubicBezTo>
                  <a:pt x="2951" y="43"/>
                  <a:pt x="3015" y="39"/>
                  <a:pt x="3042" y="47"/>
                </a:cubicBezTo>
                <a:cubicBezTo>
                  <a:pt x="3056" y="51"/>
                  <a:pt x="3069" y="56"/>
                  <a:pt x="3083" y="61"/>
                </a:cubicBezTo>
                <a:cubicBezTo>
                  <a:pt x="3090" y="63"/>
                  <a:pt x="3103" y="68"/>
                  <a:pt x="3103" y="68"/>
                </a:cubicBezTo>
                <a:cubicBezTo>
                  <a:pt x="3133" y="65"/>
                  <a:pt x="3161" y="54"/>
                  <a:pt x="3191" y="54"/>
                </a:cubicBezTo>
                <a:cubicBezTo>
                  <a:pt x="3228" y="54"/>
                  <a:pt x="3262" y="68"/>
                  <a:pt x="3300" y="6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AutoShape 6"/>
          <p:cNvSpPr/>
          <p:nvPr/>
        </p:nvSpPr>
        <p:spPr>
          <a:xfrm>
            <a:off x="4643280" y="1628640"/>
            <a:ext cx="914400" cy="609840"/>
          </a:xfrm>
          <a:prstGeom prst="wedgeRectCallout">
            <a:avLst>
              <a:gd name="adj1" fmla="val -85592"/>
              <a:gd name="adj2" fmla="val 5286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dra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AutoShape 7"/>
          <p:cNvSpPr/>
          <p:nvPr/>
        </p:nvSpPr>
        <p:spPr>
          <a:xfrm>
            <a:off x="2484360" y="1628640"/>
            <a:ext cx="71640" cy="1440000"/>
          </a:xfrm>
          <a:custGeom>
            <a:avLst/>
            <a:gdLst>
              <a:gd name="textAreaLeft" fmla="*/ 45720 w 71640"/>
              <a:gd name="textAreaRight" fmla="*/ 72000 w 71640"/>
              <a:gd name="textAreaTop" fmla="*/ 37440 h 1440000"/>
              <a:gd name="textAreaBottom" fmla="*/ 1402560 h 144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AutoShape 8"/>
          <p:cNvSpPr/>
          <p:nvPr/>
        </p:nvSpPr>
        <p:spPr>
          <a:xfrm>
            <a:off x="2195640" y="3213000"/>
            <a:ext cx="288720" cy="3095640"/>
          </a:xfrm>
          <a:custGeom>
            <a:avLst/>
            <a:gdLst>
              <a:gd name="textAreaLeft" fmla="*/ 184680 w 288720"/>
              <a:gd name="textAreaRight" fmla="*/ 289080 w 288720"/>
              <a:gd name="textAreaTop" fmla="*/ 80640 h 3095640"/>
              <a:gd name="textAreaBottom" fmla="*/ 3015000 h 30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Text Box 9"/>
          <p:cNvSpPr/>
          <p:nvPr/>
        </p:nvSpPr>
        <p:spPr>
          <a:xfrm>
            <a:off x="1403280" y="2205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900000" y="450864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nzichtbaar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AutoShape 11"/>
          <p:cNvSpPr/>
          <p:nvPr/>
        </p:nvSpPr>
        <p:spPr>
          <a:xfrm>
            <a:off x="5435640" y="2997360"/>
            <a:ext cx="1873080" cy="863280"/>
          </a:xfrm>
          <a:prstGeom prst="cloudCallout">
            <a:avLst>
              <a:gd name="adj1" fmla="val -96356"/>
              <a:gd name="adj2" fmla="val 661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nk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AutoShape 12"/>
          <p:cNvSpPr/>
          <p:nvPr/>
        </p:nvSpPr>
        <p:spPr>
          <a:xfrm>
            <a:off x="5651640" y="5229360"/>
            <a:ext cx="2520720" cy="504720"/>
          </a:xfrm>
          <a:prstGeom prst="wedgeEllipseCallout">
            <a:avLst>
              <a:gd name="adj1" fmla="val -64106"/>
              <a:gd name="adj2" fmla="val 8742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vertuiging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AutoShape 13"/>
          <p:cNvSpPr/>
          <p:nvPr/>
        </p:nvSpPr>
        <p:spPr>
          <a:xfrm>
            <a:off x="6588000" y="3933720"/>
            <a:ext cx="914400" cy="91440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rmen en waard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AutoShape 14"/>
          <p:cNvSpPr/>
          <p:nvPr/>
        </p:nvSpPr>
        <p:spPr>
          <a:xfrm>
            <a:off x="4932360" y="3789360"/>
            <a:ext cx="1047600" cy="914400"/>
          </a:xfrm>
          <a:prstGeom prst="pi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voe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AutoShape 15">
            <a:hlinkClick r:id="" action="ppaction://hlinkshowjump?jump=firstslide"/>
          </p:cNvPr>
          <p:cNvSpPr/>
          <p:nvPr/>
        </p:nvSpPr>
        <p:spPr>
          <a:xfrm>
            <a:off x="5651640" y="6165720"/>
            <a:ext cx="72720" cy="71640"/>
          </a:xfrm>
          <a:custGeom>
            <a:avLst/>
            <a:gdLst>
              <a:gd name="textAreaLeft" fmla="*/ 4320 w 72720"/>
              <a:gd name="textAreaRight" fmla="*/ 68400 w 72720"/>
              <a:gd name="textAreaTop" fmla="*/ 4320 h 71640"/>
              <a:gd name="textAreaBottom" fmla="*/ 67320 h 71640"/>
            </a:gdLst>
            <a:ahLst/>
            <a:rect l="textAreaLeft" t="textAreaTop" r="textAreaRight" b="textAreaBottom"/>
            <a:pathLst>
              <a:path w="21924" h="21600">
                <a:moveTo>
                  <a:pt x="0" y="0"/>
                </a:moveTo>
                <a:lnTo>
                  <a:pt x="21924" y="0"/>
                </a:lnTo>
                <a:lnTo>
                  <a:pt x="21924" y="21600"/>
                </a:lnTo>
                <a:lnTo>
                  <a:pt x="0" y="21600"/>
                </a:lnTo>
                <a:close/>
              </a:path>
              <a:path fill="lightenLess" w="21924" h="21600">
                <a:moveTo>
                  <a:pt x="0" y="0"/>
                </a:moveTo>
                <a:lnTo>
                  <a:pt x="21924" y="0"/>
                </a:lnTo>
                <a:lnTo>
                  <a:pt x="20524" y="1400"/>
                </a:lnTo>
                <a:lnTo>
                  <a:pt x="1400" y="1400"/>
                </a:lnTo>
                <a:close/>
              </a:path>
              <a:path fill="darken" w="21924" h="21600">
                <a:moveTo>
                  <a:pt x="21924" y="0"/>
                </a:moveTo>
                <a:lnTo>
                  <a:pt x="21924" y="21600"/>
                </a:lnTo>
                <a:lnTo>
                  <a:pt x="20524" y="20200"/>
                </a:lnTo>
                <a:lnTo>
                  <a:pt x="20524" y="1400"/>
                </a:lnTo>
                <a:close/>
              </a:path>
              <a:path fill="darkenLess" w="21924" h="21600">
                <a:moveTo>
                  <a:pt x="21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524" y="20200"/>
                </a:lnTo>
                <a:close/>
              </a:path>
              <a:path fill="lighten" w="21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924" h="21600">
                <a:moveTo>
                  <a:pt x="10962" y="3837"/>
                </a:moveTo>
                <a:lnTo>
                  <a:pt x="13538" y="6448"/>
                </a:ln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lnTo>
                  <a:pt x="17925" y="10800"/>
                </a:lnTo>
                <a:lnTo>
                  <a:pt x="16271" y="10800"/>
                </a:lnTo>
                <a:lnTo>
                  <a:pt x="16271" y="17989"/>
                </a:lnTo>
                <a:lnTo>
                  <a:pt x="5653" y="17989"/>
                </a:lnTo>
                <a:lnTo>
                  <a:pt x="5653" y="10800"/>
                </a:lnTo>
                <a:lnTo>
                  <a:pt x="3999" y="10800"/>
                </a:lnTo>
                <a:close/>
              </a:path>
              <a:path fill="darkenLess" w="21924" h="21600">
                <a:moveTo>
                  <a:pt x="13538" y="6448"/>
                </a:moveTo>
                <a:lnTo>
                  <a:pt x="13538" y="4707"/>
                </a:lnTo>
                <a:lnTo>
                  <a:pt x="15314" y="4707"/>
                </a:lnTo>
                <a:lnTo>
                  <a:pt x="15314" y="8224"/>
                </a:lnTo>
                <a:close/>
              </a:path>
              <a:path fill="darkenLess" w="21924" h="21600">
                <a:moveTo>
                  <a:pt x="10039" y="14299"/>
                </a:moveTo>
                <a:lnTo>
                  <a:pt x="11885" y="14299"/>
                </a:lnTo>
                <a:lnTo>
                  <a:pt x="11885" y="17989"/>
                </a:lnTo>
                <a:lnTo>
                  <a:pt x="16271" y="17989"/>
                </a:lnTo>
                <a:lnTo>
                  <a:pt x="16271" y="10800"/>
                </a:lnTo>
                <a:lnTo>
                  <a:pt x="5653" y="10800"/>
                </a:lnTo>
                <a:lnTo>
                  <a:pt x="5653" y="17989"/>
                </a:lnTo>
                <a:lnTo>
                  <a:pt x="10039" y="17989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200" bIns="162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AutoShape 16"/>
          <p:cNvSpPr/>
          <p:nvPr/>
        </p:nvSpPr>
        <p:spPr>
          <a:xfrm>
            <a:off x="5651640" y="5877000"/>
            <a:ext cx="2879640" cy="549360"/>
          </a:xfrm>
          <a:custGeom>
            <a:avLst/>
            <a:gdLst>
              <a:gd name="textAreaLeft" fmla="*/ 0 w 2879640"/>
              <a:gd name="textAreaRight" fmla="*/ 2880000 w 2879640"/>
              <a:gd name="textAreaTop" fmla="*/ 70920 h 549360"/>
              <a:gd name="textAreaBottom" fmla="*/ 478440 h 5493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onderbewustzij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AutoShape 17"/>
          <p:cNvSpPr/>
          <p:nvPr/>
        </p:nvSpPr>
        <p:spPr>
          <a:xfrm>
            <a:off x="8459640" y="1773360"/>
            <a:ext cx="360360" cy="4392360"/>
          </a:xfrm>
          <a:custGeom>
            <a:avLst/>
            <a:gdLst>
              <a:gd name="textAreaLeft" fmla="*/ 0 w 360360"/>
              <a:gd name="textAreaRight" fmla="*/ 129960 w 360360"/>
              <a:gd name="textAreaTop" fmla="*/ 114480 h 4392360"/>
              <a:gd name="textAreaBottom" fmla="*/ 4277880 h 439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AutoShape 19"/>
          <p:cNvSpPr/>
          <p:nvPr/>
        </p:nvSpPr>
        <p:spPr>
          <a:xfrm>
            <a:off x="6372360" y="4869000"/>
            <a:ext cx="1944720" cy="287280"/>
          </a:xfrm>
          <a:custGeom>
            <a:avLst/>
            <a:gdLst>
              <a:gd name="textAreaLeft" fmla="*/ 486000 w 1944720"/>
              <a:gd name="textAreaRight" fmla="*/ 1458720 w 1944720"/>
              <a:gd name="textAreaTop" fmla="*/ 3564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llen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Fasen in de intervisi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120" y="1676160"/>
            <a:ext cx="80010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ventarisatie van werkproblemen van de deelnemers (± 15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keuze van één aansprekend werkprobleem (± 1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nalyseren van het probleem (± 30‘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ies geven a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actie van de probleeminbrenger (± 10’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voor jezelf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je vaker denkt tegen te kom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 je zelf nog geen effectief antwoord op hebt gevon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aarvan je denkt dat anderen er ook tegen aan lop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Kies als groep een problee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duidelijk relatie heeft met de werk (of stage-)sit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wordt herkend door meerdere intervisiedeelnemers, en/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at interessant is voor het oplossen van soortgelijke probleemsitua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nalyseren do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goed te luis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niet te interpret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óór te vragen, zodat je de situatie zelf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33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ziet, hoort, voelt en beleeft (als een fil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e overleggen zonder de probleeminbren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Advisee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 de vorm van gedragssuggesties, handelingen (concree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tiveer je adv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3-10-17T09:04:47Z</dcterms:modified>
  <cp:revision>444</cp:revision>
  <dc:subject/>
  <dc:title>Verbindend Leren</dc:title>
</cp:coreProperties>
</file>