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5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560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6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7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B0C50-5CB1-41A0-9E5B-66B41143103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15840" y="739800"/>
            <a:ext cx="4935600" cy="37004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77880" y="4686480"/>
            <a:ext cx="5410080" cy="444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ijdelijke aanduiding voor dianummer 3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89BED-B0A8-4B04-A4BF-B32EE38EB4F8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33853-5797-4439-87B5-34915EE0F5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A9AFB-8C8A-4300-9FF1-C9E12682D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98B66-909D-4388-B389-FC486EF8CEB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0EBCD-0D3F-49D9-B99A-79A7C9D93A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A5752-D798-42DF-B02A-8EBF5E91DB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1D783B-7B04-43F4-8F27-03649F9A0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AD7CD6-C028-4BD8-A297-B95CCA21A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B2283F-F422-4201-A269-C31C6EE7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60A7B3-ADC9-4AF7-B18E-8D4FAF969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31B9E9-0FCA-4EB6-9BD7-213FD1327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93EE9-3CB7-4AE8-86A3-4C761DB8D0F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5459E75-29B6-4884-A8B0-1D9544D15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414B7-D1DC-41B7-8117-C371170D8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C1459B-CC3D-4D56-BBB3-923821B82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7A6AA7-7A45-4EC9-A1DC-A4184BA85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DA547E-156C-4545-B515-96AAA4CF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8B4958-028A-48BB-9B89-57E3D4CCA8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35F22-0806-457B-8787-B8401D6B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C1603-C83A-4E5B-9D18-D9E509F5CE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C2AC7-4B5C-47A3-A7E4-938E9835AEC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376E3-5204-4903-9481-31B6575CB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F7884D-5230-4F0C-BDF2-CE19585E11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2BC31-DD5E-4A89-8AAE-C704DC3860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B1061-23CB-47B4-9E79-1DF524040A9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7DEA-34F7-4FDA-A7AC-036B0EFC00F6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Feedback als mid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Blinde vlek, reflectie en feedb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Reflecter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MCj03479130000[1]"/>
          <p:cNvPicPr/>
          <p:nvPr/>
        </p:nvPicPr>
        <p:blipFill>
          <a:blip r:embed="rId1"/>
          <a:stretch/>
        </p:blipFill>
        <p:spPr>
          <a:xfrm>
            <a:off x="1187280" y="1628640"/>
            <a:ext cx="1182960" cy="280836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3203640" y="1773360"/>
            <a:ext cx="547200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mogen om te leren van interactie, samenwerking en communicatie met ander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erpunten omzetten in effectiever gedr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doorvragen, ingaan op reac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buClr>
                <a:srgbClr val="000000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ritisch zijn op jezel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Text Box 10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Rectangle 11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Rectangle 12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Text Box 13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Text Box 14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Text Box 15"/>
          <p:cNvSpPr/>
          <p:nvPr/>
        </p:nvSpPr>
        <p:spPr>
          <a:xfrm>
            <a:off x="2700360" y="1268280"/>
            <a:ext cx="27352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Mijn optreden naar buiten, mijn gedrag, mijn motivatie, wat anderen van mij zien en wat aan mezelf bekend i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Text Box 16"/>
          <p:cNvSpPr/>
          <p:nvPr/>
        </p:nvSpPr>
        <p:spPr>
          <a:xfrm>
            <a:off x="5651640" y="1268280"/>
            <a:ext cx="2881080" cy="15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anderen zien maar waar ik mezelf niet van bewust ben. Soms onderdrukte en onbewuste gewoontes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( blinde vlek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Text Box 17"/>
          <p:cNvSpPr/>
          <p:nvPr/>
        </p:nvSpPr>
        <p:spPr>
          <a:xfrm>
            <a:off x="2627280" y="3789360"/>
            <a:ext cx="2881440" cy="10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Het deel wat ik zelf ken maar wat ik niet aan anderen laat zien, wat ik camouflee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Text Box 18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Text Box 20"/>
          <p:cNvSpPr/>
          <p:nvPr/>
        </p:nvSpPr>
        <p:spPr>
          <a:xfrm>
            <a:off x="250920" y="260280"/>
            <a:ext cx="23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 tijdens de Proev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796000" y="3933720"/>
            <a:ext cx="2808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Niet bekend bij jezelf en bij anderen. Speelt zich af in het onderbewus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2"/>
          <p:cNvSpPr/>
          <p:nvPr/>
        </p:nvSpPr>
        <p:spPr>
          <a:xfrm>
            <a:off x="1116000" y="1268280"/>
            <a:ext cx="42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Rectangle 3"/>
          <p:cNvSpPr/>
          <p:nvPr/>
        </p:nvSpPr>
        <p:spPr>
          <a:xfrm>
            <a:off x="2556000" y="1052640"/>
            <a:ext cx="3024000" cy="230508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580000" y="1052640"/>
            <a:ext cx="3024360" cy="2305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5580000" y="3357720"/>
            <a:ext cx="3024360" cy="2447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2556000" y="3357720"/>
            <a:ext cx="3024000" cy="244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Rectangle 7"/>
          <p:cNvSpPr/>
          <p:nvPr/>
        </p:nvSpPr>
        <p:spPr>
          <a:xfrm>
            <a:off x="826920" y="3357720"/>
            <a:ext cx="1729080" cy="2447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Rectangle 8"/>
          <p:cNvSpPr/>
          <p:nvPr/>
        </p:nvSpPr>
        <p:spPr>
          <a:xfrm>
            <a:off x="826920" y="1052640"/>
            <a:ext cx="1727280" cy="23050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Text Box 9"/>
          <p:cNvSpPr/>
          <p:nvPr/>
        </p:nvSpPr>
        <p:spPr>
          <a:xfrm>
            <a:off x="826920" y="4149720"/>
            <a:ext cx="165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Text Box 11"/>
          <p:cNvSpPr/>
          <p:nvPr/>
        </p:nvSpPr>
        <p:spPr>
          <a:xfrm>
            <a:off x="971640" y="1844640"/>
            <a:ext cx="1439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ander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2556000" y="476280"/>
            <a:ext cx="302580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5580000" y="476280"/>
            <a:ext cx="3024360" cy="576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Text Box 14"/>
          <p:cNvSpPr/>
          <p:nvPr/>
        </p:nvSpPr>
        <p:spPr>
          <a:xfrm>
            <a:off x="2771640" y="692280"/>
            <a:ext cx="24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Text Box 15"/>
          <p:cNvSpPr/>
          <p:nvPr/>
        </p:nvSpPr>
        <p:spPr>
          <a:xfrm>
            <a:off x="5796000" y="692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 aan mijzel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16"/>
          <p:cNvSpPr/>
          <p:nvPr/>
        </p:nvSpPr>
        <p:spPr>
          <a:xfrm>
            <a:off x="3203640" y="1916280"/>
            <a:ext cx="151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rije ruimt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Text Box 17"/>
          <p:cNvSpPr/>
          <p:nvPr/>
        </p:nvSpPr>
        <p:spPr>
          <a:xfrm>
            <a:off x="6227640" y="1773360"/>
            <a:ext cx="1871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linde vlek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ahoma"/>
              </a:rPr>
              <a:t>Bad breath area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18"/>
          <p:cNvSpPr/>
          <p:nvPr/>
        </p:nvSpPr>
        <p:spPr>
          <a:xfrm>
            <a:off x="3203640" y="4365720"/>
            <a:ext cx="1584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riv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  <a:ea typeface="Arial"/>
              </a:rPr>
              <a:t>é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Text Box 19"/>
          <p:cNvSpPr/>
          <p:nvPr/>
        </p:nvSpPr>
        <p:spPr>
          <a:xfrm>
            <a:off x="6588000" y="4437000"/>
            <a:ext cx="144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20"/>
          <p:cNvSpPr/>
          <p:nvPr/>
        </p:nvSpPr>
        <p:spPr>
          <a:xfrm>
            <a:off x="6588000" y="4437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beken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0" y="476280"/>
            <a:ext cx="259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Tahoma"/>
              </a:rPr>
              <a:t>http://nl.wikipedia.org/wiki/Johari-venster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nl-NL" sz="36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1187280" y="1413000"/>
            <a:ext cx="5256360" cy="3168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6443640" y="1413000"/>
            <a:ext cx="1800360" cy="2087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inde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vle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Rectangle 9"/>
          <p:cNvSpPr/>
          <p:nvPr/>
        </p:nvSpPr>
        <p:spPr>
          <a:xfrm>
            <a:off x="5580000" y="3500280"/>
            <a:ext cx="2664000" cy="23767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1187280" y="4581360"/>
            <a:ext cx="4392720" cy="12956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feedba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Teruggeven hoe hij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bij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overkom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Beschrijf welk </a:t>
            </a:r>
            <a:r>
              <a:rPr b="0" lang="en-US" sz="2000" spc="-1" strike="noStrike" u="sng">
                <a:solidFill>
                  <a:srgbClr val="003366"/>
                </a:solidFill>
                <a:uFillTx/>
                <a:latin typeface="Tahoma"/>
              </a:rPr>
              <a:t>concreet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 gedrag van de ander je hebt waargen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Welk effect zijn gedrag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op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ef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voel geeft dat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elke gedrag roept dat op bij mij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Stap maken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naar de a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Herken je het gedrag wat ik benoemd heb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Klopt dit volgens jou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Wat vind je erva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601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Hoe </a:t>
            </a:r>
            <a:r>
              <a:rPr b="1" lang="en-US" sz="2400" spc="-1" strike="noStrike">
                <a:solidFill>
                  <a:srgbClr val="003366"/>
                </a:solidFill>
                <a:latin typeface="Tahoma"/>
              </a:rPr>
              <a:t>volgens mij</a:t>
            </a:r>
            <a:r>
              <a:rPr b="0" lang="en-US" sz="2400" spc="-1" strike="noStrike">
                <a:solidFill>
                  <a:srgbClr val="003366"/>
                </a:solidFill>
                <a:latin typeface="Tahoma"/>
              </a:rPr>
              <a:t> het gewenste gedrag eruit moet zi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“ </a:t>
            </a:r>
            <a:r>
              <a:rPr b="0" lang="en-US" sz="2000" spc="-1" strike="noStrike">
                <a:solidFill>
                  <a:srgbClr val="003366"/>
                </a:solidFill>
                <a:latin typeface="Tahoma"/>
              </a:rPr>
              <a:t>jij moet”  / “ik wil graag”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Picture 4" descr="MCj03342700000[1]"/>
          <p:cNvPicPr/>
          <p:nvPr/>
        </p:nvPicPr>
        <p:blipFill>
          <a:blip r:embed="rId1"/>
          <a:stretch/>
        </p:blipFill>
        <p:spPr>
          <a:xfrm>
            <a:off x="6372360" y="2852640"/>
            <a:ext cx="1685880" cy="1808280"/>
          </a:xfrm>
          <a:prstGeom prst="rect">
            <a:avLst/>
          </a:prstGeom>
          <a:ln w="0">
            <a:noFill/>
          </a:ln>
        </p:spPr>
      </p:pic>
      <p:sp>
        <p:nvSpPr>
          <p:cNvPr id="182" name="Line 5"/>
          <p:cNvSpPr/>
          <p:nvPr/>
        </p:nvSpPr>
        <p:spPr>
          <a:xfrm>
            <a:off x="1042920" y="5877000"/>
            <a:ext cx="151128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Line 6"/>
          <p:cNvSpPr/>
          <p:nvPr/>
        </p:nvSpPr>
        <p:spPr>
          <a:xfrm flipH="1">
            <a:off x="1258560" y="587700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04-03T16:05:12Z</dcterms:modified>
  <cp:revision>314</cp:revision>
  <dc:subject/>
  <dc:title>Verbindend Leren</dc:title>
</cp:coreProperties>
</file>