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18DEB-AB5D-4814-9C30-D91CB9C1AF3E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56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ijdelijke aanduiding voor dianumm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A4255-94BB-4854-B3D1-15E409F4E35C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D5EF5-B23C-4746-9B1B-2C59FBA67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ADDED-1781-413B-A6D2-82D284EA11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06DAD-0FB0-474C-9243-960E888E8E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998C45-0432-4B1D-B532-FD64F4F148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C3170-FBCC-410A-973E-B1ED9072B6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AFDC6-6C8E-4FF1-BC07-390F37C7A4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456041-E2D4-4E43-A7D8-D373D12496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FF1AB7-A98C-4338-B814-B760659209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4F74F-018F-42D5-A53A-F7D39AA7EA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EEA9F-1467-419D-88F4-B986BDA306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644990-5789-4B5E-8708-027ECCF6D7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59438-BFB0-4F98-81D8-A29E74A5E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Afbeelding 5" descr="Nordwin PPT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" name="Afbeelding 6" descr="Nordwin PPT vervolgpagina.jpg"/>
          <p:cNvPicPr/>
          <p:nvPr/>
        </p:nvPicPr>
        <p:blipFill>
          <a:blip r:embed="rId3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42840" y="3357360"/>
            <a:ext cx="53438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Tahoma"/>
              </a:rPr>
              <a:t>Assessorentrai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928440" y="4357440"/>
            <a:ext cx="5357880" cy="85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Tahoma"/>
              </a:rPr>
              <a:t>Kijken naar jezelf: het programma in grote lij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1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op competenties; het verschil met vroeg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xameneisen Prov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eld van de assessor ; 6 competen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TARR als reflectie- (en beoordelingsinstrumen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Inventarisatie + en -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MART maken van 2 leerdoel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2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Kijken naar jezelf;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ingscriteria aanscherpen: concreet maken!!!!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bserveren d.m.v. WACK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efenen met STAR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Slecht nieuws gespre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Proeve van bekwaamhei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3366"/>
                </a:solidFill>
                <a:latin typeface="Tahoma"/>
              </a:rPr>
              <a:t>Dag 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Open deel : invulling o.b.v. vragen groe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Beoordelen portfolio’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Feedback op filmpj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Tahoma"/>
              </a:rPr>
              <a:t>Evaluati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2T08:13:22Z</dcterms:created>
  <dc:creator>A. Dros</dc:creator>
  <dc:description/>
  <dc:language>en-US</dc:language>
  <cp:lastModifiedBy>12vifora</cp:lastModifiedBy>
  <dcterms:modified xsi:type="dcterms:W3CDTF">2012-11-12T17:00:27Z</dcterms:modified>
  <cp:revision>314</cp:revision>
  <dc:subject/>
  <dc:title>Verbindend Leren</dc:title>
</cp:coreProperties>
</file>