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29603-8D44-4963-AFB6-4AC4A6A455CC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7DD42-84F0-4804-BFA9-6174BE58177C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E445A-6104-477F-AF11-61A949D1EA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052BA-45D3-4C14-89B7-4CDA425C72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5E676-81DD-4437-9EC5-F242024317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DCA27-170E-4F51-937D-2266E721EB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8C6C4-0733-4480-B80D-238D3448F9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24098-8BDF-477B-A22E-3965C7559D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6F048-AB3D-4469-901C-D77C479376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CDC41-C61D-4D1E-966D-F2923E81F5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36B96-73D4-451E-8B9E-2DA221E224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31571-1A34-4FD4-B84C-9702D55A1C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9F37C-3297-4C86-BB0C-F476AFF34C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FD095-4CE5-451F-A1E3-8C64732C1E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Afbeelding 6" descr="Nordwin PPT vervolgpagina.jpg"/>
          <p:cNvPicPr/>
          <p:nvPr/>
        </p:nvPicPr>
        <p:blipFill>
          <a:blip r:embed="rId3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42840" y="3357360"/>
            <a:ext cx="53438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Tahoma"/>
              </a:rPr>
              <a:t>Assessorentrai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28440" y="4357440"/>
            <a:ext cx="535788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Kijken naar jezelf: het programma in grote lij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Dag 1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oordelen op competenties; het verschil met vroeg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Exameneisen Prov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eld van de assessor ; 6 competen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STARR als reflectie- (en beoordelingsinstrumen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Inventarisatie + en -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SMART maken van 2 leerdoel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Dag 2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Kijken naar jezelf; filmpj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oordelingscriteria aanscherpen: concreet maken!!!!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bserveren d.m.v. WACK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efenen met STAR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Slecht nieuws gespre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roeve van bekwaamhei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Dag 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pen deel : invulling o.b.v. vragen groe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oordelen portfolio’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Feedback op filmpj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Evaluati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08:13:22Z</dcterms:created>
  <dc:creator>A. Dros</dc:creator>
  <dc:description/>
  <dc:language>en-US</dc:language>
  <cp:lastModifiedBy>12vifora</cp:lastModifiedBy>
  <dcterms:modified xsi:type="dcterms:W3CDTF">2012-11-12T17:00:27Z</dcterms:modified>
  <cp:revision>314</cp:revision>
  <dc:subject/>
  <dc:title>Verbindend Leren</dc:title>
</cp:coreProperties>
</file>