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2603-1206-4320-835E-169E7BC886D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A33C-262E-44C7-AF80-E1F4CAA696D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9186-EDF5-4466-BCB2-C601E891A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C7F3-59B4-4008-A9A4-05A42494F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8118-5718-4430-B4EF-8F69AB33E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4A72-EEFC-4A16-990E-0B3DC5DF7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7254-7313-4023-B5E9-89EF65B5D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B014-E5D4-4334-8EE4-40A9C9F75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4999-4BDA-4143-98D2-5E91EF5AF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E291-5D2B-4928-BA87-D7177C239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C445-36EE-4796-90AD-99AE16FB8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FD24-516C-4755-AEEA-793CE6D6E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2E83-39D8-42F6-B489-F5BC48428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2673-7F5B-4D2D-B636-B2B877831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br>
              <a:rPr sz="32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hernieuwd beleid per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 MBO Nordwin College</a:t>
            </a:r>
            <a:br>
              <a:rPr sz="36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(voorbee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Naam: Rinze Fokk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boortedatum: 12-06-19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ldig tot: 31-12-20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Afbeelding 5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183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Interne) EVC assessor beoordeelt 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EVC assessor bouwt tegelijkertijd aan eigen experti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Bewijs materiaal voor eigen portfol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opnemen als bewijsmateri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Afbeelding 3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121572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"/>
          <p:cNvPicPr/>
          <p:nvPr/>
        </p:nvPicPr>
        <p:blipFill>
          <a:blip r:embed="rId2"/>
          <a:stretch/>
        </p:blipFill>
        <p:spPr>
          <a:xfrm>
            <a:off x="7020000" y="226548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osten EVC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85920" y="3009960"/>
            <a:ext cx="657216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1"/>
          <p:cNvSpPr/>
          <p:nvPr/>
        </p:nvSpPr>
        <p:spPr>
          <a:xfrm>
            <a:off x="6948360" y="27018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Intern tarie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voegd, Niet 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aantoonbaar) </a:t>
            </a: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aantal Pro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bevat onvoldoende be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expertise momen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ermelding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onvoldoende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tus op : “assessor in opleid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Waarderend) audit of coach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aanvullen (binnen 1 j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x onvoldoende = bespreken functioneren als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: zelf verantwoordelij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BET indicatoren en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x per 3 jaar laten toet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oetst 33% per j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apporteert Voldoende / Onvoldoen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eamle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gesprek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Passend aantal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ompetent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dragen 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nemen expertisemomenten in scholingskal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terne c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geleiden in ontwikkel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melden voor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certificeerd Nordwin assessor (pas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.b.v. eigen verantwoordelijkheid en 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Niet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(aantoonbaar)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vul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it gesprek 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( geen pasje meer en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Taak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 verwijderen uit Eduar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nieu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 en 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Uren en kos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3" descr=""/>
          <p:cNvPicPr/>
          <p:nvPr/>
        </p:nvPicPr>
        <p:blipFill>
          <a:blip r:embed="rId1"/>
          <a:stretch/>
        </p:blipFill>
        <p:spPr>
          <a:xfrm>
            <a:off x="4930920" y="1981080"/>
            <a:ext cx="3522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Recht doen aan studenten en bedrijfsl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bouw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orgen deskundigheid en bekwaamhei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aanton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Afbeelding 1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Nieuw t.o.v. o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externe certificering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kennistoets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langrijke rol P.O.P. (i.o.m. team, uit evaluaties, ontwikkeling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 ( portfolio in N@tscho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kenbaarheid ( “Groene dilemma’s” i.p.v. algeme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schrijving Examen Taken (BET) i.p.v. model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voor intern gebru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Zelf verantwoordelijk voor aanbrengen meerwaarde en kwalite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rken met deskundige en bekwam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zetten tot zelfontwikkeling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( BET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professionalis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oslaten externe certific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udgettair verantwoord ( € en u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uitstral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- /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tonen bekwaamheid en aanzetten tot l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lan, do, check,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o.b.v. Indicatoren BET </a:t>
            </a:r>
            <a:r>
              <a:rPr b="0" lang="nl-NL" sz="1000" spc="-1" strike="noStrike">
                <a:solidFill>
                  <a:srgbClr val="003366"/>
                </a:solidFill>
                <a:latin typeface="Tahoma"/>
              </a:rPr>
              <a:t>(examineringmbo.nl)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ter beoordeling 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twikkeldoelen individueel en i.o. met team / examenbure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4360" y="260280"/>
          <a:ext cx="7772400" cy="5934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plicht per 3 j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orbeelden ter aanvu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de indicatoren 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xcel)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luidfragment (b.v. C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afgenomen Proeven (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bo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eel CV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pportage 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xamencommis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twikkeldoelen en acties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ie op artikel of bijeenkom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ontwikkeling(STARR)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edback aan / van col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fragment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oordeling van kandidaat 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elname bewijs expertise dag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zorgen onderdeel expertise d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wijs van deelname intervi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werking van gedrags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scholingsbehoe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en -evaluatie op Pro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slag kennisto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functioner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beoordel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orbeelden afgenomen Pro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voegd raken, bekwaam blij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dagen basistraining + 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ilmpje van jezelf (intro, beoordeling, rapport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en CGI door 2 collega (senior) assessoren </a:t>
            </a:r>
            <a:r>
              <a:rPr b="1" lang="nl-NL" sz="1100" spc="-1" strike="noStrike">
                <a:solidFill>
                  <a:srgbClr val="003366"/>
                </a:solidFill>
                <a:latin typeface="Tahoma"/>
              </a:rPr>
              <a:t>( zelf zoeken!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Nordwin College + Gecertificeerd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oldoende Proeven ( 9 stuks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+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pertise bijeenkomsten ( minimaal 2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“voldoende” ( 1 x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Inves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92360" y="1773360"/>
          <a:ext cx="5753160" cy="914400"/>
        </p:xfrm>
        <a:graphic>
          <a:graphicData uri="http://schemas.openxmlformats.org/drawingml/2006/table">
            <a:tbl>
              <a:tblPr/>
              <a:tblGrid>
                <a:gridCol w="4676760"/>
                <a:gridCol w="1076400"/>
              </a:tblGrid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voegd rak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ren per ja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elname basis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nstelle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flectie (eind)gesprek met collega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620720" y="479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67000" y="3181320"/>
          <a:ext cx="6210000" cy="1714680"/>
        </p:xfrm>
        <a:graphic>
          <a:graphicData uri="http://schemas.openxmlformats.org/drawingml/2006/table">
            <a:tbl>
              <a:tblPr/>
              <a:tblGrid>
                <a:gridCol w="4572000"/>
                <a:gridCol w="523800"/>
                <a:gridCol w="523800"/>
                <a:gridCol w="59040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kwaam blijven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enbesteding per 3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tellen leerdoel + reflectie ( 3 leerdoel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rken feedback van collega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sie / teambijeenkomst op “beoordelen”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wonen expertise momenten ( verplicht 2 x per drie ja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V, overzicht Proeven, overige bewijsstuk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en bewijsmateri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al per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Hans Thalen</cp:lastModifiedBy>
  <cp:lastPrinted>2015-05-28T08:16:17Z</cp:lastPrinted>
  <dcterms:modified xsi:type="dcterms:W3CDTF">2016-02-18T08:30:54Z</dcterms:modified>
  <cp:revision>373</cp:revision>
  <dc:subject/>
  <dc:title>Verbindend Leren</dc:title>
</cp:coreProperties>
</file>