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C8DD-1BB6-43AB-BCD6-3A716CA3E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BEED-08FE-47A0-B06B-A1FB30DC3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86B3-EFDF-410A-9C2A-CF24F3126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BB38-E311-49D9-8CC5-DB606C937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B700-C28B-4A91-BD97-CBAB349E0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AB33-3BB3-4085-B1C7-90FD0BF79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5E1F-E214-49B2-99A3-BA71F521F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8BF1-3D1F-4065-BA4B-EAF73B5AE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ACC0-DA41-4317-994F-26FE0F6D5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8DE0-2460-465A-B60F-6564E5FBC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4E015-3686-456B-8531-B1740D929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2B79-6109-47BF-BF6B-FD99E7D52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se van erva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is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oorwaarden voor suc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org voor een veilig klimaat in de groep (wat binnen de groep wordt besproken blijft daar oo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ak emoties bespreekb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es elkaars gelijken (onafhankelijk van wie de leiding heef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eer suggesties daadwerkelijk u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t Begeleid Intervisie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elfstu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 reflectie 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treft werkprobl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advisering onder gelij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doel- en oplossingsgeric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idt tot een ervarings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Vaardig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Goede vragen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ellen en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doorvr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blemen herkad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geven en ontva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spre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dvis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 ijsber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771640" y="1628640"/>
            <a:ext cx="2808360" cy="4680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2033640" y="3087720"/>
            <a:ext cx="5238720" cy="163440"/>
          </a:xfrm>
          <a:custGeom>
            <a:avLst/>
            <a:gdLst>
              <a:gd name="textAreaLeft" fmla="*/ 0 w 5238720"/>
              <a:gd name="textAreaRight" fmla="*/ 5239080 w 52387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300" h="103">
                <a:moveTo>
                  <a:pt x="0" y="7"/>
                </a:moveTo>
                <a:cubicBezTo>
                  <a:pt x="79" y="11"/>
                  <a:pt x="153" y="20"/>
                  <a:pt x="230" y="0"/>
                </a:cubicBezTo>
                <a:cubicBezTo>
                  <a:pt x="275" y="12"/>
                  <a:pt x="321" y="14"/>
                  <a:pt x="366" y="27"/>
                </a:cubicBezTo>
                <a:cubicBezTo>
                  <a:pt x="384" y="32"/>
                  <a:pt x="420" y="41"/>
                  <a:pt x="420" y="41"/>
                </a:cubicBezTo>
                <a:cubicBezTo>
                  <a:pt x="472" y="23"/>
                  <a:pt x="407" y="41"/>
                  <a:pt x="461" y="41"/>
                </a:cubicBezTo>
                <a:cubicBezTo>
                  <a:pt x="479" y="41"/>
                  <a:pt x="497" y="36"/>
                  <a:pt x="515" y="34"/>
                </a:cubicBezTo>
                <a:cubicBezTo>
                  <a:pt x="570" y="44"/>
                  <a:pt x="621" y="32"/>
                  <a:pt x="677" y="27"/>
                </a:cubicBezTo>
                <a:cubicBezTo>
                  <a:pt x="715" y="14"/>
                  <a:pt x="723" y="10"/>
                  <a:pt x="779" y="13"/>
                </a:cubicBezTo>
                <a:cubicBezTo>
                  <a:pt x="793" y="14"/>
                  <a:pt x="806" y="22"/>
                  <a:pt x="820" y="27"/>
                </a:cubicBezTo>
                <a:cubicBezTo>
                  <a:pt x="827" y="29"/>
                  <a:pt x="840" y="34"/>
                  <a:pt x="840" y="34"/>
                </a:cubicBezTo>
                <a:cubicBezTo>
                  <a:pt x="951" y="28"/>
                  <a:pt x="1051" y="32"/>
                  <a:pt x="1159" y="54"/>
                </a:cubicBezTo>
                <a:cubicBezTo>
                  <a:pt x="1199" y="40"/>
                  <a:pt x="1240" y="44"/>
                  <a:pt x="1281" y="34"/>
                </a:cubicBezTo>
                <a:cubicBezTo>
                  <a:pt x="1325" y="41"/>
                  <a:pt x="1364" y="49"/>
                  <a:pt x="1409" y="54"/>
                </a:cubicBezTo>
                <a:cubicBezTo>
                  <a:pt x="1431" y="61"/>
                  <a:pt x="1470" y="88"/>
                  <a:pt x="1470" y="88"/>
                </a:cubicBezTo>
                <a:cubicBezTo>
                  <a:pt x="1559" y="58"/>
                  <a:pt x="1584" y="76"/>
                  <a:pt x="1714" y="81"/>
                </a:cubicBezTo>
                <a:cubicBezTo>
                  <a:pt x="1758" y="89"/>
                  <a:pt x="1793" y="81"/>
                  <a:pt x="1836" y="68"/>
                </a:cubicBezTo>
                <a:cubicBezTo>
                  <a:pt x="1888" y="33"/>
                  <a:pt x="1961" y="64"/>
                  <a:pt x="2019" y="74"/>
                </a:cubicBezTo>
                <a:cubicBezTo>
                  <a:pt x="2061" y="61"/>
                  <a:pt x="2105" y="54"/>
                  <a:pt x="2148" y="47"/>
                </a:cubicBezTo>
                <a:cubicBezTo>
                  <a:pt x="2304" y="65"/>
                  <a:pt x="2457" y="84"/>
                  <a:pt x="2615" y="95"/>
                </a:cubicBezTo>
                <a:cubicBezTo>
                  <a:pt x="2681" y="73"/>
                  <a:pt x="2584" y="103"/>
                  <a:pt x="2751" y="95"/>
                </a:cubicBezTo>
                <a:cubicBezTo>
                  <a:pt x="2776" y="94"/>
                  <a:pt x="2839" y="72"/>
                  <a:pt x="2866" y="68"/>
                </a:cubicBezTo>
                <a:cubicBezTo>
                  <a:pt x="2888" y="61"/>
                  <a:pt x="2904" y="48"/>
                  <a:pt x="2927" y="41"/>
                </a:cubicBezTo>
                <a:cubicBezTo>
                  <a:pt x="2951" y="43"/>
                  <a:pt x="3015" y="39"/>
                  <a:pt x="3042" y="47"/>
                </a:cubicBezTo>
                <a:cubicBezTo>
                  <a:pt x="3056" y="51"/>
                  <a:pt x="3069" y="56"/>
                  <a:pt x="3083" y="61"/>
                </a:cubicBezTo>
                <a:cubicBezTo>
                  <a:pt x="3090" y="63"/>
                  <a:pt x="3103" y="68"/>
                  <a:pt x="3103" y="68"/>
                </a:cubicBezTo>
                <a:cubicBezTo>
                  <a:pt x="3133" y="65"/>
                  <a:pt x="3161" y="54"/>
                  <a:pt x="3191" y="54"/>
                </a:cubicBezTo>
                <a:cubicBezTo>
                  <a:pt x="3228" y="54"/>
                  <a:pt x="3262" y="68"/>
                  <a:pt x="3300" y="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643280" y="1628640"/>
            <a:ext cx="914400" cy="609840"/>
          </a:xfrm>
          <a:prstGeom prst="wedgeRectCallout">
            <a:avLst>
              <a:gd name="adj1" fmla="val -85592"/>
              <a:gd name="adj2" fmla="val 528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484360" y="1628640"/>
            <a:ext cx="71640" cy="144000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2195640" y="3213000"/>
            <a:ext cx="288720" cy="3095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403280" y="2205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45086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5435640" y="2997360"/>
            <a:ext cx="1873080" cy="863280"/>
          </a:xfrm>
          <a:prstGeom prst="cloudCallout">
            <a:avLst>
              <a:gd name="adj1" fmla="val -96356"/>
              <a:gd name="adj2" fmla="val 6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nk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5651640" y="5229360"/>
            <a:ext cx="2520720" cy="504720"/>
          </a:xfrm>
          <a:prstGeom prst="wedgeEllipseCallout">
            <a:avLst>
              <a:gd name="adj1" fmla="val -64106"/>
              <a:gd name="adj2" fmla="val 874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vertuiging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6588000" y="39337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rmen en waard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4932360" y="3789360"/>
            <a:ext cx="1047600" cy="9144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oe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5">
            <a:hlinkClick r:id="" action="ppaction://hlinkshowjump?jump=firstslide"/>
          </p:cNvPr>
          <p:cNvSpPr/>
          <p:nvPr/>
        </p:nvSpPr>
        <p:spPr>
          <a:xfrm>
            <a:off x="5651640" y="6165720"/>
            <a:ext cx="72720" cy="71640"/>
          </a:xfrm>
          <a:custGeom>
            <a:avLst/>
            <a:gdLst>
              <a:gd name="textAreaLeft" fmla="*/ 4320 w 72720"/>
              <a:gd name="textAreaRight" fmla="*/ 68400 w 7272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924" h="21600">
                <a:moveTo>
                  <a:pt x="0" y="0"/>
                </a:moveTo>
                <a:lnTo>
                  <a:pt x="21924" y="0"/>
                </a:lnTo>
                <a:lnTo>
                  <a:pt x="21924" y="21600"/>
                </a:lnTo>
                <a:lnTo>
                  <a:pt x="0" y="21600"/>
                </a:lnTo>
                <a:close/>
              </a:path>
              <a:path fill="lightenLess" w="21924" h="21600">
                <a:moveTo>
                  <a:pt x="0" y="0"/>
                </a:moveTo>
                <a:lnTo>
                  <a:pt x="21924" y="0"/>
                </a:lnTo>
                <a:lnTo>
                  <a:pt x="20524" y="1400"/>
                </a:lnTo>
                <a:lnTo>
                  <a:pt x="1400" y="1400"/>
                </a:lnTo>
                <a:close/>
              </a:path>
              <a:path fill="darken" w="21924" h="21600">
                <a:moveTo>
                  <a:pt x="21924" y="0"/>
                </a:moveTo>
                <a:lnTo>
                  <a:pt x="21924" y="21600"/>
                </a:lnTo>
                <a:lnTo>
                  <a:pt x="20524" y="20200"/>
                </a:lnTo>
                <a:lnTo>
                  <a:pt x="20524" y="1400"/>
                </a:lnTo>
                <a:close/>
              </a:path>
              <a:path fill="darkenLess" w="21924" h="21600">
                <a:moveTo>
                  <a:pt x="21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24" y="20200"/>
                </a:lnTo>
                <a:close/>
              </a:path>
              <a:path fill="lighten" w="21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24" h="21600">
                <a:moveTo>
                  <a:pt x="10962" y="3837"/>
                </a:moveTo>
                <a:lnTo>
                  <a:pt x="13538" y="6448"/>
                </a:ln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lnTo>
                  <a:pt x="17925" y="10800"/>
                </a:lnTo>
                <a:lnTo>
                  <a:pt x="16271" y="10800"/>
                </a:lnTo>
                <a:lnTo>
                  <a:pt x="16271" y="17989"/>
                </a:lnTo>
                <a:lnTo>
                  <a:pt x="5653" y="17989"/>
                </a:lnTo>
                <a:lnTo>
                  <a:pt x="5653" y="10800"/>
                </a:lnTo>
                <a:lnTo>
                  <a:pt x="3999" y="10800"/>
                </a:lnTo>
                <a:close/>
              </a:path>
              <a:path fill="darkenLess" w="21924" h="21600">
                <a:moveTo>
                  <a:pt x="13538" y="6448"/>
                </a:move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close/>
              </a:path>
              <a:path fill="darkenLess" w="21924" h="21600">
                <a:moveTo>
                  <a:pt x="10039" y="14299"/>
                </a:moveTo>
                <a:lnTo>
                  <a:pt x="11885" y="14299"/>
                </a:lnTo>
                <a:lnTo>
                  <a:pt x="11885" y="17989"/>
                </a:lnTo>
                <a:lnTo>
                  <a:pt x="16271" y="17989"/>
                </a:lnTo>
                <a:lnTo>
                  <a:pt x="16271" y="10800"/>
                </a:lnTo>
                <a:lnTo>
                  <a:pt x="5653" y="10800"/>
                </a:lnTo>
                <a:lnTo>
                  <a:pt x="5653" y="17989"/>
                </a:lnTo>
                <a:lnTo>
                  <a:pt x="10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651640" y="5877000"/>
            <a:ext cx="2879640" cy="549360"/>
          </a:xfrm>
          <a:custGeom>
            <a:avLst/>
            <a:gdLst>
              <a:gd name="textAreaLeft" fmla="*/ 0 w 2879640"/>
              <a:gd name="textAreaRight" fmla="*/ 2880000 w 2879640"/>
              <a:gd name="textAreaTop" fmla="*/ 70920 h 549360"/>
              <a:gd name="textAreaBottom" fmla="*/ 47844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derbewustzij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8459640" y="1773360"/>
            <a:ext cx="360360" cy="4392360"/>
          </a:xfrm>
          <a:custGeom>
            <a:avLst/>
            <a:gdLst>
              <a:gd name="textAreaLeft" fmla="*/ 0 w 360360"/>
              <a:gd name="textAreaRight" fmla="*/ 129960 w 360360"/>
              <a:gd name="textAreaTop" fmla="*/ 114480 h 4392360"/>
              <a:gd name="textAreaBottom" fmla="*/ 4277880 h 43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6372360" y="4869000"/>
            <a:ext cx="1944720" cy="287280"/>
          </a:xfrm>
          <a:custGeom>
            <a:avLst/>
            <a:gdLst>
              <a:gd name="textAreaLeft" fmla="*/ 486000 w 1944720"/>
              <a:gd name="textAreaRight" fmla="*/ 1458720 w 1944720"/>
              <a:gd name="textAreaTop" fmla="*/ 3564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l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sen in de intervis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ntarisatie van werkproblemen van de deelnemers (± 15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uze van één aansprekend werkprobleem (± 1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alyseren van het probleem (± 3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ies geven a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ctie v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voor jezelf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je vaker denkt tegen te k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 je zelf nog geen effectief antwoord op hebt gevo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van je denkt dat anderen er ook tegen aan lo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als groep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duidelijk relatie heeft met de werk (of stage-)sit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wordt herkend door meerdere intervisiedeelnemers, en/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interessant is voor het oplossen van soortgelijke probleemsitu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alyseren do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ed te 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iet te interpre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óór te vragen, zodat je de situatie zel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iet, hoort, voelt en beleeft (als een fil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 overleggen zonder de probleeminbren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dvise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de vorm van gedragssuggesties, handelingen (concre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tiveer je adv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10-17T09:04:47Z</dcterms:modified>
  <cp:revision>444</cp:revision>
  <dc:subject/>
  <dc:title>Verbindend Leren</dc:title>
</cp:coreProperties>
</file>