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5"/>
          </p:nvPr>
        </p:nvSpPr>
        <p:spPr>
          <a:xfrm>
            <a:off x="383184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915840" y="739440"/>
            <a:ext cx="493560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77880" y="4686480"/>
            <a:ext cx="5410080" cy="4441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6"/>
          </p:nvPr>
        </p:nvSpPr>
        <p:spPr>
          <a:xfrm>
            <a:off x="-36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7"/>
          </p:nvPr>
        </p:nvSpPr>
        <p:spPr>
          <a:xfrm>
            <a:off x="383184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8313F-C730-4030-8EB2-17E60C49F3A6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5600" cy="37004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7880" y="4686480"/>
            <a:ext cx="54100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5278A-B19C-4456-BEBA-AF97006C2D5A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EB9B2-BD95-48A5-89B7-94179B85CC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9A9A7-F400-48A9-8179-B03D553712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F04D7-6DF9-4BFF-BED8-74C89CF711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4C3F6-EB86-4F3D-BB77-74D1DCABC5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4B3FA-2505-4985-9073-45FF13AF93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AE36DE-006D-4B73-BA26-8FAD4C3E4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03A151-E995-4C05-8B4D-EDF6CD3C6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236F35-ACE5-4672-A424-49E6CA471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EE7212-ABD9-4370-9E97-43A05EC01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0A188F-E1E8-483D-B4D5-3D708EAD2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42A53-318D-47BA-B5C7-8EBA00E01B4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6C4908-613C-4D2E-AFDB-C57B6F72C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B857D1-EA6B-4211-9F05-9819238B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7F95FB-5380-40AE-84E1-5A440F1B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9BE1EC-1FDC-4BB8-9E8D-0646B18D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0F8246-F69E-4C62-9DDE-CD350B51A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54C29B-3357-4045-B5D9-656C65FF5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CD1907-2897-4B2D-BC73-14B2D9808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35831-37A0-4EB9-BB74-E0E715D94C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8126A-EE2C-4521-82D4-794F6A5FEA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F387E-E18F-4021-BF88-1C8CDD51FD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9996A-477B-471E-83A4-BBCD69EDC9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75298-C08F-4FA0-BC74-DE205B1416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930A5-838F-4D14-A03C-B59E072A14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Afbeelding 6" descr="Nordwin PPT vervolgpagina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1698E-7F37-49A8-A117-83BA52B1668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42840" y="3357360"/>
            <a:ext cx="53438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Tahoma"/>
              </a:rPr>
              <a:t>Feedback als mid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928440" y="4357440"/>
            <a:ext cx="535788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Blinde vlek, reflectie en feedb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Reflectere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Picture 4" descr="MCj03479130000[1]"/>
          <p:cNvPicPr/>
          <p:nvPr/>
        </p:nvPicPr>
        <p:blipFill>
          <a:blip r:embed="rId1"/>
          <a:stretch/>
        </p:blipFill>
        <p:spPr>
          <a:xfrm>
            <a:off x="1187280" y="1628640"/>
            <a:ext cx="1182960" cy="28083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3203640" y="1773360"/>
            <a:ext cx="5472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mogen om te leren van interactie, samenwerking en communicatie met ande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erpunten omzetten in effectiever gedr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doorvragen, ingaan op reac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ritisch zijn op jezel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1116000" y="1268280"/>
            <a:ext cx="42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556000" y="1052640"/>
            <a:ext cx="3024000" cy="2305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5580000" y="1052640"/>
            <a:ext cx="3024360" cy="2305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5580000" y="3357720"/>
            <a:ext cx="3024360" cy="2447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2556000" y="3357720"/>
            <a:ext cx="3024000" cy="2446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826920" y="3357720"/>
            <a:ext cx="1729080" cy="24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826920" y="1052640"/>
            <a:ext cx="1727280" cy="2305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826920" y="4149720"/>
            <a:ext cx="165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nbekend aan ander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971640" y="1844640"/>
            <a:ext cx="14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ekend aan ander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Rectangle 11"/>
          <p:cNvSpPr/>
          <p:nvPr/>
        </p:nvSpPr>
        <p:spPr>
          <a:xfrm>
            <a:off x="2556000" y="476280"/>
            <a:ext cx="302580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5580000" y="476280"/>
            <a:ext cx="302436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2771640" y="69228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ekend aan mijzel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5796000" y="692280"/>
            <a:ext cx="25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nbekend aan mijzel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Text Box 15"/>
          <p:cNvSpPr/>
          <p:nvPr/>
        </p:nvSpPr>
        <p:spPr>
          <a:xfrm>
            <a:off x="2700360" y="1268280"/>
            <a:ext cx="273528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Mijn optreden naar buiten, mijn gedrag, mijn motivatie, wat anderen van mij zien en wat aan mezelf bekend i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Text Box 16"/>
          <p:cNvSpPr/>
          <p:nvPr/>
        </p:nvSpPr>
        <p:spPr>
          <a:xfrm>
            <a:off x="5651640" y="1268280"/>
            <a:ext cx="2881080" cy="15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Het deel wat anderen zien maar waar ik mezelf niet van bewust ben. Soms onderdrukte en onbewuste gewoont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( blinde vlek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2627280" y="3789360"/>
            <a:ext cx="288144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Het deel wat ik zelf ken maar wat ik niet aan anderen laat zien, wat ik camoufle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Text Box 18"/>
          <p:cNvSpPr/>
          <p:nvPr/>
        </p:nvSpPr>
        <p:spPr>
          <a:xfrm>
            <a:off x="6588000" y="4437000"/>
            <a:ext cx="14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Text Box 19"/>
          <p:cNvSpPr/>
          <p:nvPr/>
        </p:nvSpPr>
        <p:spPr>
          <a:xfrm>
            <a:off x="6588000" y="4437000"/>
            <a:ext cx="14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Text Box 20"/>
          <p:cNvSpPr/>
          <p:nvPr/>
        </p:nvSpPr>
        <p:spPr>
          <a:xfrm>
            <a:off x="250920" y="26028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drag tijdens de Proev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Text Box 21"/>
          <p:cNvSpPr/>
          <p:nvPr/>
        </p:nvSpPr>
        <p:spPr>
          <a:xfrm>
            <a:off x="5796000" y="3933720"/>
            <a:ext cx="2808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Niet bekend bij jezelf en bij anderen. Speelt zich af in het onderbewus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1116000" y="1268280"/>
            <a:ext cx="42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2556000" y="1052640"/>
            <a:ext cx="3024000" cy="2305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5580000" y="1052640"/>
            <a:ext cx="3024360" cy="2305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5580000" y="3357720"/>
            <a:ext cx="3024360" cy="2447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2556000" y="3357720"/>
            <a:ext cx="3024000" cy="2446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826920" y="3357720"/>
            <a:ext cx="1729080" cy="24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826920" y="1052640"/>
            <a:ext cx="1727280" cy="2305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826920" y="4149720"/>
            <a:ext cx="165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nbekend aan ander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971640" y="1844640"/>
            <a:ext cx="14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ekend aan ander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2556000" y="476280"/>
            <a:ext cx="302580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Rectangle 13"/>
          <p:cNvSpPr/>
          <p:nvPr/>
        </p:nvSpPr>
        <p:spPr>
          <a:xfrm>
            <a:off x="5580000" y="476280"/>
            <a:ext cx="302436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2771640" y="69228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ekend aan mijzel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Text Box 15"/>
          <p:cNvSpPr/>
          <p:nvPr/>
        </p:nvSpPr>
        <p:spPr>
          <a:xfrm>
            <a:off x="5796000" y="692280"/>
            <a:ext cx="25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nbekend aan mijzel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16"/>
          <p:cNvSpPr/>
          <p:nvPr/>
        </p:nvSpPr>
        <p:spPr>
          <a:xfrm>
            <a:off x="3203640" y="191628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rije ruim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Text Box 17"/>
          <p:cNvSpPr/>
          <p:nvPr/>
        </p:nvSpPr>
        <p:spPr>
          <a:xfrm>
            <a:off x="6227640" y="1773360"/>
            <a:ext cx="18716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linde vle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Bad breath are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18"/>
          <p:cNvSpPr/>
          <p:nvPr/>
        </p:nvSpPr>
        <p:spPr>
          <a:xfrm>
            <a:off x="3203640" y="4365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iv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é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19"/>
          <p:cNvSpPr/>
          <p:nvPr/>
        </p:nvSpPr>
        <p:spPr>
          <a:xfrm>
            <a:off x="6588000" y="4437000"/>
            <a:ext cx="14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 Box 20"/>
          <p:cNvSpPr/>
          <p:nvPr/>
        </p:nvSpPr>
        <p:spPr>
          <a:xfrm>
            <a:off x="6588000" y="443700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nbeken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Text Box 21"/>
          <p:cNvSpPr/>
          <p:nvPr/>
        </p:nvSpPr>
        <p:spPr>
          <a:xfrm>
            <a:off x="0" y="476280"/>
            <a:ext cx="259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ahoma"/>
              </a:rPr>
              <a:t>http://nl.wikipedia.org/wiki/Johari-venster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1187280" y="1413000"/>
            <a:ext cx="5256360" cy="3168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6443640" y="1413000"/>
            <a:ext cx="1800360" cy="2087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ind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le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5580000" y="3500280"/>
            <a:ext cx="2664000" cy="237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1187280" y="4581360"/>
            <a:ext cx="4392720" cy="129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feedback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Teruggeven hoe hij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bij mij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 overkom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Beschrijf welk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Tahoma"/>
              </a:rPr>
              <a:t>concreet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 gedrag van de ander je hebt waargenom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Welk effect zijn gedrag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op mij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 heef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Welke gevoel geeft dat bij mij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Welke gedrag roept dat op bij mij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Stap maken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 naar de a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Herken je het gedrag wat ik benoemd heb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Klopt dit volgens jou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Wat vind je erva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Hoe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volgens mij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 het gewenste gedrag eruit moet zi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“ 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jij moet”  / “ik wil graag”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1" name="Picture 4" descr="MCj03342700000[1]"/>
          <p:cNvPicPr/>
          <p:nvPr/>
        </p:nvPicPr>
        <p:blipFill>
          <a:blip r:embed="rId1"/>
          <a:stretch/>
        </p:blipFill>
        <p:spPr>
          <a:xfrm>
            <a:off x="6372360" y="2852640"/>
            <a:ext cx="1685880" cy="1808280"/>
          </a:xfrm>
          <a:prstGeom prst="rect">
            <a:avLst/>
          </a:prstGeom>
          <a:ln w="0">
            <a:noFill/>
          </a:ln>
        </p:spPr>
      </p:pic>
      <p:sp>
        <p:nvSpPr>
          <p:cNvPr id="182" name="Line 5"/>
          <p:cNvSpPr/>
          <p:nvPr/>
        </p:nvSpPr>
        <p:spPr>
          <a:xfrm>
            <a:off x="1042920" y="5877000"/>
            <a:ext cx="1511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Line 6"/>
          <p:cNvSpPr/>
          <p:nvPr/>
        </p:nvSpPr>
        <p:spPr>
          <a:xfrm flipH="1">
            <a:off x="1258560" y="587700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08:13:22Z</dcterms:created>
  <dc:creator>A. Dros</dc:creator>
  <dc:description/>
  <dc:language>en-US</dc:language>
  <cp:lastModifiedBy>12vifora</cp:lastModifiedBy>
  <dcterms:modified xsi:type="dcterms:W3CDTF">2013-04-03T16:05:12Z</dcterms:modified>
  <cp:revision>314</cp:revision>
  <dc:subject/>
  <dc:title>Verbindend Leren</dc:title>
</cp:coreProperties>
</file>