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404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B55D2-D939-4AD5-A666-73A8B4E8972D}" type="slidenum">
              <a:rPr b="0" lang="nl-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Tijdelijke aanduiding voor dianumm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9EFE7-91BA-4C68-8124-5C17CD935612}" type="slidenum">
              <a:rPr b="0" lang="nl-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Tijdelijke aanduiding voor dianumm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41AD7-11CC-439E-BC98-5BA340174B4A}" type="slidenum">
              <a:rPr b="0" lang="nl-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Tijdelijke aanduiding voor dianumm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4CEE0-411B-478A-9270-E1905649816F}" type="slidenum">
              <a:rPr b="0" lang="nl-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ijdelijke aanduiding voor dianumm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E47F4-483C-4C5E-BEC0-C9E0C3C34974}" type="slidenum">
              <a:rPr b="0" lang="nl-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Tijdelijke aanduiding voor dianumm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4FD94-3FED-4F0F-9F5C-B4F3B263B5E6}" type="slidenum">
              <a:rPr b="0" lang="nl-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ijdelijke aanduiding voor dianumm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8A0FF-EB6A-460F-A35E-1CCE22FA8C09}" type="slidenum">
              <a:rPr b="0" lang="nl-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Tijdelijke aanduiding voor dianumm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6D3BA-343A-479B-8BFD-E9E02E07E6DC}" type="slidenum">
              <a:rPr b="0" lang="nl-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ijdelijke aanduiding voor dianumm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DAD22-F366-485C-B93F-5A5B7868B834}" type="slidenum">
              <a:rPr b="0" lang="nl-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Tijdelijke aanduiding voor dianumm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CDCD5-64D3-4D05-B393-3F66ABB58806}" type="slidenum">
              <a:rPr b="0" lang="nl-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Tijdelijke aanduiding voor dianumm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F5D67-82E3-442E-8F4C-94C2C8F64F23}" type="slidenum">
              <a:rPr b="0" lang="nl-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Tijdelijke aanduiding voor dianumm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2802C-2B00-43FF-914E-882A60B7A38E}" type="slidenum">
              <a:rPr b="0" lang="nl-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ijdelijke aanduiding voor dianumm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F0747-F69E-419D-B6AD-204148D1D700}" type="slidenum">
              <a:rPr b="0" lang="nl-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Tijdelijke aanduiding voor dianumm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AAD5C-B45E-4EFB-A234-A60000F5B04E}" type="slidenum">
              <a:rPr b="0" lang="nl-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5BB880-797F-4653-9C4C-3A1DE052788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5AF429-F0B9-4FB9-AB2B-1FBDE2672A1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0CBB05-9E2D-4AD3-972D-989DDBDF7AF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6B0CBA-F0DA-4D78-A581-E92412DF95D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9F67B8-7254-43E0-B5D2-43337EE06E5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42C28B-6528-4A4F-BE50-78D4EB728F0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BC9CA3-0789-4616-A8B5-A0FF206BB82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5E2960-7D3B-4B66-9188-4B3D5C4914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2C2C22-CE9D-45D1-B1AF-88A39DEA6B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378332-9121-439F-8229-B6EC266739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072829-4AE3-49E9-86B4-C4B592AE841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BC2837-5DE8-45F1-8E86-8D36CBC515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Afbeelding 5" descr="Nordwin PPT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Afbeelding 5" descr="Nordwin PPT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1" name="Afbeelding 6" descr="Nordwin PPT vervolgpagina.jpg"/>
          <p:cNvPicPr/>
          <p:nvPr/>
        </p:nvPicPr>
        <p:blipFill>
          <a:blip r:embed="rId3"/>
          <a:stretch/>
        </p:blipFill>
        <p:spPr>
          <a:xfrm>
            <a:off x="0" y="468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xamineringmbo.nl/thema-s-examinering/examentaken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3357360"/>
            <a:ext cx="698328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3366"/>
                </a:solidFill>
                <a:latin typeface="Tahoma"/>
              </a:rPr>
              <a:t>Schets van de ontwikkeling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928440" y="4357800"/>
            <a:ext cx="5357880" cy="123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Examinering: een punt van aandacht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Ontwikkelingen Examencommiss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Procesarchitectuur Examinering (P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push dir="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3366"/>
                </a:solidFill>
                <a:latin typeface="Tahoma"/>
              </a:rPr>
              <a:t>Examiner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9" name="Tijdelijke aanduiding voor inhoud 3" descr=""/>
          <p:cNvPicPr/>
          <p:nvPr/>
        </p:nvPicPr>
        <p:blipFill>
          <a:blip r:embed="rId1"/>
          <a:stretch/>
        </p:blipFill>
        <p:spPr>
          <a:xfrm>
            <a:off x="690480" y="2133720"/>
            <a:ext cx="7772400" cy="226692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3366"/>
                </a:solidFill>
                <a:latin typeface="Tahoma"/>
              </a:rPr>
              <a:t>Diplomer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1" name="Tijdelijke aanduiding voor inhoud 3" descr=""/>
          <p:cNvPicPr/>
          <p:nvPr/>
        </p:nvPicPr>
        <p:blipFill>
          <a:blip r:embed="rId1"/>
          <a:stretch/>
        </p:blipFill>
        <p:spPr>
          <a:xfrm>
            <a:off x="826920" y="2205000"/>
            <a:ext cx="7772400" cy="226692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3366"/>
                </a:solidFill>
                <a:latin typeface="Tahoma"/>
              </a:rPr>
              <a:t>Procesarchitectuur Examinering </a:t>
            </a:r>
            <a:br>
              <a:rPr sz="3600"/>
            </a:br>
            <a:r>
              <a:rPr b="1" lang="nl-NL" sz="3600" spc="-1" strike="noStrike">
                <a:solidFill>
                  <a:srgbClr val="003366"/>
                </a:solidFill>
                <a:latin typeface="Tahoma"/>
              </a:rPr>
              <a:t>P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3" name="Picture 2" descr=""/>
          <p:cNvPicPr/>
          <p:nvPr/>
        </p:nvPicPr>
        <p:blipFill>
          <a:blip r:embed="rId1"/>
          <a:stretch/>
        </p:blipFill>
        <p:spPr>
          <a:xfrm>
            <a:off x="685800" y="2498760"/>
            <a:ext cx="7772400" cy="307980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42840" y="3357360"/>
            <a:ext cx="534384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3366"/>
                </a:solidFill>
                <a:latin typeface="Tahoma"/>
              </a:rPr>
              <a:t>Vragen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928440" y="4357440"/>
            <a:ext cx="5357880" cy="85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Ester Kortrij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E.Kortrijk@nordwincollege.n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push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3366"/>
                </a:solidFill>
                <a:latin typeface="Tahoma"/>
              </a:rPr>
              <a:t>Examinering: een punt van aandacht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685800" y="1766520"/>
            <a:ext cx="7772400" cy="43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1. Constatering van de Inspectie van het Onderwij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b050"/>
                </a:solidFill>
                <a:latin typeface="Tahoma"/>
              </a:rPr>
              <a:t>Scheiding formatief en summatie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b050"/>
                </a:solidFill>
                <a:latin typeface="Tahoma"/>
              </a:rPr>
              <a:t>Uitvoering PvB’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b050"/>
                </a:solidFill>
                <a:latin typeface="Tahoma"/>
              </a:rPr>
              <a:t>Functioneren examencommiss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2. Nieuwe wetgeving/ onderzoeksk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Inspectie van het Onderwij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1" name="Afbeelding 1" descr=""/>
          <p:cNvPicPr/>
          <p:nvPr/>
        </p:nvPicPr>
        <p:blipFill>
          <a:blip r:embed="rId1"/>
          <a:stretch/>
        </p:blipFill>
        <p:spPr>
          <a:xfrm>
            <a:off x="5580000" y="3357720"/>
            <a:ext cx="3319560" cy="210168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836640"/>
            <a:ext cx="7415280" cy="91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3366"/>
                </a:solidFill>
                <a:latin typeface="Tahoma"/>
              </a:rPr>
              <a:t>Examinering: een punt van aandacht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3. Examenagenda mbo 2015-202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b050"/>
                </a:solidFill>
                <a:latin typeface="Tahoma"/>
              </a:rPr>
              <a:t>Vertrouwen in de waarde van mbo-diploma’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b050"/>
                </a:solidFill>
                <a:latin typeface="Tahoma"/>
              </a:rPr>
              <a:t>Verdere verbetering van de examenkwaliteit, samenwerking met het bedrijfsleve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Hoe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70c0"/>
                </a:solidFill>
                <a:latin typeface="Tahoma"/>
              </a:rPr>
              <a:t>Lijn 1: Exameninstrumenten op or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70c0"/>
                </a:solidFill>
                <a:latin typeface="Tahoma"/>
              </a:rPr>
              <a:t>Lijn 2: Examenprocessen ‘in control’, duidelijke positie examencommiss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70c0"/>
                </a:solidFill>
                <a:latin typeface="Tahoma"/>
              </a:rPr>
              <a:t>Lijn 3: Professionaliteit op orde: de betrokkenen bij de examinering zijn deskundig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push dir="u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80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3366"/>
                </a:solidFill>
                <a:latin typeface="Tahoma"/>
              </a:rPr>
              <a:t>Ontwikkelingen Examencommissies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685800" y="1484280"/>
            <a:ext cx="7772400" cy="461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51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3366"/>
                </a:solidFill>
                <a:latin typeface="Tahoma"/>
              </a:rPr>
              <a:t>Centrale examencommissie MBO &amp; locatie examencommiss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451"/>
              </a:spcBef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b050"/>
                </a:solidFill>
                <a:latin typeface="Tahoma"/>
              </a:rPr>
              <a:t>Wie zitten hier in?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451"/>
              </a:spcBef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b050"/>
                </a:solidFill>
                <a:latin typeface="Tahoma"/>
              </a:rPr>
              <a:t>Wat zijn hun taken en bevoegdheden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451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3366"/>
                </a:solidFill>
                <a:latin typeface="Tahoma"/>
              </a:rPr>
              <a:t>Voorstel van wet: taken en bevoegdhede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451"/>
              </a:spcBef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b050"/>
                </a:solidFill>
                <a:latin typeface="Tahoma"/>
              </a:rPr>
              <a:t>Taken verduidelijkt en nadere eisen gesteld aan de examencommiss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451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3366"/>
                </a:solidFill>
                <a:latin typeface="Tahoma"/>
              </a:rPr>
              <a:t>Opmerkingen inspectie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451"/>
              </a:spcBef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b050"/>
                </a:solidFill>
                <a:latin typeface="Tahoma"/>
              </a:rPr>
              <a:t>Onvoldoende zicht op de kwaliteit van examiner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451"/>
              </a:spcBef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b050"/>
                </a:solidFill>
                <a:latin typeface="Tahoma"/>
              </a:rPr>
              <a:t>Taken niet duidelijk genoeg beleg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451"/>
              </a:spcBef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b050"/>
                </a:solidFill>
                <a:latin typeface="Tahoma"/>
              </a:rPr>
              <a:t>Onvoldoende onafhankelijk gepositioneer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Examenagenda mbo 2015-202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hthoek 1"/>
          <p:cNvSpPr/>
          <p:nvPr/>
        </p:nvSpPr>
        <p:spPr>
          <a:xfrm>
            <a:off x="1187280" y="1701720"/>
            <a:ext cx="66247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push dir="u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9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9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3366"/>
                </a:solidFill>
                <a:latin typeface="Tahoma"/>
              </a:rPr>
              <a:t>Ontwikkelingen Examencommissies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85800" y="1479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Opzet examencommissies Nordwin Colle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Doel: Professionele en goed gepositioneerde examencommiss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b05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b050"/>
                </a:solidFill>
                <a:latin typeface="Tahoma"/>
              </a:rPr>
              <a:t>Uitgangspunt: taken en bevoegdheden zo veel mogelijk op de loca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b05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b050"/>
                </a:solidFill>
                <a:latin typeface="Tahoma"/>
              </a:rPr>
              <a:t>Verdeling van taken en bevoegdheden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b05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b050"/>
                </a:solidFill>
                <a:latin typeface="Tahoma"/>
              </a:rPr>
              <a:t>Nieuwe samenstelling examencommissies, benoemd door het CvB (voorzitter, secretaris, 2 mbo docenten, extern li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 u="sng">
                <a:solidFill>
                  <a:srgbClr val="ccccff"/>
                </a:solidFill>
                <a:uFillTx/>
                <a:latin typeface="Tahoma"/>
                <a:hlinkClick r:id="rId1"/>
              </a:rPr>
              <a:t>Beschrijving Examen Taken (BET's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9" name="Afbeelding 3" descr=""/>
          <p:cNvPicPr/>
          <p:nvPr/>
        </p:nvPicPr>
        <p:blipFill>
          <a:blip r:embed="rId2"/>
          <a:stretch/>
        </p:blipFill>
        <p:spPr>
          <a:xfrm>
            <a:off x="5638680" y="4925880"/>
            <a:ext cx="2571840" cy="182880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3366"/>
                </a:solidFill>
                <a:latin typeface="Tahoma"/>
              </a:rPr>
              <a:t>Procesarchitectuur Examinering </a:t>
            </a:r>
            <a:br>
              <a:rPr sz="3600"/>
            </a:br>
            <a:r>
              <a:rPr b="1" lang="nl-NL" sz="3600" spc="-1" strike="noStrike">
                <a:solidFill>
                  <a:srgbClr val="003366"/>
                </a:solidFill>
                <a:latin typeface="Tahoma"/>
              </a:rPr>
              <a:t>P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Picture 2" descr=""/>
          <p:cNvPicPr/>
          <p:nvPr/>
        </p:nvPicPr>
        <p:blipFill>
          <a:blip r:embed="rId1"/>
          <a:stretch/>
        </p:blipFill>
        <p:spPr>
          <a:xfrm>
            <a:off x="685800" y="1720800"/>
            <a:ext cx="7772400" cy="307836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3366"/>
                </a:solidFill>
                <a:latin typeface="Tahoma"/>
              </a:rPr>
              <a:t>Kaders stell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3" name="Tijdelijke aanduiding voor inhoud 3" descr=""/>
          <p:cNvPicPr/>
          <p:nvPr/>
        </p:nvPicPr>
        <p:blipFill>
          <a:blip r:embed="rId1"/>
          <a:stretch/>
        </p:blipFill>
        <p:spPr>
          <a:xfrm>
            <a:off x="685800" y="2421000"/>
            <a:ext cx="7772400" cy="226692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3366"/>
                </a:solidFill>
                <a:latin typeface="Tahoma"/>
              </a:rPr>
              <a:t>Construeren en vaststell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5" name="Tijdelijke aanduiding voor inhoud 4" descr=""/>
          <p:cNvPicPr/>
          <p:nvPr/>
        </p:nvPicPr>
        <p:blipFill>
          <a:blip r:embed="rId1"/>
          <a:stretch/>
        </p:blipFill>
        <p:spPr>
          <a:xfrm>
            <a:off x="685800" y="2349360"/>
            <a:ext cx="7772400" cy="226692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3366"/>
                </a:solidFill>
                <a:latin typeface="Tahoma"/>
              </a:rPr>
              <a:t>Leren (bespreken examenpla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7" name="Tijdelijke aanduiding voor inhoud 3" descr=""/>
          <p:cNvPicPr/>
          <p:nvPr/>
        </p:nvPicPr>
        <p:blipFill>
          <a:blip r:embed="rId1"/>
          <a:stretch/>
        </p:blipFill>
        <p:spPr>
          <a:xfrm>
            <a:off x="677880" y="2276640"/>
            <a:ext cx="7772400" cy="226692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2T08:13:22Z</dcterms:created>
  <dc:creator>A. Dros</dc:creator>
  <dc:description/>
  <dc:language>en-US</dc:language>
  <cp:lastModifiedBy>Kortrijk, Ester</cp:lastModifiedBy>
  <cp:lastPrinted>2016-02-25T08:08:12Z</cp:lastPrinted>
  <dcterms:modified xsi:type="dcterms:W3CDTF">2016-02-25T08:58:23Z</dcterms:modified>
  <cp:revision>369</cp:revision>
  <dc:subject/>
  <dc:title>Verbindend Lere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SharedWithUsers">
    <vt:lpwstr/>
  </property>
</Properties>
</file>