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5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560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77880" y="4686480"/>
            <a:ext cx="541008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6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7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E802-0AA1-41AB-887D-5ACC8B0DA014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7880" y="4686480"/>
            <a:ext cx="54100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5B10-6B25-41B4-B377-3917C0B5BA2C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9DCDA-F843-41B0-830A-A5A183C60C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E2693-0C55-4C30-9BED-FBF6F4DC1F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40725-36DF-4BDF-86BD-55509D89C1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52AA7-424C-45EF-BA1F-CBDAE05F5E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FE051-C737-4214-9465-064B5F4F19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CCE782-5B9E-45E0-BF66-C213B6715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4B33FF-35DB-40E3-8324-98959B34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C12F63-E744-41A7-B12A-C6161F65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851CD7-DE0C-444B-ACF7-59BBDDD1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CE5357-4E3A-44DC-9EB0-5EBA0256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FA1DC-6A65-4A2C-8FA7-1365D266E52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0AC29-9037-4664-8183-8BF1FF98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736849-AEDB-4B3A-8309-5A9B1F75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4A46F-198A-4741-ACCC-04B95129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0ECAE3-9009-4DB4-AF6A-54AB989C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0B779-B0BA-4DAA-871E-E22318EF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7F521-6ED6-4649-A63E-3ED2D3D51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B0A0D4-84B6-40FC-B754-A09AB4543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1E6D6-16C7-438B-AAF5-3B4E3EFB9F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EA498-6110-4BA4-BFB5-ECD5B94F4F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4F097-09B1-40E5-8953-D3D85D9B04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B5186-D2F4-42AC-B78C-0D2B24AFFA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04CF0-9DDA-47E6-98D0-0620CC4981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3AA92-54E5-42CE-A799-A29E4C2AEF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046A-5615-46DB-8703-AA7996DA5B7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Feedback als mid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Blinde vlek, reflectie en feedb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Reflectere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MCj03479130000[1]"/>
          <p:cNvPicPr/>
          <p:nvPr/>
        </p:nvPicPr>
        <p:blipFill>
          <a:blip r:embed="rId1"/>
          <a:stretch/>
        </p:blipFill>
        <p:spPr>
          <a:xfrm>
            <a:off x="1187280" y="1628640"/>
            <a:ext cx="118296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3203640" y="1773360"/>
            <a:ext cx="5472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mogen om te leren van interactie, samenwerking en communicatie met ande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erpunten omzetten in effectiever gedr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doorvragen, ingaan op reac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ritisch zijn op jezel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1116000" y="126828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556000" y="1052640"/>
            <a:ext cx="3024000" cy="23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5580000" y="1052640"/>
            <a:ext cx="3024360" cy="2305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5580000" y="3357720"/>
            <a:ext cx="3024360" cy="24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2556000" y="3357720"/>
            <a:ext cx="3024000" cy="244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826920" y="3357720"/>
            <a:ext cx="1729080" cy="24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826920" y="1052640"/>
            <a:ext cx="1727280" cy="230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826920" y="4149720"/>
            <a:ext cx="165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971640" y="184464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2556000" y="476280"/>
            <a:ext cx="302580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5580000" y="476280"/>
            <a:ext cx="302436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2771640" y="69228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5796000" y="69228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2700360" y="1268280"/>
            <a:ext cx="27352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Mijn optreden naar buiten, mijn gedrag, mijn motivatie, wat anderen van mij zien en wat aan mezelf bekend i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5651640" y="1268280"/>
            <a:ext cx="2881080" cy="15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Het deel wat anderen zien maar waar ik mezelf niet van bewust ben. Soms onderdrukte en onbewuste gewoont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( blinde vlek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2627280" y="3789360"/>
            <a:ext cx="28814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Het deel wat ik zelf ken maar wat ik niet aan anderen laat zien, wat ik camoufle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6588000" y="44370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6588000" y="44370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250920" y="26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drag tijdens de Proev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5796000" y="3933720"/>
            <a:ext cx="280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Niet bekend bij jezelf en bij anderen. Speelt zich af in het onderbewus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116000" y="126828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2556000" y="1052640"/>
            <a:ext cx="3024000" cy="23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5580000" y="1052640"/>
            <a:ext cx="3024360" cy="2305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5580000" y="3357720"/>
            <a:ext cx="3024360" cy="24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2556000" y="3357720"/>
            <a:ext cx="3024000" cy="244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826920" y="3357720"/>
            <a:ext cx="1729080" cy="24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826920" y="1052640"/>
            <a:ext cx="1727280" cy="230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826920" y="4149720"/>
            <a:ext cx="165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971640" y="184464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2556000" y="476280"/>
            <a:ext cx="302580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5580000" y="476280"/>
            <a:ext cx="302436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2771640" y="69228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5796000" y="69228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3203640" y="191628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rije ruim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6227640" y="1773360"/>
            <a:ext cx="1871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linde vle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Bad breath are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3203640" y="4365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iv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é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6588000" y="44370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6588000" y="443700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0" y="476280"/>
            <a:ext cx="25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ahoma"/>
              </a:rPr>
              <a:t>http://nl.wikipedia.org/wiki/Johari-venster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1187280" y="1413000"/>
            <a:ext cx="5256360" cy="3168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6443640" y="1413000"/>
            <a:ext cx="1800360" cy="20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ind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le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5580000" y="3500280"/>
            <a:ext cx="2664000" cy="237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1187280" y="4581360"/>
            <a:ext cx="4392720" cy="129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feedba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Teruggeven hoe hij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bij mij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overkom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Beschrijf welk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Tahoma"/>
              </a:rPr>
              <a:t>concreet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 gedrag van de ander je hebt waargenom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Welk effect zijn gedrag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op mij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heef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Welke gevoel geeft dat bij mij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Welke gedrag roept dat op bij mij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Stap maken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naar de a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Herken je het gedrag wat ik benoemd heb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Klopt dit volgens jou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Wat vind je erva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Hoe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volgens mij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het gewenste gedrag eruit moet zi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“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jij moet”  / “ik wil graag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Picture 4" descr="MCj03342700000[1]"/>
          <p:cNvPicPr/>
          <p:nvPr/>
        </p:nvPicPr>
        <p:blipFill>
          <a:blip r:embed="rId1"/>
          <a:stretch/>
        </p:blipFill>
        <p:spPr>
          <a:xfrm>
            <a:off x="6372360" y="2852640"/>
            <a:ext cx="1685880" cy="1808280"/>
          </a:xfrm>
          <a:prstGeom prst="rect">
            <a:avLst/>
          </a:prstGeom>
          <a:ln w="0">
            <a:noFill/>
          </a:ln>
        </p:spPr>
      </p:pic>
      <p:sp>
        <p:nvSpPr>
          <p:cNvPr id="182" name="Line 5"/>
          <p:cNvSpPr/>
          <p:nvPr/>
        </p:nvSpPr>
        <p:spPr>
          <a:xfrm>
            <a:off x="1042920" y="5877000"/>
            <a:ext cx="1511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Line 6"/>
          <p:cNvSpPr/>
          <p:nvPr/>
        </p:nvSpPr>
        <p:spPr>
          <a:xfrm flipH="1">
            <a:off x="1258560" y="587700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12vifora</cp:lastModifiedBy>
  <dcterms:modified xsi:type="dcterms:W3CDTF">2013-04-03T16:05:12Z</dcterms:modified>
  <cp:revision>314</cp:revision>
  <dc:subject/>
  <dc:title>Verbindend Leren</dc:title>
</cp:coreProperties>
</file>