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9A089-962F-4310-865B-08E3ABAE6C2A}" type="slidenum">
              <a:rPr b="0" lang="nl-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F1A1A-948F-47E1-9F8F-7A5556E7F51B}" type="slidenum">
              <a:rPr b="0" lang="nl-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589A42-ABC7-4912-8DB0-32BB5D8435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F56716-5A19-4106-B588-979F911FFC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486CF5-6F7A-48B7-9B7B-C6835D3D91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C1245A-6692-4603-B40D-01C726FFCC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EF91FC-0AAD-4675-A365-5931E46E86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8886F0-1553-489F-8F8D-95996EF36A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DA9888-3092-481C-B344-5CBC7A6F58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9649CD-0957-4966-AFCC-CFBB9E01B8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3016B0-2229-4A55-A90D-9696BE6508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4834BD-1E17-43B0-A004-A36D8F4705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23FEB9-65BC-4CC0-919F-CF7C53358B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0FAF2B-5783-4BC2-A32E-F81F3A015C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Afbeelding 5" descr="Nordwin PPT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Afbeelding 5" descr="Nordwin PPT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1" name="Afbeelding 6" descr="Nordwin PPT vervolgpagina.jpg"/>
          <p:cNvPicPr/>
          <p:nvPr/>
        </p:nvPicPr>
        <p:blipFill>
          <a:blip r:embed="rId3"/>
          <a:stretch/>
        </p:blipFill>
        <p:spPr>
          <a:xfrm>
            <a:off x="0" y="468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42840" y="3357360"/>
            <a:ext cx="534384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3366"/>
                </a:solidFill>
                <a:latin typeface="Tahoma"/>
              </a:rPr>
              <a:t>Assessorentrai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928440" y="4357440"/>
            <a:ext cx="5357880" cy="85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Kijken naar jezelf: het programma in grote lij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3366"/>
                </a:solidFill>
                <a:latin typeface="Tahoma"/>
              </a:rPr>
              <a:t>Dag 1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Beoordelen op competenties; het verschil met vroeg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Exameneisen Prov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Beeld van de assessor ; 6 competen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STARR als reflectie- (en beoordelingsinstrumen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Inventarisatie + en -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SMART maken van 2 leerdoel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3366"/>
                </a:solidFill>
                <a:latin typeface="Tahoma"/>
              </a:rPr>
              <a:t>Dag 2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Kijken naar jezelf; filmpj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Beoordelingscriteria aanscherpen: concreet maken!!!!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Observeren d.m.v. WACK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Oefenen met STAR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Slecht nieuws gespre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Proeve van bekwaamhei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3366"/>
                </a:solidFill>
                <a:latin typeface="Tahoma"/>
              </a:rPr>
              <a:t>Dag 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Open deel : invulling o.b.v. vragen groe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Beoordelen portfolio’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Feedback op filmpj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Evaluati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2T08:13:22Z</dcterms:created>
  <dc:creator>A. Dros</dc:creator>
  <dc:description/>
  <dc:language>en-US</dc:language>
  <cp:lastModifiedBy>12vifora</cp:lastModifiedBy>
  <dcterms:modified xsi:type="dcterms:W3CDTF">2012-11-12T17:00:27Z</dcterms:modified>
  <cp:revision>314</cp:revision>
  <dc:subject/>
  <dc:title>Verbindend Leren</dc:title>
</cp:coreProperties>
</file>