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38497-66BD-4CD0-A8EE-5EC41CC8BB67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E15E3-9177-444F-97CD-2C1D325A22F9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EDAC8-98FB-4D16-A005-60606C818C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F33AD-3C03-494D-83A7-F9C572A5C6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55D1D-6015-46B8-A89A-3C7BA8FB1F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74F5C-EAB6-4A10-AD07-9182977151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CEA02-176E-49AD-8A77-9A546D7006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7B04E-935A-4829-9D47-B5AB64F1BC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33A56-7E1A-4B13-B213-962FD364F1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24B0E-8554-471C-BEC3-335C0CDC31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58A05-F85D-458D-B922-27471B6D6B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1646D-853F-4C95-8BBD-1654984EF2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8DF68-AD9A-4EC5-A564-97EAFD4E7F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AE01D-AB25-4A59-9235-1C4131136A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Afbeelding 6" descr="Nordwin PPT vervolgpagina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42840" y="3357360"/>
            <a:ext cx="53438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Tahoma"/>
              </a:rPr>
              <a:t>Assessorentrai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28440" y="4357440"/>
            <a:ext cx="53578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Kijken naar jezelf: het programma in grote lij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Dag 1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oordelen op competenties; het verschil met vroeg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xameneisen Prov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eld van de assessor ; 6 competen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STARR als reflectie- (en beoordelingsinstrume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Inventarisatie + en 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SMART maken van 2 leerdoel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Dag 2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Kijken naar jezelf; filmpj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oordelingscriteria aanscherpen: concreet maken!!!!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bserveren d.m.v. WACK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efenen met STAR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Slecht nieuws gespre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roeve van bekwaamhe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Dag 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pen deel : invulling o.b.v. vragen groe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oordelen portfolio’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Feedback op filmpj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valuat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8:13:22Z</dcterms:created>
  <dc:creator>A. Dros</dc:creator>
  <dc:description/>
  <dc:language>en-US</dc:language>
  <cp:lastModifiedBy>12vifora</cp:lastModifiedBy>
  <dcterms:modified xsi:type="dcterms:W3CDTF">2012-11-12T17:00:27Z</dcterms:modified>
  <cp:revision>314</cp:revision>
  <dc:subject/>
  <dc:title>Verbindend Leren</dc:title>
</cp:coreProperties>
</file>