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857C-A5FB-4ABF-820E-3DB8EB8F4A7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7B87-E733-4F21-9C54-91B3E15EF64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D664-8108-410F-9F19-D7F40793A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F345-8EC0-468A-A852-8C4867CFC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945D-CD53-4D51-9027-58C9A4AAD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25F3-69B7-4498-92F7-CCA48ADCC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4547-BE93-4CAC-9E43-63DF2DD7B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7167-68DE-42EA-AF4B-F92E0F966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3A8B-8A27-48E3-9A02-3BBBE99A1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3385-6DF9-4BA0-AF67-EF5C1E9DC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D98F2-28AE-412C-BF78-5737F78EA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32D2-6EB8-4851-BC08-25B71B8D8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B4F0-A307-44A7-BE38-7496DB1C7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8EB2-505E-429F-8615-467E988E7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ijken naar jezelf: het programma in grote lij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op competenties; het verschil met vro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eisen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eld van de assessor ; 6 compete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RR als reflectie- (en beoordelingsinstru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ventarisatie + en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MART maken van 2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ijken naar jezelf;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scriteria aanscherpen: concreet maken!!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bserveren d.m.v. WAC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efenen met STAR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lecht nieuws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eve van bekwaamhe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en deel : invulling o.b.v. vragen gro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portfolio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op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2-11-12T17:00:27Z</dcterms:modified>
  <cp:revision>314</cp:revision>
  <dc:subject/>
  <dc:title>Verbindend Leren</dc:title>
</cp:coreProperties>
</file>