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9156-5433-4A66-B5B5-656C137ACBC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5230-273B-4AA9-9E00-4C6E64B2328E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53E7-8EF4-492D-9224-06E01E9D30F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3B08-190D-4D6F-AF55-5FF9D790CF66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9AB4-2E98-44D3-9F55-00054F073AD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DFDF-1C4E-4797-A0AA-8EEA21CEDDC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DBEB-7CD8-4D2D-A078-2FF3A1ED2E8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65C7-18C1-4BAD-9E54-19393F1155A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2F74-5026-45CB-A683-10B49E8247A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1E7C-A734-4FE2-A9D7-B6DAEC7188B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8BCD-16B3-4B56-B179-A4D081F416B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F58F-E50C-4785-A4F4-0CB4228ABC8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A724-7103-403C-84E2-98A126C714F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B8A6-423C-40D2-A612-A4025E1CF14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184F-4F89-4839-94E2-51B261CC7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4BDE-FB80-465D-B394-E13CF0D13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8439-B6BF-482F-83CA-121A11C71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CD8A9-5919-45E4-8A12-1CC32C5C0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14C2-2AB4-4277-8883-FDB0EB355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54EA-1D7F-4C6C-81A0-525C3C635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F89E7-A160-40EA-BF7A-359D2AD90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6383-4F62-4E79-AE14-2A05792E0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A801-558D-425C-85AF-527DB0FFF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1D20-79B5-4C84-BC0D-A7F6B0794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D43F-4FE3-4E93-81B0-E212E8B64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FD73C-636D-4BAE-BCB6-4E517B302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69832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Schets van de ontwikk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800"/>
            <a:ext cx="535788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xaminering: een punt van aandach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ntwikkeling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rocesarchitectuur Examinering (P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90480" y="213372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Diplo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85800" y="2498760"/>
            <a:ext cx="7772400" cy="3079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Vrag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ster Kortrij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.Kortrijk@nordwincollege.n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7665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. Constatering van de 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Scheiding formatief en summatie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voering PvB’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Functioner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. Nieuwe wetgeving/ onderzoeksk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1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3319560" cy="2101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41528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. 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trouwen in de waarde van mbo-diploma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re verbetering van de examenkwaliteit, samenwerking met het bedrijfsle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o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1: Exameninstrumenten op or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2: Examenprocessen ‘in control’, duidelijke positi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3: Professionaliteit op orde: de betrokkenen bij de examinering zijn deskundi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Centrale examencommissie MBO &amp; locati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ie zitten hier in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at zijn hun taken en bevoegdhede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Voorstel van wet: taken en bevoegdhe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verduidelijkt en nadere eisen gesteld aan d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Opmerkingen inspecti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zicht op de kwaliteit van examin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niet duidelijk genoeg beleg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onafhankelijk gepositionee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hthoek 1"/>
          <p:cNvSpPr/>
          <p:nvPr/>
        </p:nvSpPr>
        <p:spPr>
          <a:xfrm>
            <a:off x="1187280" y="1701720"/>
            <a:ext cx="6624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479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 examencommissies Nordwin Colle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: Professionele en goed gepositioneerd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gangspunt: taken en bevoegdheden zo veel mogelijk op de loc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ling van taken en bevoegdhed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Nieuwe samenstelling examencommissies, benoemd door het CvB (voorzitter, secretaris, 2 mbo docenten, extern li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Beschrijving Examen Taken (BET'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Afbeelding 3" descr=""/>
          <p:cNvPicPr/>
          <p:nvPr/>
        </p:nvPicPr>
        <p:blipFill>
          <a:blip r:embed="rId2"/>
          <a:stretch/>
        </p:blipFill>
        <p:spPr>
          <a:xfrm>
            <a:off x="5638680" y="4925880"/>
            <a:ext cx="257184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85800" y="1720800"/>
            <a:ext cx="777240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Kaders 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85800" y="2421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Construeren en vas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685800" y="234936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Leren (bespreken examenp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77880" y="227664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Kortrijk, Ester</cp:lastModifiedBy>
  <cp:lastPrinted>2016-02-25T08:08:12Z</cp:lastPrinted>
  <dcterms:modified xsi:type="dcterms:W3CDTF">2016-02-25T08:58:23Z</dcterms:modified>
  <cp:revision>369</cp:revision>
  <dc:subject/>
  <dc:title>Verbindend Ler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/>
  </property>
</Properties>
</file>