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AE9E8-3333-4DDB-9B50-127BDA2AEB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D458A-4C37-48AE-A1EB-340DF21E2F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3B591-4E0F-4A46-AA24-C0D537E0F9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A6684-82A7-43D0-9F92-C2CF66CBC2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C606A-519B-46C1-B4BF-5566A7B3CE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15F70-F167-4053-8E02-5B87371C1F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869AF-B61E-4A7D-B647-CF522500EE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5A37A-65E7-4E22-9BD1-A0EB1CC201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41608-3B36-4776-A6B6-75A6AEE6BC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8B60E-7D0C-4F76-BDF9-91C69C6C3D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8A271-C02A-43ED-A871-0150F1D051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66638-1C7A-4894-9E79-F7A6531976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Afbeelding 6" descr="Nordwin PPT vervolgpagina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42840" y="3357360"/>
            <a:ext cx="53438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nalyse van ervari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928440" y="4357440"/>
            <a:ext cx="535788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vis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Voorwaarden voor succ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Zorg voor een veilig klimaat in de groep (wat binnen de groep wordt besproken blijft daar oo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aak emoties bespreekba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ees elkaars gelijken (onafhankelijk van wie de leiding heef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obeer suggesties daadwerkelijk u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et Begeleid Intervisie Mod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zelfstur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p reflectie gericht leerpro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etreft werkproblem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s advisering onder gelij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s doel- en oplossingsgerich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eidt tot een ervaringsgericht leerpro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Vaardighede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Luiste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3366"/>
                </a:solidFill>
                <a:uFillTx/>
                <a:latin typeface="Tahoma"/>
              </a:rPr>
              <a:t>Goede vragen </a:t>
            </a: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stellen en </a:t>
            </a:r>
            <a:r>
              <a:rPr b="0" lang="nl-NL" sz="2000" spc="-1" strike="noStrike" u="sng">
                <a:solidFill>
                  <a:srgbClr val="003366"/>
                </a:solidFill>
                <a:uFillTx/>
                <a:latin typeface="Tahoma"/>
              </a:rPr>
              <a:t>doorvra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roblemen herkade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Feedback geven en ontvan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anspre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dvise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De ijsber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2771640" y="1628640"/>
            <a:ext cx="2808360" cy="46800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Freeform 5"/>
          <p:cNvSpPr/>
          <p:nvPr/>
        </p:nvSpPr>
        <p:spPr>
          <a:xfrm>
            <a:off x="2033640" y="3087720"/>
            <a:ext cx="5238720" cy="163440"/>
          </a:xfrm>
          <a:custGeom>
            <a:avLst/>
            <a:gdLst>
              <a:gd name="textAreaLeft" fmla="*/ 0 w 5238720"/>
              <a:gd name="textAreaRight" fmla="*/ 5239080 w 523872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3300" h="103">
                <a:moveTo>
                  <a:pt x="0" y="7"/>
                </a:moveTo>
                <a:cubicBezTo>
                  <a:pt x="79" y="11"/>
                  <a:pt x="153" y="20"/>
                  <a:pt x="230" y="0"/>
                </a:cubicBezTo>
                <a:cubicBezTo>
                  <a:pt x="275" y="12"/>
                  <a:pt x="321" y="14"/>
                  <a:pt x="366" y="27"/>
                </a:cubicBezTo>
                <a:cubicBezTo>
                  <a:pt x="384" y="32"/>
                  <a:pt x="420" y="41"/>
                  <a:pt x="420" y="41"/>
                </a:cubicBezTo>
                <a:cubicBezTo>
                  <a:pt x="472" y="23"/>
                  <a:pt x="407" y="41"/>
                  <a:pt x="461" y="41"/>
                </a:cubicBezTo>
                <a:cubicBezTo>
                  <a:pt x="479" y="41"/>
                  <a:pt x="497" y="36"/>
                  <a:pt x="515" y="34"/>
                </a:cubicBezTo>
                <a:cubicBezTo>
                  <a:pt x="570" y="44"/>
                  <a:pt x="621" y="32"/>
                  <a:pt x="677" y="27"/>
                </a:cubicBezTo>
                <a:cubicBezTo>
                  <a:pt x="715" y="14"/>
                  <a:pt x="723" y="10"/>
                  <a:pt x="779" y="13"/>
                </a:cubicBezTo>
                <a:cubicBezTo>
                  <a:pt x="793" y="14"/>
                  <a:pt x="806" y="22"/>
                  <a:pt x="820" y="27"/>
                </a:cubicBezTo>
                <a:cubicBezTo>
                  <a:pt x="827" y="29"/>
                  <a:pt x="840" y="34"/>
                  <a:pt x="840" y="34"/>
                </a:cubicBezTo>
                <a:cubicBezTo>
                  <a:pt x="951" y="28"/>
                  <a:pt x="1051" y="32"/>
                  <a:pt x="1159" y="54"/>
                </a:cubicBezTo>
                <a:cubicBezTo>
                  <a:pt x="1199" y="40"/>
                  <a:pt x="1240" y="44"/>
                  <a:pt x="1281" y="34"/>
                </a:cubicBezTo>
                <a:cubicBezTo>
                  <a:pt x="1325" y="41"/>
                  <a:pt x="1364" y="49"/>
                  <a:pt x="1409" y="54"/>
                </a:cubicBezTo>
                <a:cubicBezTo>
                  <a:pt x="1431" y="61"/>
                  <a:pt x="1470" y="88"/>
                  <a:pt x="1470" y="88"/>
                </a:cubicBezTo>
                <a:cubicBezTo>
                  <a:pt x="1559" y="58"/>
                  <a:pt x="1584" y="76"/>
                  <a:pt x="1714" y="81"/>
                </a:cubicBezTo>
                <a:cubicBezTo>
                  <a:pt x="1758" y="89"/>
                  <a:pt x="1793" y="81"/>
                  <a:pt x="1836" y="68"/>
                </a:cubicBezTo>
                <a:cubicBezTo>
                  <a:pt x="1888" y="33"/>
                  <a:pt x="1961" y="64"/>
                  <a:pt x="2019" y="74"/>
                </a:cubicBezTo>
                <a:cubicBezTo>
                  <a:pt x="2061" y="61"/>
                  <a:pt x="2105" y="54"/>
                  <a:pt x="2148" y="47"/>
                </a:cubicBezTo>
                <a:cubicBezTo>
                  <a:pt x="2304" y="65"/>
                  <a:pt x="2457" y="84"/>
                  <a:pt x="2615" y="95"/>
                </a:cubicBezTo>
                <a:cubicBezTo>
                  <a:pt x="2681" y="73"/>
                  <a:pt x="2584" y="103"/>
                  <a:pt x="2751" y="95"/>
                </a:cubicBezTo>
                <a:cubicBezTo>
                  <a:pt x="2776" y="94"/>
                  <a:pt x="2839" y="72"/>
                  <a:pt x="2866" y="68"/>
                </a:cubicBezTo>
                <a:cubicBezTo>
                  <a:pt x="2888" y="61"/>
                  <a:pt x="2904" y="48"/>
                  <a:pt x="2927" y="41"/>
                </a:cubicBezTo>
                <a:cubicBezTo>
                  <a:pt x="2951" y="43"/>
                  <a:pt x="3015" y="39"/>
                  <a:pt x="3042" y="47"/>
                </a:cubicBezTo>
                <a:cubicBezTo>
                  <a:pt x="3056" y="51"/>
                  <a:pt x="3069" y="56"/>
                  <a:pt x="3083" y="61"/>
                </a:cubicBezTo>
                <a:cubicBezTo>
                  <a:pt x="3090" y="63"/>
                  <a:pt x="3103" y="68"/>
                  <a:pt x="3103" y="68"/>
                </a:cubicBezTo>
                <a:cubicBezTo>
                  <a:pt x="3133" y="65"/>
                  <a:pt x="3161" y="54"/>
                  <a:pt x="3191" y="54"/>
                </a:cubicBezTo>
                <a:cubicBezTo>
                  <a:pt x="3228" y="54"/>
                  <a:pt x="3262" y="68"/>
                  <a:pt x="3300" y="6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4643280" y="1628640"/>
            <a:ext cx="914400" cy="609840"/>
          </a:xfrm>
          <a:prstGeom prst="wedgeRectCallout">
            <a:avLst>
              <a:gd name="adj1" fmla="val -85592"/>
              <a:gd name="adj2" fmla="val 5286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dra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2484360" y="1628640"/>
            <a:ext cx="71640" cy="1440000"/>
          </a:xfrm>
          <a:custGeom>
            <a:avLst/>
            <a:gdLst>
              <a:gd name="textAreaLeft" fmla="*/ 45720 w 71640"/>
              <a:gd name="textAreaRight" fmla="*/ 72000 w 7164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AutoShape 8"/>
          <p:cNvSpPr/>
          <p:nvPr/>
        </p:nvSpPr>
        <p:spPr>
          <a:xfrm>
            <a:off x="2195640" y="3213000"/>
            <a:ext cx="288720" cy="3095640"/>
          </a:xfrm>
          <a:custGeom>
            <a:avLst/>
            <a:gdLst>
              <a:gd name="textAreaLeft" fmla="*/ 184680 w 288720"/>
              <a:gd name="textAreaRight" fmla="*/ 289080 w 28872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1403280" y="220500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ichtbaa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900000" y="450864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zichtbaa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5435640" y="2997360"/>
            <a:ext cx="1873080" cy="863280"/>
          </a:xfrm>
          <a:prstGeom prst="cloudCallout">
            <a:avLst>
              <a:gd name="adj1" fmla="val -96356"/>
              <a:gd name="adj2" fmla="val 661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nk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AutoShape 12"/>
          <p:cNvSpPr/>
          <p:nvPr/>
        </p:nvSpPr>
        <p:spPr>
          <a:xfrm>
            <a:off x="5651640" y="5229360"/>
            <a:ext cx="2520720" cy="504720"/>
          </a:xfrm>
          <a:prstGeom prst="wedgeEllipseCallout">
            <a:avLst>
              <a:gd name="adj1" fmla="val -64106"/>
              <a:gd name="adj2" fmla="val 8742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vertuiging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AutoShape 13"/>
          <p:cNvSpPr/>
          <p:nvPr/>
        </p:nvSpPr>
        <p:spPr>
          <a:xfrm>
            <a:off x="6588000" y="3933720"/>
            <a:ext cx="914400" cy="91440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rmen en waard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AutoShape 14"/>
          <p:cNvSpPr/>
          <p:nvPr/>
        </p:nvSpPr>
        <p:spPr>
          <a:xfrm>
            <a:off x="4932360" y="3789360"/>
            <a:ext cx="1047600" cy="91440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oel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AutoShape 15">
            <a:hlinkClick r:id="" action="ppaction://hlinkshowjump?jump=firstslide"/>
          </p:cNvPr>
          <p:cNvSpPr/>
          <p:nvPr/>
        </p:nvSpPr>
        <p:spPr>
          <a:xfrm>
            <a:off x="5651640" y="6165720"/>
            <a:ext cx="72720" cy="71640"/>
          </a:xfrm>
          <a:custGeom>
            <a:avLst/>
            <a:gdLst>
              <a:gd name="textAreaLeft" fmla="*/ 4320 w 72720"/>
              <a:gd name="textAreaRight" fmla="*/ 68400 w 72720"/>
              <a:gd name="textAreaTop" fmla="*/ 4320 h 71640"/>
              <a:gd name="textAreaBottom" fmla="*/ 67320 h 71640"/>
            </a:gdLst>
            <a:ahLst/>
            <a:rect l="textAreaLeft" t="textAreaTop" r="textAreaRight" b="textAreaBottom"/>
            <a:pathLst>
              <a:path w="21924" h="21600">
                <a:moveTo>
                  <a:pt x="0" y="0"/>
                </a:moveTo>
                <a:lnTo>
                  <a:pt x="21924" y="0"/>
                </a:lnTo>
                <a:lnTo>
                  <a:pt x="21924" y="21600"/>
                </a:lnTo>
                <a:lnTo>
                  <a:pt x="0" y="21600"/>
                </a:lnTo>
                <a:close/>
              </a:path>
              <a:path fill="lightenLess" w="21924" h="21600">
                <a:moveTo>
                  <a:pt x="0" y="0"/>
                </a:moveTo>
                <a:lnTo>
                  <a:pt x="21924" y="0"/>
                </a:lnTo>
                <a:lnTo>
                  <a:pt x="20524" y="1400"/>
                </a:lnTo>
                <a:lnTo>
                  <a:pt x="1400" y="1400"/>
                </a:lnTo>
                <a:close/>
              </a:path>
              <a:path fill="darken" w="21924" h="21600">
                <a:moveTo>
                  <a:pt x="21924" y="0"/>
                </a:moveTo>
                <a:lnTo>
                  <a:pt x="21924" y="21600"/>
                </a:lnTo>
                <a:lnTo>
                  <a:pt x="20524" y="20200"/>
                </a:lnTo>
                <a:lnTo>
                  <a:pt x="20524" y="1400"/>
                </a:lnTo>
                <a:close/>
              </a:path>
              <a:path fill="darkenLess" w="21924" h="21600">
                <a:moveTo>
                  <a:pt x="21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524" y="20200"/>
                </a:lnTo>
                <a:close/>
              </a:path>
              <a:path fill="lighten" w="21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924" h="21600">
                <a:moveTo>
                  <a:pt x="10962" y="3837"/>
                </a:moveTo>
                <a:lnTo>
                  <a:pt x="13538" y="6448"/>
                </a:lnTo>
                <a:lnTo>
                  <a:pt x="13538" y="4707"/>
                </a:lnTo>
                <a:lnTo>
                  <a:pt x="15314" y="4707"/>
                </a:lnTo>
                <a:lnTo>
                  <a:pt x="15314" y="8224"/>
                </a:lnTo>
                <a:lnTo>
                  <a:pt x="17925" y="10800"/>
                </a:lnTo>
                <a:lnTo>
                  <a:pt x="16271" y="10800"/>
                </a:lnTo>
                <a:lnTo>
                  <a:pt x="16271" y="17989"/>
                </a:lnTo>
                <a:lnTo>
                  <a:pt x="5653" y="17989"/>
                </a:lnTo>
                <a:lnTo>
                  <a:pt x="5653" y="10800"/>
                </a:lnTo>
                <a:lnTo>
                  <a:pt x="3999" y="10800"/>
                </a:lnTo>
                <a:close/>
              </a:path>
              <a:path fill="darkenLess" w="21924" h="21600">
                <a:moveTo>
                  <a:pt x="13538" y="6448"/>
                </a:moveTo>
                <a:lnTo>
                  <a:pt x="13538" y="4707"/>
                </a:lnTo>
                <a:lnTo>
                  <a:pt x="15314" y="4707"/>
                </a:lnTo>
                <a:lnTo>
                  <a:pt x="15314" y="8224"/>
                </a:lnTo>
                <a:close/>
              </a:path>
              <a:path fill="darkenLess" w="21924" h="21600">
                <a:moveTo>
                  <a:pt x="10039" y="14299"/>
                </a:moveTo>
                <a:lnTo>
                  <a:pt x="11885" y="14299"/>
                </a:lnTo>
                <a:lnTo>
                  <a:pt x="11885" y="17989"/>
                </a:lnTo>
                <a:lnTo>
                  <a:pt x="16271" y="17989"/>
                </a:lnTo>
                <a:lnTo>
                  <a:pt x="16271" y="10800"/>
                </a:lnTo>
                <a:lnTo>
                  <a:pt x="5653" y="10800"/>
                </a:lnTo>
                <a:lnTo>
                  <a:pt x="5653" y="17989"/>
                </a:lnTo>
                <a:lnTo>
                  <a:pt x="10039" y="17989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AutoShape 16"/>
          <p:cNvSpPr/>
          <p:nvPr/>
        </p:nvSpPr>
        <p:spPr>
          <a:xfrm>
            <a:off x="5651640" y="5877000"/>
            <a:ext cx="2879640" cy="549360"/>
          </a:xfrm>
          <a:custGeom>
            <a:avLst/>
            <a:gdLst>
              <a:gd name="textAreaLeft" fmla="*/ 0 w 2879640"/>
              <a:gd name="textAreaRight" fmla="*/ 2880000 w 2879640"/>
              <a:gd name="textAreaTop" fmla="*/ 70920 h 549360"/>
              <a:gd name="textAreaBottom" fmla="*/ 478440 h 549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nderbewustzij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AutoShape 17"/>
          <p:cNvSpPr/>
          <p:nvPr/>
        </p:nvSpPr>
        <p:spPr>
          <a:xfrm>
            <a:off x="8459640" y="1773360"/>
            <a:ext cx="360360" cy="4392360"/>
          </a:xfrm>
          <a:custGeom>
            <a:avLst/>
            <a:gdLst>
              <a:gd name="textAreaLeft" fmla="*/ 0 w 360360"/>
              <a:gd name="textAreaRight" fmla="*/ 129960 w 360360"/>
              <a:gd name="textAreaTop" fmla="*/ 114480 h 4392360"/>
              <a:gd name="textAreaBottom" fmla="*/ 4277880 h 43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AutoShape 19"/>
          <p:cNvSpPr/>
          <p:nvPr/>
        </p:nvSpPr>
        <p:spPr>
          <a:xfrm>
            <a:off x="6372360" y="4869000"/>
            <a:ext cx="1944720" cy="287280"/>
          </a:xfrm>
          <a:custGeom>
            <a:avLst/>
            <a:gdLst>
              <a:gd name="textAreaLeft" fmla="*/ 486000 w 1944720"/>
              <a:gd name="textAreaRight" fmla="*/ 1458720 w 1944720"/>
              <a:gd name="textAreaTop" fmla="*/ 3564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ill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Fasen in de intervisi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ventarisatie van werkproblemen van de deelnemers (± 15‘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keuze van één aansprekend werkprobleem (± 10‘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nalyseren van het probleem (± 30‘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dvies geven aan de probleeminbrenger (± 10’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actie van de probleeminbrenger (± 10’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Kies voor jezelf een problee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at je vaker denkt tegen te kom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aar je zelf nog geen effectief antwoord op hebt gevond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aarvan je denkt dat anderen er ook tegen aan lop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Kies als groep een problee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at duidelijk relatie heeft met de werk (of stage-)situat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at wordt herkend door meerdere intervisiedeelnemers, en/o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at interessant is voor het oplossen van soortgelijke probleemsitua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Analyseren doo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goed te luiste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iet te interprete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óór te vragen, zodat je de situatie zelf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ziet, hoort, voelt en beleeft (als een film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e overleggen zonder de probleeminbreng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Advisee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 de vorm van gedragssuggesties, handelingen (concree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tiveer je adv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08:13:22Z</dcterms:created>
  <dc:creator>A. Dros</dc:creator>
  <dc:description/>
  <dc:language>en-US</dc:language>
  <cp:lastModifiedBy>12vifora</cp:lastModifiedBy>
  <dcterms:modified xsi:type="dcterms:W3CDTF">2013-10-17T09:04:47Z</dcterms:modified>
  <cp:revision>444</cp:revision>
  <dc:subject/>
  <dc:title>Verbindend Leren</dc:title>
</cp:coreProperties>
</file>