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2"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ahoma"/>
            </a:endParaRPr>
          </a:p>
        </p:txBody>
      </p:sp>
      <p:sp>
        <p:nvSpPr>
          <p:cNvPr id="83"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84" name="PlaceHolder 4"/>
          <p:cNvSpPr>
            <a:spLocks noGrp="1"/>
          </p:cNvSpPr>
          <p:nvPr>
            <p:ph type="body"/>
          </p:nvPr>
        </p:nvSpPr>
        <p:spPr>
          <a:xfrm>
            <a:off x="680760" y="4714560"/>
            <a:ext cx="54356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6"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1C90-164C-4765-B021-3DA3DAF78B05}"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4040" cy="3722760"/>
          </a:xfrm>
          <a:prstGeom prst="rect">
            <a:avLst/>
          </a:prstGeom>
          <a:ln w="0">
            <a:noFill/>
          </a:ln>
        </p:spPr>
      </p:sp>
      <p:sp>
        <p:nvSpPr>
          <p:cNvPr id="102"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9496-A6D8-432D-BBB9-8CF38C9E1D33}"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35D9A9-6AD2-4260-A9EF-6E74B20ED4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CA5DA88C-B8A3-40E2-9431-80FF7C39FB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4D96C4D7-6EF0-40FE-99EF-3D07A04E84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7322B1AA-3AFF-42BB-BDBA-48161F7ECD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BB4F036-6845-4248-8C28-727CA7CD44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514EF98E-992D-46B1-B5B8-D35E1E2E41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296A9D8D-40F8-4A99-8733-6D8C9B7575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ldNum" idx="1"/>
          </p:nvPr>
        </p:nvSpPr>
        <p:spPr/>
        <p:txBody>
          <a:bodyPr/>
          <a:p>
            <a:fld id="{B82914B6-3BC4-4E4F-A8A4-6B1F2BDBDF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2E65C385-D1E4-407E-975E-837C65AB0D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21A9C4FB-ADF7-4FA1-9A99-EB4997523D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09FBF5E5-E930-4EFE-97F8-6E6F1B4E5D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57EAE48A-AF0E-416A-AB73-B1DA0203F9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Afbeelding 5" descr="Nordwin PPT.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Afbeelding 5" descr="Nordwin PPT.jpg"/>
          <p:cNvPicPr/>
          <p:nvPr/>
        </p:nvPicPr>
        <p:blipFill>
          <a:blip r:embed="rId2"/>
          <a:stretch/>
        </p:blipFill>
        <p:spPr>
          <a:xfrm>
            <a:off x="0" y="0"/>
            <a:ext cx="9144000" cy="6858000"/>
          </a:xfrm>
          <a:prstGeom prst="rect">
            <a:avLst/>
          </a:prstGeom>
          <a:ln w="0">
            <a:noFill/>
          </a:ln>
        </p:spPr>
      </p:pic>
      <p:pic>
        <p:nvPicPr>
          <p:cNvPr id="41" name="Afbeelding 6" descr="Nordwin PPT vervolgpagina.jpg"/>
          <p:cNvPicPr/>
          <p:nvPr/>
        </p:nvPicPr>
        <p:blipFill>
          <a:blip r:embed="rId3"/>
          <a:stretch/>
        </p:blipFill>
        <p:spPr>
          <a:xfrm>
            <a:off x="0" y="4680"/>
            <a:ext cx="9144000" cy="68486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42840" y="3357360"/>
            <a:ext cx="534384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Tahoma"/>
              </a:rPr>
              <a:t>Het STARR gesprek</a:t>
            </a:r>
            <a:endParaRPr b="0" lang="en-US" sz="3200" spc="-1" strike="noStrike">
              <a:solidFill>
                <a:srgbClr val="000000"/>
              </a:solidFill>
              <a:latin typeface="Tahoma"/>
            </a:endParaRPr>
          </a:p>
        </p:txBody>
      </p:sp>
      <p:sp>
        <p:nvSpPr>
          <p:cNvPr id="88" name="PlaceHolder 2"/>
          <p:cNvSpPr>
            <a:spLocks noGrp="1"/>
          </p:cNvSpPr>
          <p:nvPr>
            <p:ph type="subTitle"/>
          </p:nvPr>
        </p:nvSpPr>
        <p:spPr>
          <a:xfrm>
            <a:off x="928440" y="4357440"/>
            <a:ext cx="5357880" cy="8571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 levert het o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Het gesprek</a:t>
            </a:r>
            <a:endParaRPr b="0" lang="en-US" sz="3600" spc="-1" strike="noStrike">
              <a:solidFill>
                <a:srgbClr val="000000"/>
              </a:solidFill>
              <a:latin typeface="Tahom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en goed gesprek leidt tot een beeld waaruit opgemaakt kan worden, hoe groot de kans is dat de kandidaat zich dit gedrag eigen heeft gemaakt en in de beroepspraktijk zal laten z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rg afhankelijk van de kwaliteit van de vragen (steller)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Werk systematisch de STARR af</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erug mag, maar stel vragen uit elk aandacht gebied</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Vat regelmatig samen en vraag naar concrete voorbeeld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wing tot reflectie bij de kandidaa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Bevordert objectiviteit bij assesso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Gaat uit van gedrag of handelen in bepaalde situatie ( Mille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Situatie</a:t>
            </a:r>
            <a:endParaRPr b="0" lang="en-US" sz="3600" spc="-1" strike="noStrike">
              <a:solidFill>
                <a:srgbClr val="000000"/>
              </a:solidFill>
              <a:latin typeface="Tahoma"/>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eld oproepen bij zowel kandidaat als assessor. “hoe was het ook alweer” ( de film terugdraa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de situatie concreet maken? Komt hij met voorbeelden of blijft het oppervlakkig? Zie ik de film nu oo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Taken</a:t>
            </a:r>
            <a:endParaRPr b="0" lang="en-US" sz="3600" spc="-1" strike="noStrike">
              <a:solidFill>
                <a:srgbClr val="000000"/>
              </a:solidFill>
              <a:latin typeface="Tahoma"/>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taken benoemen die horen bij het bepaalde criterium</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aken die (soms) niet onmiddellijk via observatie te zien zijn</a:t>
            </a:r>
            <a:endParaRPr b="0" lang="en-US" sz="2000" spc="-1" strike="noStrike">
              <a:solidFill>
                <a:srgbClr val="000000"/>
              </a:solidFill>
              <a:latin typeface="Tahoma"/>
            </a:endParaRPr>
          </a:p>
          <a:p>
            <a:pPr lvl="1" marL="743040" indent="-28584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Tahoma"/>
              </a:rPr>
              <a:t>“</a:t>
            </a:r>
            <a:r>
              <a:rPr b="0" i="1" lang="nl-NL" sz="2000" spc="-1" strike="noStrike">
                <a:solidFill>
                  <a:srgbClr val="003366"/>
                </a:solidFill>
                <a:latin typeface="Tahoma"/>
              </a:rPr>
              <a:t>Ze heeft oog voor het welzijn van de dieren en verzorgt de dieren goed zodat het genezingsproces optimaal kan verlop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taken of rollen benoemen die passen bij dit criterium? En zo ja, hoeveel dan? Overeenkomstig van wat verwacht word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Acties</a:t>
            </a:r>
            <a:endParaRPr b="0" lang="en-US" sz="3600" spc="-1" strike="noStrike">
              <a:solidFill>
                <a:srgbClr val="000000"/>
              </a:solidFill>
              <a:latin typeface="Tahoma"/>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acties benoemen die horen bij de taken en rollen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acties (=gedrag of handelen)  benoemen die horen bij de uitvoering van de taak of rol ? Zijn die acties overeenkomstig het gestelde gedrag in het criterium? Heeft </a:t>
            </a:r>
            <a:r>
              <a:rPr b="0" lang="nl-NL" sz="2000" spc="-1" strike="noStrike" u="sng">
                <a:solidFill>
                  <a:srgbClr val="003366"/>
                </a:solidFill>
                <a:uFillTx/>
                <a:latin typeface="Tahoma"/>
              </a:rPr>
              <a:t>hij</a:t>
            </a:r>
            <a:r>
              <a:rPr b="0" lang="nl-NL" sz="2000" spc="-1" strike="noStrike">
                <a:solidFill>
                  <a:srgbClr val="003366"/>
                </a:solidFill>
                <a:latin typeface="Tahoma"/>
              </a:rPr>
              <a:t> die acties uitgevoerd of deden  “wij” h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sultaat</a:t>
            </a:r>
            <a:endParaRPr b="0" lang="en-US" sz="3600" spc="-1" strike="noStrike">
              <a:solidFill>
                <a:srgbClr val="000000"/>
              </a:solidFill>
              <a:latin typeface="Tahoma"/>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resultaat benoemen wat bereikt is dankzij het gedrag van de kandidaat in de bepaalde situa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het resultaat beschrijven of benoemen? En is duidelijk dat het resultaat aan </a:t>
            </a:r>
            <a:r>
              <a:rPr b="0" lang="nl-NL" sz="2000" spc="-1" strike="noStrike" u="sng">
                <a:solidFill>
                  <a:srgbClr val="003366"/>
                </a:solidFill>
                <a:uFillTx/>
                <a:latin typeface="Tahoma"/>
              </a:rPr>
              <a:t>zijn</a:t>
            </a:r>
            <a:r>
              <a:rPr b="0" lang="nl-NL" sz="2000" spc="-1" strike="noStrike">
                <a:solidFill>
                  <a:srgbClr val="003366"/>
                </a:solidFill>
                <a:latin typeface="Tahoma"/>
              </a:rPr>
              <a:t> gedrag is toe te schrijven? Komt het resultaat overeen met het gestelde criteriu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flectie</a:t>
            </a:r>
            <a:endParaRPr b="0" lang="en-US" sz="3600" spc="-1" strike="noStrike">
              <a:solidFill>
                <a:srgbClr val="000000"/>
              </a:solidFill>
              <a:latin typeface="Tahom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Is de kandidaat in staat om op zichzelf te reflecteren? Hoe bewust is degene zich van zijn gedrag of handel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wust zijn van“ is de eerste stap naar nieuw of beter gedrag. Geen garan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zowel sterke maar wellicht ook verbeterpunten in zijn gedrag of handelen benoemen? Hoe kijkt hij erop terug? Is hij voldoende kritisch op zichzel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08:13:22Z</dcterms:created>
  <dc:creator>A. Dros</dc:creator>
  <dc:description/>
  <dc:language>en-US</dc:language>
  <cp:lastModifiedBy>12vifora</cp:lastModifiedBy>
  <dcterms:modified xsi:type="dcterms:W3CDTF">2014-02-27T12:03:25Z</dcterms:modified>
  <cp:revision>317</cp:revision>
  <dc:subject/>
  <dc:title>Verbindend Leren</dc:title>
</cp:coreProperties>
</file>