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819D-D145-44FB-B2B7-57B1BFA44D5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F5BB-A469-41F2-A384-49273EAA9D6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C5AE-0FDC-4EA9-BEF4-810203A9CA0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6AA2-8654-4922-B2EE-8A21DBF23BF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9962-30B1-4FB4-898A-94161A13DBC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1813-71B0-4C23-AC8F-0AEB4169BA8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77D3-B071-41B2-9D27-C350C783228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F2F1-5DE8-47FB-BC38-78DBD3B4340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63CE-037E-46A9-808F-F2C183FFCD6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5C43-F1C6-4B87-B11E-D39AA46E566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61D4-709F-48A1-8180-BABA55811B2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C044-AB16-419A-97CA-AD9C929C583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E0C8-650C-45FC-B7D1-511D1D57976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65FF-D118-40E6-A55E-A6A3D12AE35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3E5F-D537-47C2-A7E6-96DC9D0CA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14A4-BBEA-41FE-9ABC-1AFC4D23C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26DE-EF88-46DA-A238-8A5DF0DAE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72BA-F6D0-4331-8744-191A9CBB0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CBD1-7852-4C8D-9F34-94556A07D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5CD1-BC31-4F92-B27A-51B8A1D9F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ED3F-EE13-4666-968B-8612B470F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8AE2-A35F-4DB9-99AA-E5B9AED1F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31C5-C482-4FE9-A18C-4BA1C6234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4D46A-C39C-4977-8130-8DAA4B0BA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AAE4-93CA-4D9D-8A6E-75446938F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B87A-45E0-406F-AD78-1691D8649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6983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Schets van de ontwikk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800"/>
            <a:ext cx="53578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xaminering: een punt van aandach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ntwikkeling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rocesarchitectuur Examinering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90480" y="213372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Diplo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85800" y="2498760"/>
            <a:ext cx="777240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ster Kortrij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.Kortrijk@nordwincollege.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7665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. Constatering van de 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Scheiding formatief en summati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voering PvB’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Functioner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. Nieuwe wetgeving/ onderzoeksk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1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319560" cy="2101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4152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. 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trouwen in de waarde van mbo-diploma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re verbetering van de examenkwaliteit, samenwerking met het bedrijfsle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1: Exameninstrumenten op 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2: Examenprocessen ‘in control’, duidelijke positi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3: Professionaliteit op orde: de betrokkenen bij de examinering zijn deskundi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Centrale examencommissie MBO &amp; locati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ie zitten hier in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at zijn hun taken en bevoegdhede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Voorstel van wet: taken en bevoegdhe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verduidelijkt en nadere eisen gesteld aan d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Opmerkingen inspecti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zicht op de kwaliteit van examin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niet duidelijk genoeg beleg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onafhankelijk gepositionee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hthoek 1"/>
          <p:cNvSpPr/>
          <p:nvPr/>
        </p:nvSpPr>
        <p:spPr>
          <a:xfrm>
            <a:off x="1187280" y="1701720"/>
            <a:ext cx="6624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7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 examencommissies Nordwin Col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: Professionele en goed gepositioneerd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gangspunt: taken en bevoegdheden zo veel mogelijk op de loc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ling van taken en bevoegdhed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Nieuwe samenstelling examencommissies, benoemd door het CvB (voorzitter, secretaris, 2 mbo docenten, extern l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Beschrijving Examen Taken (BET'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Afbeelding 3" descr=""/>
          <p:cNvPicPr/>
          <p:nvPr/>
        </p:nvPicPr>
        <p:blipFill>
          <a:blip r:embed="rId2"/>
          <a:stretch/>
        </p:blipFill>
        <p:spPr>
          <a:xfrm>
            <a:off x="5638680" y="49258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5800" y="1720800"/>
            <a:ext cx="777240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Kaders 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5800" y="2421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Construeren en vas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85800" y="234936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Leren (bespreken examenp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77880" y="227664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Kortrijk, Ester</cp:lastModifiedBy>
  <cp:lastPrinted>2016-02-25T08:08:12Z</cp:lastPrinted>
  <dcterms:modified xsi:type="dcterms:W3CDTF">2016-02-25T08:58:23Z</dcterms:modified>
  <cp:revision>369</cp:revision>
  <dc:subject/>
  <dc:title>Verbindend Le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/>
  </property>
</Properties>
</file>