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1399-8709-406F-85F0-78977878CDA4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5C64-523F-499B-9847-82B953710102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4DEB-497B-4E38-9670-B4ECC015F09D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570C-7502-470F-B608-636A7D3F8179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68FF-69C1-4781-8A9C-939397FF0CE5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6003-6E07-41A7-9466-FF0A282A5E20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1434-61DB-4021-8BF4-0BCD2C3E8846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B7DD-8FAE-469E-955B-EC633A8B6F54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755D-C35B-4AD1-93AF-654A43678805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AC00-FB15-4D78-A0CD-1EA922E43251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D9AE-F033-474F-A2BD-960B78F86F36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8EB2-CCCA-4A56-B92C-DC4A8225B0F0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34A1-853D-46B7-8E29-8B4FD45A66C9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B97E-0BC7-4C6C-AF85-3DAAFB0FB91C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9831C-2C4A-4293-B640-8E9E50E4F5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2A3C2-821D-4D0E-BA48-C087729688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34680-248A-4E11-B125-99E595520B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A301C-9F97-4AC9-ACB5-C110F3386E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D3373-CED2-41EC-9D31-4DF44C2003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80EC1-9382-4524-A3C8-B897C41BCE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8FF7E-009C-474C-BD00-9F9D7AC755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A37C5-9416-47BB-8AC0-4232729EB4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17BC1-CCC1-4798-BCA6-E8A1622248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54600-AB02-4E91-927A-505E397409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3AF55-5FF3-4A12-8770-A8B178DD0A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92913-A2BB-4349-9E80-86EDB15AA0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xamineringmbo.nl/thema-s-examinering/examentaken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3357360"/>
            <a:ext cx="69832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Schets van de ontwikkel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28440" y="4357800"/>
            <a:ext cx="5357880" cy="12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xaminering: een punt van aandacht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Ontwikkelingen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rocesarchitectuur Examinering (P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Examin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90480" y="213372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Diplom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rocesarchitectuur Examinering </a:t>
            </a:r>
            <a:br>
              <a:rPr sz="3600"/>
            </a:b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685800" y="2498760"/>
            <a:ext cx="7772400" cy="3079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Vrage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ster Kortrij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.Kortrijk@nordwincollege.n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Examinering: een punt van aandach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76652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1. Constatering van de Inspectie van het Onderwij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Scheiding formatief en summatie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Uitvoering PvB’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Functioneren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2. Nieuwe wetgeving/ onderzoeksk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spectie van het Onderwij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Afbeelding 1" descr=""/>
          <p:cNvPicPr/>
          <p:nvPr/>
        </p:nvPicPr>
        <p:blipFill>
          <a:blip r:embed="rId1"/>
          <a:stretch/>
        </p:blipFill>
        <p:spPr>
          <a:xfrm>
            <a:off x="5580000" y="3357720"/>
            <a:ext cx="3319560" cy="2101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41528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Examinering: een punt van aandach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3. Examenagenda mbo 2015-20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Vertrouwen in de waarde van mbo-diploma’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Verdere verbetering van de examenkwaliteit, samenwerking met het bedrijfsle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Ho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70c0"/>
                </a:solidFill>
                <a:latin typeface="Tahoma"/>
              </a:rPr>
              <a:t>Lijn 1: Exameninstrumenten op or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70c0"/>
                </a:solidFill>
                <a:latin typeface="Tahoma"/>
              </a:rPr>
              <a:t>Lijn 2: Examenprocessen ‘in control’, duidelijke positie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70c0"/>
                </a:solidFill>
                <a:latin typeface="Tahoma"/>
              </a:rPr>
              <a:t>Lijn 3: Professionaliteit op orde: de betrokkenen bij de examinering zijn deskundi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Ontwikkelingen Examencommissi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ahoma"/>
              </a:rPr>
              <a:t>Centrale examencommissie MBO &amp; locatie examencommiss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Wie zitten hier in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Wat zijn hun taken en bevoegdheden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ahoma"/>
              </a:rPr>
              <a:t>Voorstel van wet: taken en bevoegdhed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Taken verduidelijkt en nadere eisen gesteld aan de examencommiss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ahoma"/>
              </a:rPr>
              <a:t>Opmerkingen inspecti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Onvoldoende zicht op de kwaliteit van examine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Taken niet duidelijk genoeg beleg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Onvoldoende onafhankelijk gepositionee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amenagenda mbo 2015-20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hthoek 1"/>
          <p:cNvSpPr/>
          <p:nvPr/>
        </p:nvSpPr>
        <p:spPr>
          <a:xfrm>
            <a:off x="1187280" y="1701720"/>
            <a:ext cx="66247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Ontwikkelingen Examencommissi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479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zet examencommissies Nordwin Colle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el: Professionele en goed gepositioneerde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Uitgangspunt: taken en bevoegdheden zo veel mogelijk op de loca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Verdeling van taken en bevoegdhede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Nieuwe samenstelling examencommissies, benoemd door het CvB (voorzitter, secretaris, 2 mbo docenten, extern li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Beschrijving Examen Taken (BET's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Afbeelding 3" descr=""/>
          <p:cNvPicPr/>
          <p:nvPr/>
        </p:nvPicPr>
        <p:blipFill>
          <a:blip r:embed="rId2"/>
          <a:stretch/>
        </p:blipFill>
        <p:spPr>
          <a:xfrm>
            <a:off x="5638680" y="4925880"/>
            <a:ext cx="257184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rocesarchitectuur Examinering </a:t>
            </a:r>
            <a:br>
              <a:rPr sz="3600"/>
            </a:b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685800" y="1720800"/>
            <a:ext cx="7772400" cy="3078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Kaders stel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85800" y="242100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Construeren en vaststel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685800" y="234936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Leren (bespreken examenp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77880" y="227664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Kortrijk, Ester</cp:lastModifiedBy>
  <cp:lastPrinted>2016-02-25T08:08:12Z</cp:lastPrinted>
  <dcterms:modified xsi:type="dcterms:W3CDTF">2016-02-25T08:58:23Z</dcterms:modified>
  <cp:revision>369</cp:revision>
  <dc:subject/>
  <dc:title>Verbindend Ler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aredWithUsers">
    <vt:lpwstr/>
  </property>
</Properties>
</file>