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56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B07E-2373-476A-ABB5-72D5CE7EF37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7BD4-3621-48DA-8993-CA6A19D3819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E428-103E-46A2-8898-E4B6CB0C0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4987-9D17-4F36-8A7A-B09532503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C26F-39C4-4B4F-97B9-AED7E83E7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996C7-7201-4A21-9822-82711A3CE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A34F-8897-4E14-87DD-9A196D04E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993CD-6DEA-4465-9EDF-C488022D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B4A91-939F-4BCC-B726-F53BD8CA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A703B-CAB2-4D2E-884D-22D21092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D8F63-BE33-41F7-9413-0941D52E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7A094-713F-4841-8AB3-FA7F55E9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4B82-4B62-4E7B-8E2A-57FAD682D4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B0BAE-3E88-4FC6-A26A-54E1C3F1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03F3E-6A30-4313-8C43-36654900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7953D-E87F-4AE4-86C7-73115826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3CA8C-D6BA-428C-B8D6-0CCAFB75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4F79F-1C00-43E5-8DCF-8C0A6656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BAC25-4865-4AAA-8AD5-F47D169E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3E772-1E69-4FB8-BDD3-88E0B20E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4E60-E76D-44D1-988B-D33E96EC6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3005-D490-4AC4-9F16-940E9BBD8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CBE9-626B-4CB1-9221-F2250F48E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EDBE-069B-47C7-BF7C-10A71A63E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B84A-4508-4F2A-9F97-D90E3C119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D874-BDC0-421B-BA2E-EAA1BB62E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08D3-BA84-4170-B173-1947B643F0A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Feedback als 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inde vlek, reflectie en feed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Reflecter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MCj03479130000[1]"/>
          <p:cNvPicPr/>
          <p:nvPr/>
        </p:nvPicPr>
        <p:blipFill>
          <a:blip r:embed="rId1"/>
          <a:stretch/>
        </p:blipFill>
        <p:spPr>
          <a:xfrm>
            <a:off x="1187280" y="1628640"/>
            <a:ext cx="118296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203640" y="1773360"/>
            <a:ext cx="5472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mogen om te leren van interactie, samenwerking en communicatie met and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erpunten omzetten in effectiever gedr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doorvragen, ingaan op reac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itisch zijn op jez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2700360" y="1268280"/>
            <a:ext cx="2735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ijn optreden naar buiten, mijn gedrag, mijn motivatie, wat anderen van mij zien en wat aan mezelf bekend 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651640" y="1268280"/>
            <a:ext cx="2881080" cy="15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anderen zien maar waar ik mezelf niet van bewust ben. Soms onderdrukte en onbewuste gewoo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( blinde vlek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627280" y="3789360"/>
            <a:ext cx="2881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ik zelf ken maar wat ik niet aan anderen laat zien, wat ik camoufle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50920" y="26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 tijdens de Proe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796000" y="393372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iet bekend bij jezelf en bij anderen. Speelt zich af in het onderbewus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203640" y="19162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rije ruim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6227640" y="1773360"/>
            <a:ext cx="1871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linde vle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Bad breath ar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320364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iv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é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588000" y="4437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0" y="4762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ahoma"/>
              </a:rPr>
              <a:t>http://nl.wikipedia.org/wiki/Johari-venst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187280" y="1413000"/>
            <a:ext cx="5256360" cy="31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443640" y="1413000"/>
            <a:ext cx="1800360" cy="20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e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5580000" y="3500280"/>
            <a:ext cx="2664000" cy="237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187280" y="4581360"/>
            <a:ext cx="43927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feedba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eruggeven hoe hij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bij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overkom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Beschrijf welk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ahoma"/>
              </a:rPr>
              <a:t>concreet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gedrag van de ander je hebt waargen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Welk effect zijn gedrag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p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e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voel geeft dat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drag roept dat op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tap maken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naar de a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Herken je het gedrag wat ik benoemd heb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Klopt dit volgens jo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at vind je erva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oe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volgens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t gewenste gedrag eruit moet z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“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jij moet”  / “ik wil graag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4" descr="MCj03342700000[1]"/>
          <p:cNvPicPr/>
          <p:nvPr/>
        </p:nvPicPr>
        <p:blipFill>
          <a:blip r:embed="rId1"/>
          <a:stretch/>
        </p:blipFill>
        <p:spPr>
          <a:xfrm>
            <a:off x="6372360" y="2852640"/>
            <a:ext cx="1685880" cy="1808280"/>
          </a:xfrm>
          <a:prstGeom prst="rect">
            <a:avLst/>
          </a:prstGeom>
          <a:ln w="0">
            <a:noFill/>
          </a:ln>
        </p:spPr>
      </p:pic>
      <p:sp>
        <p:nvSpPr>
          <p:cNvPr id="182" name="Line 5"/>
          <p:cNvSpPr/>
          <p:nvPr/>
        </p:nvSpPr>
        <p:spPr>
          <a:xfrm>
            <a:off x="1042920" y="5877000"/>
            <a:ext cx="151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6"/>
          <p:cNvSpPr/>
          <p:nvPr/>
        </p:nvSpPr>
        <p:spPr>
          <a:xfrm flipH="1">
            <a:off x="1258560" y="587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04-03T16:05:12Z</dcterms:modified>
  <cp:revision>314</cp:revision>
  <dc:subject/>
  <dc:title>Verbindend Leren</dc:title>
</cp:coreProperties>
</file>