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FE7-6CDB-4888-AB88-F11EDD44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DA1-124D-47C3-AFC7-4064A732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4FD-EC09-4207-9AE0-F84C11E6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745-71F1-4C3A-A073-6244009A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4BCB-7E84-47E6-8C96-0DBB094F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B3F8-9B83-4265-8042-09742D41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C91C-8AED-4B47-911B-CF7F7AC6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F11F-45F4-4C76-ACF5-80C30B6F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AA6E-EF0C-4B71-854E-D20C8CBA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F4FD-3DE6-487D-9A64-F5156460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AF2E-A0F0-4D49-957A-88E0A6F2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966-3090-4786-9216-B4B0BBBF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E8D7-745D-45BC-B386-12696F89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5F17-E2B7-4B07-84D8-E378A65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5BE4-4CC8-48E3-B887-5B23329B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DD33-6428-47CD-9525-50342D1D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3227-A89D-4316-86CF-124B1725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40E-3C72-40F1-8698-A3C39F42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DC3-8773-424A-B816-FF5C88B9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B1B-F5C0-4B27-B549-8C533A01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C5C-1C38-4DA0-9685-CE382B06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766-384E-41F6-9466-1A8DF7C4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72A-9D45-4361-B8B1-5D2E1C56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A9F-E1EE-4D33-A9FC-D143CD29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2125-B0AE-404A-81A2-A4D9892E1C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D8A9-4BC2-4F47-B28A-C6061FFAD1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marxists.org/glossary/people/k/pics/kant.jpg&amp;imgrefurl=http://www.marxists.org/glossary/people/k/a.htm&amp;usg=__Va0SAlQsbMhd9pwZSrzmdfBqc5E=&amp;h=356&amp;w=264&amp;sz=11&amp;hl=nl&amp;start=3&amp;um=1&amp;tbnid=SQ8rcw8wNlhaFM:&amp;tbnh=121&amp;tbnw=90&amp;prev=/images%3Fq%3DImmanuel%2BKant%26hl%3Dnl%26um%3D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Verdana"/>
              </a:rPr>
              <a:t>die Aufklärung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 Gesellschaft und die Literatur der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Gesellschaft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507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Reaktion auf den Mittelalter und die Renaiss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ie dunkle Zeit des Unwiss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iegeszug der modernen Naturwissenschaften (Empiris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tt kirchlicher Lehre -&gt; Vernunft (Rat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Einführung der allgemeinen Schulpf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Auffass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„Der Mensch ist in sich gut“ -&gt; Optim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r Mensch als Individuum und denkendes 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Toleranz: Religion &amp; Pädagog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Litera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Verdana"/>
              </a:rPr>
              <a:t>die Politik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Der Staat</a:t>
            </a:r>
            <a:r>
              <a:rPr b="0" lang="de-DE" sz="24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Absolut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utschland: eine Kleinstaate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ndesethik vs. Vernunfteth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Basis der Demokrat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z.B. Voltaire, Montesqu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französische Revolution (178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2521080" cy="242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92720" y="522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Friedrich II (Preuß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René Dec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“Cogito ergo sum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wissenschaftlich &amp; theologis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Immanuel Ka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der Mensch als selbstdenkendes Wes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Erziehung als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185904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57336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Zitate (K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be den Mut, dich deines eigenen Verstandes zu bedien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Aufklärung ist der Ausgang des Menschen aus seiner selbstverschuldeten Unmündigkeit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ndle so, dass die Maxime deines Willens jederzeit zugleich als Prinzip einer allgemeinen Gesetzgebung gelten kön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Themen</a:t>
            </a:r>
            <a:br>
              <a:rPr sz="2000"/>
            </a:b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olera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Human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ritik auf traditionelle Antwo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Vernunftsreligion vs. Offenbarungs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chdenken über den absolutistischen 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844640"/>
            <a:ext cx="41148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at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lehrhafte Kleinform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Fabel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Parab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Johann Christoph Gottsch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Ständeklau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lassische Regeln der Tragö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otthold Ephraim 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heaterst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than der Weise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‘die Ringparabel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Humanitä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Toleranz der Reli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081160" cy="23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940040" cy="249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Verdana"/>
              </a:rPr>
              <a:t>Ende der Präsent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54:38Z</dcterms:created>
  <dc:creator>Mondriaan</dc:creator>
  <dc:description/>
  <dc:language>en-US</dc:language>
  <cp:lastModifiedBy>Jos Gulpen</cp:lastModifiedBy>
  <dcterms:modified xsi:type="dcterms:W3CDTF">2011-12-07T10:01:31Z</dcterms:modified>
  <cp:revision>13</cp:revision>
  <dc:subject/>
  <dc:title>die Zeit der Aufklärung</dc:title>
</cp:coreProperties>
</file>