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928-3919-4D36-824E-DEC590F7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D48-8DD1-4387-9CED-D92FA589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FE4-727F-4684-8859-A846535D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779-4752-4E61-BF9E-B87AEE9A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A180-CBD0-4199-9865-0C56634D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F326-E6AB-4704-A11A-A6188A75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DC45-4B8E-48E8-9D7E-3EF0EB68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3453-5719-4E5F-A9DA-CF52B4E0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8638-2056-40A8-9488-B0D89B1F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8295-B887-4DDA-B856-C3CA19C2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9528-D913-4590-9554-84722A39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54C-1453-4234-B1E3-0F47526C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9061-7F9D-4E7A-85BF-C58DCDFA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C76E-AE02-4C60-AD0D-BA1CBEEA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B983-CF17-4B7E-9A94-2CB0263A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E19B-86E9-4150-AF06-D1821CA1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D809-2729-49A4-BBCD-F8E8E6FD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5DC-2846-468B-B168-5071C8A5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5FC-25C2-4A23-B4C0-7F51D84F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9D7-50F6-49F7-A4B2-AAF999AA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761-BBE3-4772-9FF6-8ED2289A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8CC-E05F-4700-B96A-66CD073C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DA7-E8B8-4361-9963-177C7A2C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8A49-6BDE-4053-AD6B-6115E9AE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631C-90DD-4EBC-A582-7FA4AD752EE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E852-3B8C-45B2-A2AB-C23805DF3C2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6633"/>
                </a:solidFill>
                <a:latin typeface="Garamond"/>
              </a:rPr>
              <a:t>Die Entwicklung der deutschen Sprach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400536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n der indoeuropäischen ‘Ursprache’ zur neuhochdeutschen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‘Ursprache’: Indoeuropäisc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 denkt, dass diese Sprachen auf Grund der Grammatik, des Wortschatzes und der Entwicklungen zu einer großen Sprachfamilie gehö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51280" y="278136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6633"/>
                </a:solidFill>
                <a:latin typeface="Arial"/>
              </a:rPr>
              <a:t>Indoeuropäis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4360" y="3573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iech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187280" y="42926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ta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435640" y="47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elt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635280" y="4076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altisch &amp; Slaw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227640" y="3933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rma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58800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usgestorbene Spr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2124000" y="3284280"/>
            <a:ext cx="2303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2195640" y="3357720"/>
            <a:ext cx="2520720" cy="10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4643280" y="3357720"/>
            <a:ext cx="14472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5219640" y="3357720"/>
            <a:ext cx="50472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 flipV="1">
            <a:off x="5508360" y="3357360"/>
            <a:ext cx="863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H="1" flipV="1">
            <a:off x="5651280" y="3213000"/>
            <a:ext cx="93636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vak 18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Indoeuropäische Erbwörter (Bsp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paar Beispiele von ‘Urwörter’ des Indoeuropäis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rman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niederlä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i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e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ngl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tal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latein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è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französ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oi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iech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eí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alti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aya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á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6877080" y="1989000"/>
            <a:ext cx="0" cy="3888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539640" y="3284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539640" y="4508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39640" y="544500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9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deutsche Sprach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thochdeutsch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 750-10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ittelhochdeutsch ( 1050-13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euhochdeutsch ( 1350-……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ühmittelalter 500-1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prägt von Kirche und B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ölkerwa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ligen und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rseburger Zaubersprü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ldebrands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ristliche Lit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ngelienharmon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ö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fbeelding 3" descr="Codex_Manesse_Walther_von_der_Vogelweide.jpg"/>
          <p:cNvPicPr/>
          <p:nvPr/>
        </p:nvPicPr>
        <p:blipFill>
          <a:blip r:embed="rId1"/>
          <a:stretch/>
        </p:blipFill>
        <p:spPr>
          <a:xfrm>
            <a:off x="5508720" y="1197000"/>
            <a:ext cx="3047760" cy="4241880"/>
          </a:xfrm>
          <a:prstGeom prst="rect">
            <a:avLst/>
          </a:prstGeom>
          <a:ln w="0">
            <a:noFill/>
          </a:ln>
        </p:spPr>
      </p:pic>
      <p:sp>
        <p:nvSpPr>
          <p:cNvPr id="117" name="Tekstvak 4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as Hildebrandlied (Ahd. 8. Jh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Lied aus der ältesten Periode der ‘deutschen’ Sprache (750-1050 n.Chr.)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71640" y="2565360"/>
            <a:ext cx="43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sagetun mi , usere liu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71640" y="3068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 erzählten mir, unsere Leu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71640" y="35002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te anti frote , dea erhina varun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71640" y="3933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alte und erfahrene, die vordem war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71640" y="4365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hiltibrant haetti min fater , ih heittu hadub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71640" y="4797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s mein Vater Hildebrand hieße, ich heiße Hadubran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71640" y="5300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n het ostar gihueit , floh het otachres n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971640" y="57340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In der Vorzeit ging er nach Osten, floh er vor Odoakers H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619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chmittelalter 1180 - 1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öfische Litera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lshaus der Staufe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iedrich I Barbar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ch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dene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tter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nes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euz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Afbeelding 4" descr="wolfram_von_eschenbach.jpg"/>
          <p:cNvPicPr/>
          <p:nvPr/>
        </p:nvPicPr>
        <p:blipFill>
          <a:blip r:embed="rId1"/>
          <a:stretch/>
        </p:blipFill>
        <p:spPr>
          <a:xfrm>
            <a:off x="5508720" y="1413000"/>
            <a:ext cx="2950920" cy="4251240"/>
          </a:xfrm>
          <a:prstGeom prst="rect">
            <a:avLst/>
          </a:prstGeom>
          <a:ln w="0">
            <a:noFill/>
          </a:ln>
        </p:spPr>
      </p:pic>
      <p:sp>
        <p:nvSpPr>
          <p:cNvPr id="132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90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ätmittelalter 1250 -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twicklung der Städ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t der Reichs- und Kurfür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fsteigendes Bürger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terarische F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wank (lustiger Einf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ent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tnachtspiel (Vorläufer des Dra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5" descr="Wolgemut_-_1493_-_tanz_der_gerippe.jpg"/>
          <p:cNvPicPr/>
          <p:nvPr/>
        </p:nvPicPr>
        <p:blipFill>
          <a:blip r:embed="rId1"/>
          <a:stretch/>
        </p:blipFill>
        <p:spPr>
          <a:xfrm>
            <a:off x="5580000" y="3357720"/>
            <a:ext cx="3095640" cy="2620800"/>
          </a:xfrm>
          <a:prstGeom prst="rect">
            <a:avLst/>
          </a:prstGeom>
          <a:ln w="0">
            <a:noFill/>
          </a:ln>
        </p:spPr>
      </p:pic>
      <p:pic>
        <p:nvPicPr>
          <p:cNvPr id="136" name="Afbeelding 6" descr="logoma.jpg"/>
          <p:cNvPicPr/>
          <p:nvPr/>
        </p:nvPicPr>
        <p:blipFill>
          <a:blip r:embed="rId2"/>
          <a:stretch/>
        </p:blipFill>
        <p:spPr>
          <a:xfrm>
            <a:off x="5076720" y="907920"/>
            <a:ext cx="2735280" cy="2230560"/>
          </a:xfrm>
          <a:prstGeom prst="rect">
            <a:avLst/>
          </a:prstGeom>
          <a:ln w="0">
            <a:noFill/>
          </a:ln>
        </p:spPr>
      </p:pic>
      <p:sp>
        <p:nvSpPr>
          <p:cNvPr id="137" name="Tekstvak 7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Nach dem Mittelalter 1500 - 1600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002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anismus: heliozentrische Bewegung, human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aissance: Wiedergeburt der antiken Kul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ormation: wichtig für Nhd. Spra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Bibelübersetz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tdeckung der Buchdruckkunst 14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martin-luther-540x304.jpg"/>
          <p:cNvPicPr/>
          <p:nvPr/>
        </p:nvPicPr>
        <p:blipFill>
          <a:blip r:embed="rId1"/>
          <a:stretch/>
        </p:blipFill>
        <p:spPr>
          <a:xfrm>
            <a:off x="2050920" y="3141720"/>
            <a:ext cx="4694400" cy="2641680"/>
          </a:xfrm>
          <a:prstGeom prst="rect">
            <a:avLst/>
          </a:prstGeom>
          <a:ln w="0">
            <a:noFill/>
          </a:ln>
        </p:spPr>
      </p:pic>
      <p:sp>
        <p:nvSpPr>
          <p:cNvPr id="141" name="Tekstvak 5"/>
          <p:cNvSpPr/>
          <p:nvPr/>
        </p:nvSpPr>
        <p:spPr>
          <a:xfrm>
            <a:off x="277164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tin Lu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kstvak 6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9:22:25Z</dcterms:created>
  <dc:creator>Jos Gulpen</dc:creator>
  <dc:description/>
  <dc:language>en-US</dc:language>
  <cp:lastModifiedBy>glp</cp:lastModifiedBy>
  <dcterms:modified xsi:type="dcterms:W3CDTF">2015-03-12T08:33:42Z</dcterms:modified>
  <cp:revision>15</cp:revision>
  <dc:subject/>
  <dc:title>Die Entwicklung der deutschen Sprache</dc:title>
</cp:coreProperties>
</file>