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33A6-C431-4F9A-A05F-851A6864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720-6462-44C2-B792-315C0FC6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9445-595D-4250-95F9-C8EB4DF6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54A-DFA1-4AA9-B7FB-A94E6AF5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6A31-7696-46C1-920D-2FB0F58E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14D3-9137-45F6-AC58-3F834B1C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4D1F-6B98-41B1-A38E-FD19012C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916D-A3C3-4A48-83DA-CD6BD2AA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6519-4F21-4E7D-9608-80EA997A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8173-26EF-4892-A451-20F31E81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72C1-EC2C-412C-A2C0-78B52385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81C-8EF1-4CF7-B84D-3F14201F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3470-41A2-415C-9348-EE9A603B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06BC-3E27-41ED-B180-4BB12044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98DA-F594-4265-9BC7-F5F2A463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5E04-73CC-48F9-8271-8701A527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4383-5E1F-4BA5-95D4-21A57145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663-276D-43C1-9F2A-0EA3B29F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B08-B72B-4259-88ED-E809CAB2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4A9-FBB6-49C4-9BE7-F94EF316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F39-90A5-423A-BA17-685E25C6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A0C-5892-4EEB-AEB1-619E0D3C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DA90-50C4-44C8-848B-7B94CF7F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D54-4635-40D0-80F2-3037312D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E4D7-5139-4CD6-9284-99213838CD8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96E2-8B04-47E0-A1D3-4F27694428D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67960"/>
            <a:ext cx="84978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b9efee"/>
                </a:solidFill>
                <a:latin typeface="Garamond"/>
              </a:rPr>
              <a:t>Literatur im ‘Dritten Reich’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Garamond"/>
              </a:rPr>
              <a:t>1933-194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Die Machtergreifu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NS ergreifen 1933 die Mac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‘Säuberung’ der deutschen 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ücherverbrennung Mai 193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lle Künstler Mitglied der Reichskulturkamme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überwacht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ins K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9efee"/>
                </a:solidFill>
                <a:latin typeface="Garamond"/>
              </a:rPr>
              <a:t>Die Literatur in der NS-Zeit: 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Exil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derstandsliteratu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nnere Emigration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öffentlichte Widerstands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lut und Boden-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Exil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iele Autoren flohen aus Deutschl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u.a. Bertolt Brecht, Thomas Mann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m Exil den Fascismus bekämpf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Widerstandsliteratur:</a:t>
            </a:r>
            <a:br>
              <a:rPr sz="4400"/>
            </a:b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innere Emigration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pposition / Widerstand in Deutsch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-politische Them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Menschlichkeit, Verbundenheit -&gt; N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Ernst Wiechert und Werner Bergengrue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öffentliche Widerstandsliteratur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öffentlicher Widerstand gegen den Fascis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liche Veröffentlichung ihrer Wer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Jan Petersen und Wolfgang Langho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Blut und Boden- 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atdicht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bneigung gegen die Großstadt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chwärmen für das Deutsche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dealisierter und romantisierter Rassismus (Ariër,   Germanen)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Antisemitismus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Heldentum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Kameradsch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rache der NS-Autoren: geschwollen (Pathos), emotional, theat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12:00Z</dcterms:created>
  <dc:creator>Jos Gulpen</dc:creator>
  <dc:description/>
  <dc:language>en-US</dc:language>
  <cp:lastModifiedBy>glp</cp:lastModifiedBy>
  <dcterms:modified xsi:type="dcterms:W3CDTF">2011-03-01T10:59:08Z</dcterms:modified>
  <cp:revision>14</cp:revision>
  <dc:subject/>
  <dc:title>Literatuur tijdens het Derde Rijk </dc:title>
</cp:coreProperties>
</file>