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02A-5654-4A6C-9A99-5A5142A5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A11-480D-446A-BCD3-98326A28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6A4-92C7-49EC-ABBE-47A7AFDD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CA9-502B-49AD-80C3-7C421198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446E-C338-465B-85A4-3C7D0AFA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8633-3479-420D-85A0-CF0F0978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F1DA-3C00-443A-BB02-0CEBA369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EE3F-38CC-481E-8C40-E382E624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5EB5-9194-4173-837F-A2E0999F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EEC3-2BF0-49AA-B9AC-E7436E7C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DCFF-EDE5-4078-B52C-14442B63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9086-654D-4E72-90E1-D5C7BA2B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3674-DE35-45FD-9575-53E701F6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6B92-8238-4BC0-A20D-8AB9F517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AF8E-CF89-4547-A8B8-6BBC2346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E400-283F-43AB-8690-DD68C30A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5C9E-F225-4F35-BF78-013C806F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7801-DE48-4F02-8739-82613EFD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8155-7921-45B4-AF1E-99ACA8B0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CF3-7D38-41D5-B7DE-2FFF08D6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C6F-D920-4118-9E5F-8888939C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AA0B-854C-4080-8EBC-59B383C9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C194-668F-449A-81BB-3190716F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59E8-C05D-40F2-B8F9-35AC3895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36E9-E9C4-4173-BE86-844E68073E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80AB-1429-4034-B50C-7B7369F604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://www.marxists.org/glossary/people/k/pics/kant.jpg&amp;imgrefurl=http://www.marxists.org/glossary/people/k/a.htm&amp;usg=__Va0SAlQsbMhd9pwZSrzmdfBqc5E=&amp;h=356&amp;w=264&amp;sz=11&amp;hl=nl&amp;start=3&amp;um=1&amp;tbnid=SQ8rcw8wNlhaFM:&amp;tbnh=121&amp;tbnw=90&amp;prev=/images%3Fq%3DImmanuel%2BKant%26hl%3Dnl%26um%3D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Verdana"/>
              </a:rPr>
              <a:t>die Aufklärung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769608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 Gesellschaft und die Literatur der Aufklä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m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. Jahrhund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09564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Gesellschaft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507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Reaktion auf den Mittelalter und die Renaiss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ie dunkle Zeit des Unwisse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iegeszug der modernen Naturwissenschaften (Empirism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tatt kirchlicher Lehre -&gt; Vernunft (Rati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Einführung der allgemeinen Schulpfl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Auffass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„Der Mensch ist in sich gut“ -&gt; Optimis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er Mensch als Individuum und denkendes 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Toleranz: Religion &amp; Pädagogi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idaktische Litera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Verdana"/>
              </a:rPr>
              <a:t>die Politik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Der Staat</a:t>
            </a:r>
            <a:r>
              <a:rPr b="0" lang="de-DE" sz="2400" spc="-1" strike="noStrike">
                <a:solidFill>
                  <a:srgbClr val="66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Absolutis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eutschland: eine Kleinstaate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tandesethik vs. Vernunfteth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Basis der Demokrat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z.B. Voltaire, Montesqui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französische Revolution (178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580000" y="2708280"/>
            <a:ext cx="2521080" cy="2421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92720" y="522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Friedrich II (Preuß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Philosophie                           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660000"/>
                </a:solidFill>
                <a:latin typeface="Verdana"/>
              </a:rPr>
              <a:t>René Dec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“Cogito ergo sum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wissenschaftlich &amp; theologisc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660000"/>
                </a:solidFill>
                <a:latin typeface="Verdana"/>
              </a:rPr>
              <a:t>Immanuel Ka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der Mensch als selbstdenkendes Wes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Erziehung als Bas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1859040" cy="230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3573360"/>
            <a:ext cx="1873080" cy="2303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Philosophie                          I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Zitate (K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Habe den Mut, dich deines eigenen Verstandes zu bediene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Aufklärung ist der Ausgang des Menschen aus seiner selbstverschuldeten Unmündigkeit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Handle so, dass die Maxime deines Willens jederzeit zugleich als Prinzip einer allgemeinen Gesetzgebung gelten könne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Literatur                               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Themen</a:t>
            </a:r>
            <a:br>
              <a:rPr sz="2000"/>
            </a:b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Tolera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Humanit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Kritik auf traditionelle Antwo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Vernunftsreligion vs. Offenbarungs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Nachdenken über den absolutistischen Sta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844640"/>
            <a:ext cx="41148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Gat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idaktische D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lehrhafte Kleinform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Fabel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Parab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Literatur                              I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Johann Christoph Gottsch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Ständeklau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klassische Regeln der Tragö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Gotthold Ephraim L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Theaterstüc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Nathan der Weise 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‘die Ringparabel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Humanitä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Toleranz der Relig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2081160" cy="237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04000" y="1413000"/>
            <a:ext cx="1940040" cy="2493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Verdana"/>
              </a:rPr>
              <a:t>Ende der Präsentatio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87640" y="2997360"/>
            <a:ext cx="3095640" cy="2592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2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9:54:38Z</dcterms:created>
  <dc:creator>Mondriaan</dc:creator>
  <dc:description/>
  <dc:language>en-US</dc:language>
  <cp:lastModifiedBy>Jos Gulpen</cp:lastModifiedBy>
  <dcterms:modified xsi:type="dcterms:W3CDTF">2011-12-07T10:01:31Z</dcterms:modified>
  <cp:revision>13</cp:revision>
  <dc:subject/>
  <dc:title>die Zeit der Aufklärung</dc:title>
</cp:coreProperties>
</file>