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507D-9ED8-4E0A-88A0-D2AA500B3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4563-05E9-458A-A005-09700AED4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018F-1A23-47A5-9112-F65505BE9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D124-7748-4BA7-82D4-9A83A1D4D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5E5DA-2407-4514-B2B9-84F52B09B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C9CA6-54CF-4174-87BF-2017B6F6B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E095B-8817-423C-A4D9-5E28EBB53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18D06-BAAD-4258-BBA9-233DA1915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47231-B151-4587-A917-47E05DFFC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39951-0527-4590-A7FA-32A1D8546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DA84E-F299-4642-AA6E-01DE13BC7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D086-F2E6-467B-A6AC-F290065E7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567DF-6EC5-4410-BF9B-7924540D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86BAA-F630-4E8C-93DC-D52FADA0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97950-0B2C-4F5C-A22E-6882C27AC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0512C-6508-4602-8B04-8BF12B380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F46BC-F2A9-4904-AD3C-A9A7D151D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C739-245A-44F9-AA44-1C330DEE3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C657-56B8-4D86-8D06-48B45BA2C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40ED-A4B0-4234-8688-B13F8F2E1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5405-BC87-4A48-A233-1BF9C4454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9F35-3403-451D-8C52-11313CCF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14E7-BA55-42B4-9185-27D38D08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2984-5CD9-4FF8-95DB-2ACA13A0F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2BFF8-3F19-4C2A-B0A0-2CAEB2D9897E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22B00-3D1F-49E5-B2FE-31D035E10D07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280" y="1341000"/>
            <a:ext cx="7623000" cy="8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cc0000"/>
                </a:solidFill>
                <a:latin typeface="Verdana"/>
              </a:rPr>
              <a:t>Sturm und Drang</a:t>
            </a:r>
            <a:endParaRPr b="0" lang="en-US" sz="36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31640" y="2276640"/>
            <a:ext cx="655308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1770-178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684360" y="6381720"/>
            <a:ext cx="799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Verdana"/>
              </a:rPr>
              <a:t>Deutsch Oberstufe – Literaturgeschichte Sturm und Drang – JG.24.01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611280" y="0"/>
            <a:ext cx="8532720" cy="404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goethe000"/>
          <p:cNvPicPr/>
          <p:nvPr/>
        </p:nvPicPr>
        <p:blipFill>
          <a:blip r:embed="rId1"/>
          <a:stretch/>
        </p:blipFill>
        <p:spPr>
          <a:xfrm>
            <a:off x="250920" y="2276640"/>
            <a:ext cx="2233440" cy="273672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7"/>
          <p:cNvSpPr/>
          <p:nvPr/>
        </p:nvSpPr>
        <p:spPr>
          <a:xfrm>
            <a:off x="2700360" y="404640"/>
            <a:ext cx="6443640" cy="144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werther"/>
          <p:cNvPicPr/>
          <p:nvPr/>
        </p:nvPicPr>
        <p:blipFill>
          <a:blip r:embed="rId2"/>
          <a:stretch/>
        </p:blipFill>
        <p:spPr>
          <a:xfrm>
            <a:off x="6156360" y="2349360"/>
            <a:ext cx="2771640" cy="2192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Erlkoenig_Bruening_SAB_54__440x286_"/>
          <p:cNvPicPr/>
          <p:nvPr/>
        </p:nvPicPr>
        <p:blipFill>
          <a:blip r:embed="rId3"/>
          <a:stretch/>
        </p:blipFill>
        <p:spPr>
          <a:xfrm>
            <a:off x="2916360" y="4005360"/>
            <a:ext cx="28796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cc0000"/>
                </a:solidFill>
                <a:latin typeface="Verdana"/>
              </a:rPr>
              <a:t>Entstehung</a:t>
            </a:r>
            <a:endParaRPr b="0" lang="en-US" sz="28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Reaktion auf die Aufklä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edeutung des Gefüh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as Gefühl ist wertvoller als die Vernunft’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‘Retour à la nature’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Rousseau (Fra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395280" y="0"/>
            <a:ext cx="8748720" cy="404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2268360" y="404640"/>
            <a:ext cx="6875640" cy="144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684360" y="6381720"/>
            <a:ext cx="799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Verdana"/>
              </a:rPr>
              <a:t>Deutsch Oberstufe – Literaturgeschichte Sturm und Drang – JG.24.01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rousseau"/>
          <p:cNvPicPr/>
          <p:nvPr/>
        </p:nvPicPr>
        <p:blipFill>
          <a:blip r:embed="rId1"/>
          <a:stretch/>
        </p:blipFill>
        <p:spPr>
          <a:xfrm>
            <a:off x="6227640" y="1268280"/>
            <a:ext cx="18525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cc0000"/>
                </a:solidFill>
                <a:latin typeface="Verdana"/>
              </a:rPr>
              <a:t>Themen des Sturm und Drang</a:t>
            </a:r>
            <a:endParaRPr b="0" lang="en-US" sz="28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920" y="2491920"/>
            <a:ext cx="4114800" cy="356724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 u="sng">
                <a:solidFill>
                  <a:srgbClr val="000000"/>
                </a:solidFill>
                <a:uFillTx/>
                <a:latin typeface="Verdana"/>
              </a:rPr>
              <a:t>Freiheitsdra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- Gesellschaft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- Politi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- Dichtung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- Lieb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 u="sng">
                <a:solidFill>
                  <a:srgbClr val="000000"/>
                </a:solidFill>
                <a:uFillTx/>
                <a:latin typeface="Verdana"/>
              </a:rPr>
              <a:t>Nat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 u="sng">
                <a:solidFill>
                  <a:srgbClr val="000000"/>
                </a:solidFill>
                <a:uFillTx/>
                <a:latin typeface="Verdana"/>
              </a:rPr>
              <a:t>Geni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 u="sng">
                <a:solidFill>
                  <a:srgbClr val="000000"/>
                </a:solidFill>
                <a:uFillTx/>
                <a:latin typeface="Verdana"/>
              </a:rPr>
              <a:t>großer Kerl, Machtwei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395280" y="0"/>
            <a:ext cx="8748720" cy="404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2268360" y="404640"/>
            <a:ext cx="6875640" cy="144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684360" y="6381720"/>
            <a:ext cx="799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Verdana"/>
              </a:rPr>
              <a:t>Deutsch Oberstufe – Literaturgeschichte Sturm und Drang – JG.24.01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4716360" y="2492280"/>
            <a:ext cx="4114800" cy="356724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 u="sng">
                <a:solidFill>
                  <a:srgbClr val="000000"/>
                </a:solidFill>
                <a:uFillTx/>
                <a:latin typeface="Verdana"/>
              </a:rPr>
              <a:t>Kultur &amp; Tra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- Kirch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- Mo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- Staat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- Tyrann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539640" y="13413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P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9"/>
          <p:cNvSpPr/>
          <p:nvPr/>
        </p:nvSpPr>
        <p:spPr>
          <a:xfrm>
            <a:off x="1619280" y="1773360"/>
            <a:ext cx="0" cy="576000"/>
          </a:xfrm>
          <a:prstGeom prst="line">
            <a:avLst/>
          </a:prstGeom>
          <a:ln w="50760">
            <a:solidFill>
              <a:srgbClr val="cc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5508720" y="1413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Kon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1"/>
          <p:cNvSpPr/>
          <p:nvPr/>
        </p:nvSpPr>
        <p:spPr>
          <a:xfrm>
            <a:off x="6659640" y="1844640"/>
            <a:ext cx="0" cy="576360"/>
          </a:xfrm>
          <a:prstGeom prst="line">
            <a:avLst/>
          </a:prstGeom>
          <a:ln w="50760">
            <a:solidFill>
              <a:srgbClr val="cc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cc0000"/>
                </a:solidFill>
                <a:latin typeface="Verdana"/>
              </a:rPr>
              <a:t>Beispiele Sturm und Drang Werke I</a:t>
            </a:r>
            <a:endParaRPr b="0" lang="en-US" sz="28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555480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Johann Wolfgang von Goeth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- Die Leiden des jungen Wer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Johann Gottfried Herde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- Stimmen der Völker in Lieder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Friedrich von Schiller: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-Die Räub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95280" y="0"/>
            <a:ext cx="8748720" cy="404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2268360" y="404640"/>
            <a:ext cx="6875640" cy="144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684360" y="6381720"/>
            <a:ext cx="799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Verdana"/>
              </a:rPr>
              <a:t>Deutsch Oberstufe – Literaturgeschichte Sturm und Drang – JG.24.01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7"/>
          <p:cNvSpPr/>
          <p:nvPr/>
        </p:nvSpPr>
        <p:spPr>
          <a:xfrm>
            <a:off x="2700360" y="5013360"/>
            <a:ext cx="1008000" cy="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8"/>
          <p:cNvSpPr/>
          <p:nvPr/>
        </p:nvSpPr>
        <p:spPr>
          <a:xfrm>
            <a:off x="5435640" y="1844640"/>
            <a:ext cx="1366920" cy="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1" descr="Schiller1"/>
          <p:cNvPicPr/>
          <p:nvPr/>
        </p:nvPicPr>
        <p:blipFill>
          <a:blip r:embed="rId1"/>
          <a:stretch/>
        </p:blipFill>
        <p:spPr>
          <a:xfrm>
            <a:off x="4067280" y="4076640"/>
            <a:ext cx="1744560" cy="20192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3" descr="goethe000"/>
          <p:cNvPicPr/>
          <p:nvPr/>
        </p:nvPicPr>
        <p:blipFill>
          <a:blip r:embed="rId2"/>
          <a:stretch/>
        </p:blipFill>
        <p:spPr>
          <a:xfrm>
            <a:off x="7500960" y="765000"/>
            <a:ext cx="1643040" cy="20131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5" descr="Rauber"/>
          <p:cNvPicPr/>
          <p:nvPr/>
        </p:nvPicPr>
        <p:blipFill>
          <a:blip r:embed="rId3"/>
          <a:stretch/>
        </p:blipFill>
        <p:spPr>
          <a:xfrm>
            <a:off x="6156360" y="2852640"/>
            <a:ext cx="25909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cc0000"/>
                </a:solidFill>
                <a:latin typeface="Verdana"/>
              </a:rPr>
              <a:t>Beispiele Sturm und Drang Werke II</a:t>
            </a:r>
            <a:endParaRPr b="0" lang="en-US" sz="28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367200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Johann Wolfgang von Goethe: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(Gedicht) Mail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395280" y="0"/>
            <a:ext cx="8748720" cy="404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2268360" y="404640"/>
            <a:ext cx="6875640" cy="144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684360" y="6381720"/>
            <a:ext cx="799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Verdana"/>
              </a:rPr>
              <a:t>Deutsch Oberstufe – Literaturgeschichte Sturm und Drang – JG.24.01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8"/>
          <p:cNvSpPr/>
          <p:nvPr/>
        </p:nvSpPr>
        <p:spPr>
          <a:xfrm>
            <a:off x="3708360" y="4797360"/>
            <a:ext cx="1008000" cy="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9"/>
          <p:cNvSpPr/>
          <p:nvPr/>
        </p:nvSpPr>
        <p:spPr>
          <a:xfrm>
            <a:off x="3780000" y="2133720"/>
            <a:ext cx="1008000" cy="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2" descr="goethe_brion_300"/>
          <p:cNvPicPr/>
          <p:nvPr/>
        </p:nvPicPr>
        <p:blipFill>
          <a:blip r:embed="rId1"/>
          <a:stretch/>
        </p:blipFill>
        <p:spPr>
          <a:xfrm>
            <a:off x="5219640" y="1125360"/>
            <a:ext cx="2454480" cy="2735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3" descr="Erlkoenig_Schwind_Ackermann_2175b__440x295_"/>
          <p:cNvPicPr/>
          <p:nvPr/>
        </p:nvPicPr>
        <p:blipFill>
          <a:blip r:embed="rId2"/>
          <a:stretch/>
        </p:blipFill>
        <p:spPr>
          <a:xfrm>
            <a:off x="5076720" y="3813120"/>
            <a:ext cx="3672000" cy="245916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15"/>
          <p:cNvSpPr/>
          <p:nvPr/>
        </p:nvSpPr>
        <p:spPr>
          <a:xfrm>
            <a:off x="250920" y="4221000"/>
            <a:ext cx="367164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Johann Wolfgang von Goethe: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(Ballade) Erlkön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cc0000"/>
                </a:solidFill>
                <a:latin typeface="Verdana"/>
              </a:rPr>
              <a:t>Johann Wolfgang von Goethe - Mailied</a:t>
            </a:r>
            <a:endParaRPr b="0" lang="en-US" sz="28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302436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Wie herrlich leuchte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Mir die Natur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Wie glänzt die Sonn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Wie lacht die Flur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Es dringen Blü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Aus jedem Zweig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Und tausend Stim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Aus dem Gesträuch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Und Freud’ und Won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Aus jeder Bru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O Erd’, o Sonn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O Glück, o Lus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O Lieb’, o Lie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So golden schön,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395280" y="0"/>
            <a:ext cx="8748720" cy="404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2268360" y="404640"/>
            <a:ext cx="6875640" cy="144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684360" y="6381720"/>
            <a:ext cx="799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Verdana"/>
              </a:rPr>
              <a:t>Deutsch Oberstufe – Literaturgeschichte Sturm und Drang – JG.24.01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2843280" y="1341360"/>
            <a:ext cx="302400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Wie Morgenwol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Auf jenen Höh’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Du segnest herrl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Das frische Feld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Im Blütendampf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Die volle We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O Mädchen, Mäd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Wie lieb ich dich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Wie blinkt dein Aug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Wie liebst du mich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5435640" y="1413000"/>
            <a:ext cx="302400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So liebt die Lerc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Gesang und Luf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Und Morgenblu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Den Himmelsduf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Wie ich dich lie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Mit warmem Blu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Die du mit Jug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Und Freud’ und M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Zu neuen Liede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Und Tänzen gibs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Sei ewig glücklich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Wie du mich lieb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3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cc0000"/>
                </a:solidFill>
                <a:latin typeface="Verdana"/>
              </a:rPr>
              <a:t>Johann Wolfgang von Goethe – Erlkönig</a:t>
            </a:r>
            <a:endParaRPr b="0" lang="en-US" sz="28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464328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Wer reitet so spät durch Nacht und Wind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Es ist der Vater mit seinem Kind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Er hat den Knaben wohl in dem Arm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Er faßt ihn sicher, er hält ihn warm. 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"Mein Sohn, was birgst du so bang dei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Gesicht?"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"Siehst, Vater, du den Erlkönig nicht?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Den Erlenkönig mit Kron und Schweif?"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"Mein Sohn, es ist ein Nebelstreif." 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"Du liebes Kind, komm geh mit mir!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Gar schöne Spiele spiel ich mit dir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Manch bunte Blumen sind an dem Strand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Meine Mutter hat manch gülden Gewand." 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"Mein Vater, mein Vater, hörst du es nicht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Was Erlenkönig mir leise verspricht?"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"Sei ruhig, bleibe ruhig, mein Kind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In dürren Blättern säuselt der Wind."</a:t>
            </a: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395280" y="0"/>
            <a:ext cx="8748720" cy="404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2268360" y="404640"/>
            <a:ext cx="6875640" cy="144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684360" y="6381720"/>
            <a:ext cx="799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Verdana"/>
              </a:rPr>
              <a:t>Deutsch Oberstufe – Literaturgeschichte Sturm und Drang – JG.24.01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4211640" y="1341360"/>
            <a:ext cx="493236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"Willst, feiner Knabe, du mit mir gehn?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Meine Töchter sollen dich warten schön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Meine Töchter führen den nächtlichen Reih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Und wiegen und tanzen und singen dich ein." 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"Mein Vater, mein Vater, und siehst du nicht dort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Erlkönigs Töchter am düsteren Ort?"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"Mein Sohn, mein Sohn, ich seh es genau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Es scheinen die alten Weiden so grau."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"Ich liebe dich, mich reizt deine schön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Gestalt; Und bist du nicht willig, so brauch ic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Gewalt."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"Mein Vater, mein Vater, jetzt faßt er mich an!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Erlkönig hat mir ein Leids getan!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Dem Vater grauset's, er reitet geschwind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Er hält in den Armen das ächzende Kind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Erreicht den Hof mit Müh und Not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In seinen Armen das Kind war tot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20:01:20Z</dcterms:created>
  <dc:creator>Jos Gulpen</dc:creator>
  <dc:description/>
  <dc:language>en-US</dc:language>
  <cp:lastModifiedBy>JosGulpen</cp:lastModifiedBy>
  <dcterms:modified xsi:type="dcterms:W3CDTF">2013-06-09T11:40:22Z</dcterms:modified>
  <cp:revision>6</cp:revision>
  <dc:subject/>
  <dc:title>Sturm und Drang</dc:title>
</cp:coreProperties>
</file>