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41A-56C4-451E-BC3E-DCEFBAA6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3AE-4028-4DA4-89F1-CE9A7B82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DF4-737C-4B30-9FC2-7083CC02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634-E5FA-4645-ADDF-47D5E5E2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C7C6-BAE5-4C00-95CE-21269690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06D6-1B5D-43BB-BE59-927B1818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8D2E-A15E-46FB-B8AB-B5912763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81C8-CED2-4C05-BA62-5A53FD07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C37F-9196-4233-9913-953E3FD4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479C-453B-4AA1-975E-C46BC724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DCB9-CFD5-4580-B7A2-3AD94D2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CBA-CB64-47A8-86AF-EFAF91B5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6CF9-D791-4F68-ACF9-C197CB15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6B17-80D0-496F-A8DD-8E64A79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55BF-603E-480C-88C8-71E7C95C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A5B7-1B98-4672-A4FE-3FB55D79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7BB0-194F-4803-ADF5-D25973BB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351-A46E-4D03-8A4B-E3FF1FF9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037-8089-4637-BEA0-0B6C4FFF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0BE-E373-4D10-8732-179F59AF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689-24BB-4FDA-9473-050FAEAB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08E-3CED-42AB-BD0B-4E13E3F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835-D2DE-48B2-A850-81095F79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5D2-2412-44A8-A92D-352C63CA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09C0-539E-44E2-9560-A5CF8D03F05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9469-C61E-4BE8-AC4D-F85F759FDD4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67960"/>
            <a:ext cx="84978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b9efee"/>
                </a:solidFill>
                <a:latin typeface="Garamond"/>
              </a:rPr>
              <a:t>Literatur im ‘Dritten Reich’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1933-194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Die Machtergreif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NS ergreifen 1933 die M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‘Säuberung’ der deutschen 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ücherverbrennung Mai 193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le Künstler Mitglied der Reichskulturkamme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überwacht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ins K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9efee"/>
                </a:solidFill>
                <a:latin typeface="Garamond"/>
              </a:rPr>
              <a:t>Die Literatur in der NS-Zeit: 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il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derstandsliteratu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nnere Emigration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öffentlichte Widerstands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lut und Boden-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Exil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iele Autoren flohen aus Deutschl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.a. Bertolt Brecht, Thomas Mann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m Exil den Fascismus bekämpf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Widerstandsliteratur:</a:t>
            </a:r>
            <a:br>
              <a:rPr sz="4400"/>
            </a:b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innere Emigr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ition / Widerstand in Deutsch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-politische The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Menschlichkeit, Verbundenheit -&gt; N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Ernst Wiechert und Werner Bergengru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öffentliche Widerstandsliteratu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öffentlicher Widerstand gegen den Fasc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liche Veröffentlichung ihrer Wer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Jan Petersen und Wolfgang Langh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Blut und Boden- 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atdicht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neigung gegen die Großstadt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wärmen für das Deutsche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dealisierter und romantisierter Rassismus (Ariër,   Germanen)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Antisemitismu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Heldentum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Kameradsch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rache der NS-Autoren: geschwollen (Pathos), emotional, theat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12:00Z</dcterms:created>
  <dc:creator>Jos Gulpen</dc:creator>
  <dc:description/>
  <dc:language>en-US</dc:language>
  <cp:lastModifiedBy>glp</cp:lastModifiedBy>
  <dcterms:modified xsi:type="dcterms:W3CDTF">2011-03-01T10:59:08Z</dcterms:modified>
  <cp:revision>14</cp:revision>
  <dc:subject/>
  <dc:title>Literatuur tijdens het Derde Rijk </dc:title>
</cp:coreProperties>
</file>