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D078E-1FA7-4853-8921-79A9707FE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BA3C2-22AF-491F-A5F1-A72CA4A2B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B3FEF-B1E4-4CE0-B450-F0305EA81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77C73-2B77-460A-BA84-BDB71C8AC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716BC-FF24-4F1C-8325-2356BC9DD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B5891-BDDA-4D28-B004-E67B8A923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F4E07-71FA-481A-90F9-2C79E3BC4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47935-D9FD-4061-A418-05A4ABFC1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9E9D6-8B61-49AB-852B-C40F0AC36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80059-B3DD-4608-A83E-F57C94B59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79076-EBBF-4938-9BD1-0D14D6A66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F78F5-A45F-4AEE-8A06-976957311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C6796-4533-4DAE-9697-64B1CB4D6115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deutschegeschichten.tv/popup/set.asp?OzIID=6880&amp;ObjKatID=101&amp;ThemaKatID=1004&amp;Qlt=DSL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4000" y="549000"/>
            <a:ext cx="86421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rümmer- &amp; Nachkriegsliteratur</a:t>
            </a:r>
            <a:br>
              <a:rPr sz="4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1945 - 194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zerstoertes_dresden1"/>
          <p:cNvPicPr/>
          <p:nvPr/>
        </p:nvPicPr>
        <p:blipFill>
          <a:blip r:embed="rId1"/>
          <a:stretch/>
        </p:blipFill>
        <p:spPr>
          <a:xfrm>
            <a:off x="1258920" y="1916280"/>
            <a:ext cx="6624720" cy="4398840"/>
          </a:xfrm>
          <a:prstGeom prst="rect">
            <a:avLst/>
          </a:prstGeom>
          <a:ln w="0">
            <a:noFill/>
          </a:ln>
        </p:spPr>
      </p:pic>
      <p:sp>
        <p:nvSpPr>
          <p:cNvPr id="43" name="Text Box 5"/>
          <p:cNvSpPr/>
          <p:nvPr/>
        </p:nvSpPr>
        <p:spPr>
          <a:xfrm>
            <a:off x="395280" y="6381720"/>
            <a:ext cx="842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Literaturgeschichte Oberstufe - Trümmer- &amp; Nachkriegsliteratur – JG.27.11.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Deutschland 1945- Stunde Nu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240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Kriegszerstör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- Städte zerbomb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- keine Industrie &amp; Versorgungseinrichtung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- Mangel an Lebensmittel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- Flüchtlinge der Ostgebie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- Rückkehr der Kriegsgefangen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Ende als Anfa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- Neuaufbau: Trümmerfrau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truemmerfrauen_berli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867280" y="2852640"/>
            <a:ext cx="3073680" cy="3380040"/>
          </a:xfrm>
          <a:prstGeom prst="rect">
            <a:avLst/>
          </a:prstGeom>
          <a:ln w="0">
            <a:noFill/>
          </a:ln>
        </p:spPr>
      </p:pic>
      <p:sp>
        <p:nvSpPr>
          <p:cNvPr id="47" name="Text Box 5"/>
          <p:cNvSpPr/>
          <p:nvPr/>
        </p:nvSpPr>
        <p:spPr>
          <a:xfrm>
            <a:off x="395280" y="6381720"/>
            <a:ext cx="842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Literaturgeschichte Oberstufe - Trümmer- &amp; Nachkriegsliteratur – JG.27.11.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0560" y="274680"/>
            <a:ext cx="87138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Entstehung der Nachkriegsliteratur  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197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600" spc="-1" strike="noStrike" u="sng">
                <a:solidFill>
                  <a:srgbClr val="000000"/>
                </a:solidFill>
                <a:uFillTx/>
                <a:latin typeface="Arial"/>
              </a:rPr>
              <a:t>Proble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- völlig fremd mit der Weltliteratu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- Exilwerke wurden bekan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- Umgang mit der NS-Geschich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395280" y="3716280"/>
            <a:ext cx="7561440" cy="145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nl-NL" sz="2600" spc="-1" strike="noStrike" u="sng">
                <a:solidFill>
                  <a:srgbClr val="000000"/>
                </a:solidFill>
                <a:uFillTx/>
                <a:latin typeface="Arial"/>
              </a:rPr>
              <a:t>Neue Strömung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- Trümmerliteratur (bis 1947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- Gruppe 47 (ab 1947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395280" y="6381720"/>
            <a:ext cx="842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Literaturgeschichte Oberstufe - Trümmer- &amp; Nachkriegsliteratur – JG.27.11.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0560" y="274680"/>
            <a:ext cx="843588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Entstehung der Nachkriegsliteratur I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781000"/>
            <a:ext cx="4038480" cy="33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Ziel: das Berichten von der Zerstöru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Warnu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rückblick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48000" y="2781000"/>
            <a:ext cx="3538440" cy="33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Ziel: Neuanfa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Aufklärung und Erziehung zur Demokrati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Blick in die Zukunf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7"/>
          <p:cNvSpPr/>
          <p:nvPr/>
        </p:nvSpPr>
        <p:spPr>
          <a:xfrm>
            <a:off x="395280" y="1916280"/>
            <a:ext cx="3456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600" spc="-1" strike="noStrike" u="sng">
                <a:solidFill>
                  <a:srgbClr val="000000"/>
                </a:solidFill>
                <a:uFillTx/>
                <a:latin typeface="Arial"/>
              </a:rPr>
              <a:t>Trümmerliteratu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8"/>
          <p:cNvSpPr/>
          <p:nvPr/>
        </p:nvSpPr>
        <p:spPr>
          <a:xfrm>
            <a:off x="4572000" y="1989000"/>
            <a:ext cx="3456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600" spc="-1" strike="noStrike" u="sng">
                <a:solidFill>
                  <a:srgbClr val="000000"/>
                </a:solidFill>
                <a:uFillTx/>
                <a:latin typeface="Arial"/>
              </a:rPr>
              <a:t>Gruppe 47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9"/>
          <p:cNvSpPr/>
          <p:nvPr/>
        </p:nvSpPr>
        <p:spPr>
          <a:xfrm>
            <a:off x="395280" y="6381720"/>
            <a:ext cx="842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Literaturgeschichte Oberstufe - Trümmer- &amp; Nachkriegsliteratur – JG.27.11.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Trümmerliteratu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79280" y="1196640"/>
            <a:ext cx="85075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 u="sng">
                <a:solidFill>
                  <a:srgbClr val="000000"/>
                </a:solidFill>
                <a:uFillTx/>
                <a:latin typeface="Arial"/>
              </a:rPr>
              <a:t>Beispiele von Schriftsteller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- Wolfgang Borche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u.a.: Draußen vor der Tü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ie Hundeblu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Nachts schlafen die Ratten doc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- Heinrich Bö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u.a.: Der Zug war pünktlic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anderer kommst du nach Spa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as Brot der frühen Jahr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Haus ohne Hü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borchert"/>
          <p:cNvPicPr/>
          <p:nvPr/>
        </p:nvPicPr>
        <p:blipFill>
          <a:blip r:embed="rId2"/>
          <a:stretch/>
        </p:blipFill>
        <p:spPr>
          <a:xfrm>
            <a:off x="6804000" y="1557360"/>
            <a:ext cx="1652760" cy="20988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5" descr="hboll"/>
          <p:cNvPicPr/>
          <p:nvPr/>
        </p:nvPicPr>
        <p:blipFill>
          <a:blip r:embed="rId3"/>
          <a:stretch/>
        </p:blipFill>
        <p:spPr>
          <a:xfrm>
            <a:off x="6804000" y="4005360"/>
            <a:ext cx="1619280" cy="2227320"/>
          </a:xfrm>
          <a:prstGeom prst="rect">
            <a:avLst/>
          </a:prstGeom>
          <a:ln w="0">
            <a:noFill/>
          </a:ln>
        </p:spPr>
      </p:pic>
      <p:sp>
        <p:nvSpPr>
          <p:cNvPr id="62" name="Text Box 6"/>
          <p:cNvSpPr/>
          <p:nvPr/>
        </p:nvSpPr>
        <p:spPr>
          <a:xfrm>
            <a:off x="395280" y="6381720"/>
            <a:ext cx="842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Literaturgeschichte Oberstufe - Trümmer- &amp; Nachkriegsliteratur – JG.27.11.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Gruppe 4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79280" y="1196640"/>
            <a:ext cx="850752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600" spc="-1" strike="noStrike" u="sng">
                <a:solidFill>
                  <a:srgbClr val="000000"/>
                </a:solidFill>
                <a:uFillTx/>
                <a:latin typeface="Arial"/>
              </a:rPr>
              <a:t>Beispiele von Schriftsteller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- Siegfried Lenz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u.a.: Es waren Habichte in der Luf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Der Mann im Str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- Alfred Andersc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u.a.: Sansibar oder der letzte Gru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Kirschen der Freihe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7" descr="180px-Bundesarchiv_B_145_Bild-F030757-0015,_Siegfried_Lenz"/>
          <p:cNvPicPr/>
          <p:nvPr/>
        </p:nvPicPr>
        <p:blipFill>
          <a:blip r:embed="rId2"/>
          <a:stretch/>
        </p:blipFill>
        <p:spPr>
          <a:xfrm>
            <a:off x="6372360" y="1557360"/>
            <a:ext cx="1692000" cy="2232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8" descr="andersch_site"/>
          <p:cNvPicPr/>
          <p:nvPr/>
        </p:nvPicPr>
        <p:blipFill>
          <a:blip r:embed="rId3"/>
          <a:stretch/>
        </p:blipFill>
        <p:spPr>
          <a:xfrm>
            <a:off x="6372360" y="4149720"/>
            <a:ext cx="1655640" cy="2001960"/>
          </a:xfrm>
          <a:prstGeom prst="rect">
            <a:avLst/>
          </a:prstGeom>
          <a:ln w="0">
            <a:noFill/>
          </a:ln>
        </p:spPr>
      </p:pic>
      <p:sp>
        <p:nvSpPr>
          <p:cNvPr id="67" name="Text Box 9"/>
          <p:cNvSpPr/>
          <p:nvPr/>
        </p:nvSpPr>
        <p:spPr>
          <a:xfrm>
            <a:off x="395280" y="6381720"/>
            <a:ext cx="842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Literaturgeschichte Oberstufe - Trümmer- &amp; Nachkriegsliteratur – JG.27.11.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500"/>
                            </p:stCondLst>
                            <p:childTnLst>
                              <p:par>
                                <p:cTn id="1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1000"/>
                            </p:stCondLst>
                            <p:childTnLst>
                              <p:par>
                                <p:cTn id="1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Weiter lesen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- Benutze folgende Quellen für mehrere Informatione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2492280"/>
            <a:ext cx="820908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5000"/>
          </a:bodyPr>
          <a:p>
            <a:pPr marL="257040" indent="-257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literaturwelt.com/epochen/nachkrieg.html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 http://www.duits.de/literatuur/truemmerliteratur.php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9"/>
          <p:cNvSpPr/>
          <p:nvPr/>
        </p:nvSpPr>
        <p:spPr>
          <a:xfrm>
            <a:off x="395280" y="6381720"/>
            <a:ext cx="842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Literaturgeschichte Oberstufe - Trümmer- &amp; Nachkriegsliteratur – JG.27.11.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9T18:07:23Z</dcterms:created>
  <dc:creator>Jos Gulpen</dc:creator>
  <dc:description/>
  <dc:language>en-US</dc:language>
  <cp:lastModifiedBy>Jos Gulpen</cp:lastModifiedBy>
  <dcterms:modified xsi:type="dcterms:W3CDTF">2010-10-06T22:25:11Z</dcterms:modified>
  <cp:revision>12</cp:revision>
  <dc:subject/>
  <dc:title>Trümmer- &amp; Nachkriegsliteratur 1945 - 1949</dc:title>
</cp:coreProperties>
</file>