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B74-3C93-4717-9570-DD292460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D6C-CAEB-4D97-B867-422A51FC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C20-62C2-4334-9E9D-6351A049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AF2-93C9-41A7-B2C0-4755E93D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E371-6AE3-4841-803E-F96CCEC5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E64-441F-4C48-8819-16806744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203F-62D5-41C7-85D4-5A3B6DA0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0D19-1CB3-4A14-85D4-056FCE7F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D8BD-9FEE-4291-A183-355B0DF8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FF53-D8E6-4F88-B414-CC00225A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D197-2B65-4BEE-A166-6B52628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6EF-4FFC-4A10-8712-C51C6E40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6686-9F9B-49A1-8CB4-6C055DB8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1D59-DC2B-43F9-ADAA-E43B2BD6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0C64-391C-4997-9644-6D29C365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2BBF-290B-4A5C-A7DB-9F09A066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85C4-9BDE-4E3E-81C6-ECD2B4CB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46E-476F-43E1-A47C-BD9E53D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381-F0BA-4FBE-AD53-DCC75B72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5B2-48FB-4059-98C5-5AAE5CE4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991-6157-4450-AED4-1AD93C4F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175-3C5A-4FB2-A483-585B7A9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1CD-2404-4239-B4C2-858D561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8CB-BE7B-41EB-8A10-C66F7A7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455A-2B79-4BC2-AA96-24CF3260412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3D03-BDB8-4514-8DD8-E6ABB4072A5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6633"/>
                </a:solidFill>
                <a:latin typeface="Garamond"/>
              </a:rPr>
              <a:t>Die Entwicklung der deutschen Sprach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n der indoeuropäischen ‘Ursprache’ zur neuhochdeutschen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‘Ursprache’: Indoeuropäis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 denkt, dass diese Sprachen auf Grund der Grammatik, des Wortschatzes und der Entwicklungen zu einer großen Sprachfamilie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51280" y="2781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6633"/>
                </a:solidFill>
                <a:latin typeface="Arial"/>
              </a:rPr>
              <a:t>Indoeuropä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3573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iech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8728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ta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3564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el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35280" y="4076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ltisch &amp; Slaw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227640" y="39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rma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58800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usgestorbene 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124000" y="3284280"/>
            <a:ext cx="2303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2195640" y="3357720"/>
            <a:ext cx="252072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4643280" y="3357720"/>
            <a:ext cx="14472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219640" y="3357720"/>
            <a:ext cx="504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 flipV="1">
            <a:off x="5508360" y="3357360"/>
            <a:ext cx="863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5651280" y="3213000"/>
            <a:ext cx="93636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18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Indoeuropäische Erbwörter (Bsp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paar Beispiele von ‘Urwörter’ des Indoeuropäis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rman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iederlä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i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tal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atein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è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französ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iech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eí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alti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aya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á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6877080" y="1989000"/>
            <a:ext cx="0" cy="3888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9640" y="3284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39640" y="4508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9640" y="544500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deutsche Sprac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thochdeuts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 750-10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ttelhochdeutsch ( 1050-13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uhochdeutsch ( 1350-……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ühmittelalter 500-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prägt von Kirche und B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ölkerwa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ligen und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rseburger Zaubersprü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ldebrands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istliche Lit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ngelienharmon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ö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fbeelding 3" descr="Codex_Manesse_Walther_von_der_Vogelweide.jpg"/>
          <p:cNvPicPr/>
          <p:nvPr/>
        </p:nvPicPr>
        <p:blipFill>
          <a:blip r:embed="rId1"/>
          <a:stretch/>
        </p:blipFill>
        <p:spPr>
          <a:xfrm>
            <a:off x="5508720" y="1197000"/>
            <a:ext cx="304776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4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as Hildebrandlied (Ahd. 8. Jh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Lied aus der ältesten Periode der ‘deutschen’ Sprache (750-1050 n.Chr.)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256536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sagetun mi , usere li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306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 erzählten mir, unsere Leu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3500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te anti frote , dea erhina varun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7164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alte und erfahrene, die vordem wa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71640" y="4365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hiltibrant haetti min fater , ih heittu hadub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4797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s mein Vater Hildebrand hieße, ich heiße Hadubran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7164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n het ostar gihueit , floh het otachres n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71640" y="57340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In der Vorzeit ging er nach Osten, floh er vor Odoakers H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619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chmittelalter 1180 -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öfische Lite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lshaus der Stauf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iedrich I Barbar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dene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tter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nes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euz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Afbeelding 4" descr="wolfram_von_eschenbach.jpg"/>
          <p:cNvPicPr/>
          <p:nvPr/>
        </p:nvPicPr>
        <p:blipFill>
          <a:blip r:embed="rId1"/>
          <a:stretch/>
        </p:blipFill>
        <p:spPr>
          <a:xfrm>
            <a:off x="5508720" y="1413000"/>
            <a:ext cx="2950920" cy="425124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ätmittelalter 1250 -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twicklung der Stä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t der Reichs- und Kurfür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fsteigendes Bürger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terarisch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wank (lustiger Einf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ent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tnachtspiel (Vorläufer des D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Wolgemut_-_1493_-_tanz_der_gerippe.jpg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6208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6" descr="logoma.jpg"/>
          <p:cNvPicPr/>
          <p:nvPr/>
        </p:nvPicPr>
        <p:blipFill>
          <a:blip r:embed="rId2"/>
          <a:stretch/>
        </p:blipFill>
        <p:spPr>
          <a:xfrm>
            <a:off x="5076720" y="907920"/>
            <a:ext cx="2735280" cy="2230560"/>
          </a:xfrm>
          <a:prstGeom prst="rect">
            <a:avLst/>
          </a:prstGeom>
          <a:ln w="0">
            <a:noFill/>
          </a:ln>
        </p:spPr>
      </p:pic>
      <p:sp>
        <p:nvSpPr>
          <p:cNvPr id="137" name="Tekstvak 7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Nach dem Mittelalter 1500 - 160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anismus: heliozentrische Bewegung, human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aissance: Wiedergeburt der antiken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ormation: wichtig für Nhd. Spra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Bibelübersetz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tdeckung der Buchdruckkunst 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martin-luther-540x304.jpg"/>
          <p:cNvPicPr/>
          <p:nvPr/>
        </p:nvPicPr>
        <p:blipFill>
          <a:blip r:embed="rId1"/>
          <a:stretch/>
        </p:blipFill>
        <p:spPr>
          <a:xfrm>
            <a:off x="2050920" y="3141720"/>
            <a:ext cx="469440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kstvak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vak 6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9:22:25Z</dcterms:created>
  <dc:creator>Jos Gulpen</dc:creator>
  <dc:description/>
  <dc:language>en-US</dc:language>
  <cp:lastModifiedBy>glp</cp:lastModifiedBy>
  <dcterms:modified xsi:type="dcterms:W3CDTF">2015-03-12T08:33:42Z</dcterms:modified>
  <cp:revision>15</cp:revision>
  <dc:subject/>
  <dc:title>Die Entwicklung der deutschen Sprache</dc:title>
</cp:coreProperties>
</file>