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62B-815E-4851-B0F3-1D0CE4E5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ED0E-5502-43D2-9FF6-942FD8EE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0A23-4352-4E33-B441-AD660172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1C7B-DA57-4FFE-91D0-960C9018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FB5B-1696-4F0E-A4EA-DE4FD058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D098-06CF-4F4C-B64E-6A30AEBA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020F-F7FA-4105-BC26-240F3531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33B3-C675-4782-AAC3-DAA1B5C7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98FF-D128-4369-ADEB-84C14909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788B-8743-4BA5-B866-3EEAD273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7929-1339-4D88-9E3D-A1817F6E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CB6-7084-4075-815B-CD0BD7A6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7E1E-1476-49C1-B76B-12255271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5346-3F32-4B68-A00D-14F41767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8518-2773-4393-85AD-8F09E047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4BD9-A842-4B05-B9C4-D453D74C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7717-1BE2-42D6-8429-774B7F79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207-F1D0-474C-8FE1-9E3A0439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F73-888A-4157-9E3F-85398513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C28-8EA0-4E5F-B5A8-E53C1A73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C9E-C6F8-4141-8E88-8F606240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F48A-603C-4B14-B260-AE7D85C2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304-F921-41D2-A3C0-C1DCDDB8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B71C-5D7F-444E-A5EC-66D6DCA3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6CBC-6D1C-4719-8914-0325502F95F5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0995-FAED-405A-86D5-E6334CC70E0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6633"/>
                </a:solidFill>
                <a:latin typeface="Garamond"/>
              </a:rPr>
              <a:t>Die Entwicklung der deutschen Sprache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47640" y="400536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n der indoeuropäischen ‘Ursprache’ zur neuhochdeutschen Spr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‘Ursprache’: Indoeuropäisch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n denkt, dass diese Sprachen auf Grund der Grammatik, des Wortschatzes und der Entwicklungen zu einer großen Sprachfamilie gehö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851280" y="278136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6633"/>
                </a:solidFill>
                <a:latin typeface="Arial"/>
              </a:rPr>
              <a:t>Indoeuropäis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84360" y="357336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riech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187280" y="429264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ta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435640" y="4724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Kelt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635280" y="407664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altisch &amp; Slaw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227640" y="3933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rman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588000" y="3068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usgestorbene Spr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2124000" y="3284280"/>
            <a:ext cx="230364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 flipV="1">
            <a:off x="2195640" y="3357720"/>
            <a:ext cx="2520720" cy="107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 flipH="1">
            <a:off x="4643280" y="3357720"/>
            <a:ext cx="14472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5219640" y="3357720"/>
            <a:ext cx="50472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 flipH="1" flipV="1">
            <a:off x="5508360" y="3357360"/>
            <a:ext cx="86364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 flipH="1" flipV="1">
            <a:off x="5651280" y="3213000"/>
            <a:ext cx="93636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kstvak 18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Indoeuropäische Erbwörter (Bsp.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 paar Beispiele von ‘Urwörter’ des Indoeuropäisc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rman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niederländ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rie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eut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rei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ngl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tal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latein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è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französ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oi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iech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eís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s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altind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aya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á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6877080" y="1989000"/>
            <a:ext cx="0" cy="3888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539640" y="328464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539640" y="450864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539640" y="544500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9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deutsche Sprach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thochdeutsch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( 750-1050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ittelhochdeutsch ( 1050-1350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euhochdeutsch ( 1350-……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vak 5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1148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ühmittelalter 500-1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prägt von Kirche und Bi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ölkerwand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ligen und Ki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rseburger Zaubersprü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ldebrands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ristliche Litera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angelienharmoni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öb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Afbeelding 3" descr="Codex_Manesse_Walther_von_der_Vogelweide.jpg"/>
          <p:cNvPicPr/>
          <p:nvPr/>
        </p:nvPicPr>
        <p:blipFill>
          <a:blip r:embed="rId1"/>
          <a:stretch/>
        </p:blipFill>
        <p:spPr>
          <a:xfrm>
            <a:off x="5508720" y="1197000"/>
            <a:ext cx="3047760" cy="4241880"/>
          </a:xfrm>
          <a:prstGeom prst="rect">
            <a:avLst/>
          </a:prstGeom>
          <a:ln w="0">
            <a:noFill/>
          </a:ln>
        </p:spPr>
      </p:pic>
      <p:sp>
        <p:nvSpPr>
          <p:cNvPr id="117" name="Tekstvak 4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as Hildebrandlied (Ahd. 8. Jh.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 Lied aus der ältesten Periode der ‘deutschen’ Sprache (750-1050 n.Chr.)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971640" y="2565360"/>
            <a:ext cx="43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sagetun mi , usere liu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971640" y="30686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Das erzählten mir, unsere Leu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971640" y="350028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te anti frote , dea erhina varun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71640" y="393372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alte und erfahrene, die vordem war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971640" y="43657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t hiltibrant haetti min fater , ih heittu hadub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971640" y="479736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dass mein Vater Hildebrand hieße, ich heiße Hadubran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971640" y="5300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n het ostar gihueit , floh het otachres n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971640" y="573408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In der Vorzeit ging er nach Osten, floh er vor Odoakers H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kstvak 13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6195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chmittelalter 1180 - 1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öfische Litera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lshaus der Staufe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riedrich I Barbaro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ch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ldene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tterd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nnes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euz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Afbeelding 4" descr="wolfram_von_eschenbach.jpg"/>
          <p:cNvPicPr/>
          <p:nvPr/>
        </p:nvPicPr>
        <p:blipFill>
          <a:blip r:embed="rId1"/>
          <a:stretch/>
        </p:blipFill>
        <p:spPr>
          <a:xfrm>
            <a:off x="5508720" y="1413000"/>
            <a:ext cx="2950920" cy="4251240"/>
          </a:xfrm>
          <a:prstGeom prst="rect">
            <a:avLst/>
          </a:prstGeom>
          <a:ln w="0">
            <a:noFill/>
          </a:ln>
        </p:spPr>
      </p:pic>
      <p:sp>
        <p:nvSpPr>
          <p:cNvPr id="132" name="Tekstvak 5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906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ätmittelalter 1250 -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twicklung der Städ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cht der Reichs- und Kurfür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fsteigendes Bürger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terarische F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wank (lustiger Einf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enta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stnachtspiel (Vorläufer des Dra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5" descr="Wolgemut_-_1493_-_tanz_der_gerippe.jpg"/>
          <p:cNvPicPr/>
          <p:nvPr/>
        </p:nvPicPr>
        <p:blipFill>
          <a:blip r:embed="rId1"/>
          <a:stretch/>
        </p:blipFill>
        <p:spPr>
          <a:xfrm>
            <a:off x="5580000" y="3357720"/>
            <a:ext cx="3095640" cy="2620800"/>
          </a:xfrm>
          <a:prstGeom prst="rect">
            <a:avLst/>
          </a:prstGeom>
          <a:ln w="0">
            <a:noFill/>
          </a:ln>
        </p:spPr>
      </p:pic>
      <p:pic>
        <p:nvPicPr>
          <p:cNvPr id="136" name="Afbeelding 6" descr="logoma.jpg"/>
          <p:cNvPicPr/>
          <p:nvPr/>
        </p:nvPicPr>
        <p:blipFill>
          <a:blip r:embed="rId2"/>
          <a:stretch/>
        </p:blipFill>
        <p:spPr>
          <a:xfrm>
            <a:off x="5076720" y="907920"/>
            <a:ext cx="2735280" cy="2230560"/>
          </a:xfrm>
          <a:prstGeom prst="rect">
            <a:avLst/>
          </a:prstGeom>
          <a:ln w="0">
            <a:noFill/>
          </a:ln>
        </p:spPr>
      </p:pic>
      <p:sp>
        <p:nvSpPr>
          <p:cNvPr id="137" name="Tekstvak 7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Nach dem Mittelalter 1500 - 1600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002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manismus: heliozentrische Bewegung, human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aissance: Wiedergeburt der antiken Kul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formation: wichtig für Nhd. Sprach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Bibelübersetz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tdeckung der Buchdruckkunst 14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4" descr="martin-luther-540x304.jpg"/>
          <p:cNvPicPr/>
          <p:nvPr/>
        </p:nvPicPr>
        <p:blipFill>
          <a:blip r:embed="rId1"/>
          <a:stretch/>
        </p:blipFill>
        <p:spPr>
          <a:xfrm>
            <a:off x="2050920" y="3141720"/>
            <a:ext cx="4694400" cy="2641680"/>
          </a:xfrm>
          <a:prstGeom prst="rect">
            <a:avLst/>
          </a:prstGeom>
          <a:ln w="0">
            <a:noFill/>
          </a:ln>
        </p:spPr>
      </p:pic>
      <p:sp>
        <p:nvSpPr>
          <p:cNvPr id="141" name="Tekstvak 5"/>
          <p:cNvSpPr/>
          <p:nvPr/>
        </p:nvSpPr>
        <p:spPr>
          <a:xfrm>
            <a:off x="2771640" y="5805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rtin Lu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kstvak 6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9:22:25Z</dcterms:created>
  <dc:creator>Jos Gulpen</dc:creator>
  <dc:description/>
  <dc:language>en-US</dc:language>
  <cp:lastModifiedBy>glp</cp:lastModifiedBy>
  <dcterms:modified xsi:type="dcterms:W3CDTF">2015-03-12T08:33:42Z</dcterms:modified>
  <cp:revision>15</cp:revision>
  <dc:subject/>
  <dc:title>Die Entwicklung der deutschen Sprache</dc:title>
</cp:coreProperties>
</file>