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E057-408A-4DC3-BF05-9684DD2B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0B72-6E82-44B4-925D-1511D431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2D70-26AA-4CFC-855E-D82689B64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866C-BED2-44E6-BB49-824CCD918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5664-2414-4A74-B948-36F0A3268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7DC6-38AA-4688-AB0B-1ACF1F13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3F5F-DEB4-4F22-BB35-193C89E2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D498-3A96-47A1-9EDE-EABEB656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D1E5-0F64-4858-B419-DD8D1637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BA5B-F159-416E-951B-51159131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558A-7BDE-4FEC-AF85-83E78A64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4166-48D3-40FB-A757-3EE70C27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5E21-6BE5-4B37-890F-410369C0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5AA8-53C5-4D89-9D8C-78D3EBE6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A906-BA38-4F93-9614-623970F0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3ED9-E179-4F2C-B744-6D83BDB38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0EBB-C99C-4E6D-A0D9-F70C8B75C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8A78-CC1A-4055-8809-447A8046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404C-A7FE-47B6-A222-2937A678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4865-FDDD-4082-870F-E03696A8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D0B5-96AC-4131-B057-7B2DF6D2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7468-C973-4EDF-A232-EEA988BF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B6E1-D9E3-4EA2-98EF-C17C1C1C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65FD-CE8E-407A-AF52-C8D6432D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EB07-23A3-45F0-8967-EDC0F153B0E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8260-B17E-4E11-981E-F91FD6988362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1767960"/>
            <a:ext cx="84978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b9efee"/>
                </a:solidFill>
                <a:latin typeface="Garamond"/>
              </a:rPr>
              <a:t>Literatur im ‘Dritten Reich’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Garamond"/>
              </a:rPr>
              <a:t>1933-1945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Die Machtergreifu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ie NS ergreifen 1933 die Mac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ie ‘Säuberung’ der deutschen Literatu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Bücherverbrennung Mai 193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alle Künstler Mitglied der Reichskulturkammer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Oppositionsschriftsteller überwacht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Oppositionsschriftsteller ins KZ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b9efee"/>
                </a:solidFill>
                <a:latin typeface="Garamond"/>
              </a:rPr>
              <a:t>Die Literatur in der NS-Zeit: 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Exilliteratu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iderstandsliteratur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innere Emigration 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öffentlichte Widerstandsliteratu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Blut und Boden-Literatu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Exilliteratu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iele Autoren flohen aus Deutschlan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u.a. Bertolt Brecht, Thomas Mann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Im Exil den Fascismus bekämpf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Widerstandsliteratur:</a:t>
            </a:r>
            <a:br>
              <a:rPr sz="4400"/>
            </a:b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innere Emigration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Opposition / Widerstand in Deutschla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a-politische Them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ie Menschlichkeit, Verbundenheit -&gt; Natu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z.B. Ernst Wiechert und Werner Bergengrue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öffentliche Widerstandsliteratur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öffentlicher Widerstand gegen den Fascism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eimliche Veröffentlichung ihrer Werk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z.B. Jan Petersen und Wolfgang Langhof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Blut und Boden- Literatu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eimatdichtu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Abneigung gegen die Großstadt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chwärmen für das Deutsche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idealisierter und romantisierter Rassismus (Ariër,   Germanen) 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Antisemitismus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Heldentum 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Kameradschaf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prache der NS-Autoren: geschwollen (Pathos), emotional, theatra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19:12:00Z</dcterms:created>
  <dc:creator>Jos Gulpen</dc:creator>
  <dc:description/>
  <dc:language>en-US</dc:language>
  <cp:lastModifiedBy>glp</cp:lastModifiedBy>
  <dcterms:modified xsi:type="dcterms:W3CDTF">2011-03-01T10:59:08Z</dcterms:modified>
  <cp:revision>14</cp:revision>
  <dc:subject/>
  <dc:title>Literatuur tijdens het Derde Rijk </dc:title>
</cp:coreProperties>
</file>