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C01-0E2F-4F32-87C3-227E44F8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6E2-2EEC-4F68-B999-AD880454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F3D-C85C-43B2-A4B3-89D26C73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33A-E3BF-4527-A7F7-F5601F0F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FA50-F40E-420E-8BF9-B9CCBC35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3FE6-5ED6-4808-9865-086A551E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6D18-02DA-44E5-8D58-E0B63A2C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CFE1-D1BD-472E-8DFB-87A2D843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6F16-6544-4A76-9F80-071C1120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8DCD-2F7D-42BD-BBCB-8257855C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1129-F908-4DDF-AE30-432EFB5D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ABB-55F9-46F4-A1D8-AA51CD59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C4A2-1805-4B58-9B7F-20ED97C2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0E8C-117B-43E4-9DE4-BC7AF524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483C-069C-473B-95D6-BA5A18C6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02BD-B809-4324-AB57-805CD698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A912-A902-4527-991B-01FC47F9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6F4-35A5-413E-89D1-06828CDF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CE7-508E-4402-8A22-94EC3AB1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F73-E1F9-469C-B89B-BC2FAB88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D81-EEE7-4792-BFD6-E41E2AF6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232-1CED-4ADB-9DBE-6034680E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DFD-59F0-47C1-9742-8D380B6F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487-9890-4275-A2EB-733CD0F4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B6FA-DF27-48DE-AE3F-416FA8ADEC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6797-F53C-4B55-B6CD-BD121BF669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marxists.org/glossary/people/k/pics/kant.jpg&amp;imgrefurl=http://www.marxists.org/glossary/people/k/a.htm&amp;usg=__Va0SAlQsbMhd9pwZSrzmdfBqc5E=&amp;h=356&amp;w=264&amp;sz=11&amp;hl=nl&amp;start=3&amp;um=1&amp;tbnid=SQ8rcw8wNlhaFM:&amp;tbnh=121&amp;tbnw=90&amp;prev=/images%3Fq%3DImmanuel%2BKant%26hl%3Dnl%26um%3D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Verdana"/>
              </a:rPr>
              <a:t>die Aufklärung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769608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 Gesellschaft und die Literatur der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m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. Jahr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Gesellschaft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507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Reaktion auf den Mittelalter und die Renaiss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ie dunkle Zeit des Unwiss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iegeszug der modernen Naturwissenschaften (Empirism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tt kirchlicher Lehre -&gt; Vernunft (Rati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Einführung der allgemeinen Schulpfl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Auffass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„Der Mensch ist in sich gut“ -&gt; Optim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r Mensch als Individuum und denkendes 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Toleranz: Religion &amp; Pädagogi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Litera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Verdana"/>
              </a:rPr>
              <a:t>die Politik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Der Staat</a:t>
            </a:r>
            <a:r>
              <a:rPr b="0" lang="de-DE" sz="24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Absolut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utschland: eine Kleinstaate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ndesethik vs. Vernunfteth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Basis der Demokrat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z.B. Voltaire, Montesqui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französische Revolution (178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80000" y="2708280"/>
            <a:ext cx="2521080" cy="2421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92720" y="522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Friedrich II (Preuß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René Dec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“Cogito ergo sum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wissenschaftlich &amp; theologisc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Immanuel Ka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der Mensch als selbstdenkendes Wes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Erziehung als Ba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1859040" cy="230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573360"/>
            <a:ext cx="1873080" cy="2303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Zitate (K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be den Mut, dich deines eigenen Verstandes zu bedien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Aufklärung ist der Ausgang des Menschen aus seiner selbstverschuldeten Unmündigkeit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ndle so, dass die Maxime deines Willens jederzeit zugleich als Prinzip einer allgemeinen Gesetzgebung gelten könne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Themen</a:t>
            </a:r>
            <a:br>
              <a:rPr sz="2000"/>
            </a:b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olera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Human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ritik auf traditionelle Antwo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Vernunftsreligion vs. Offenbarungs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chdenken über den absolutistischen St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844640"/>
            <a:ext cx="41148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at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lehrhafte Kleinform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Fabel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Parab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Johann Christoph Gottsch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Ständeklau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lassische Regeln der Tragö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otthold Ephraim L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heaterstüc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than der Weise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‘die Ringparabel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Humanitä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Toleranz der Relig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2081160" cy="237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04000" y="1413000"/>
            <a:ext cx="1940040" cy="2493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Verdana"/>
              </a:rPr>
              <a:t>Ende der Präsenta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2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9:54:38Z</dcterms:created>
  <dc:creator>Mondriaan</dc:creator>
  <dc:description/>
  <dc:language>en-US</dc:language>
  <cp:lastModifiedBy>Jos Gulpen</cp:lastModifiedBy>
  <dcterms:modified xsi:type="dcterms:W3CDTF">2011-12-07T10:01:31Z</dcterms:modified>
  <cp:revision>13</cp:revision>
  <dc:subject/>
  <dc:title>die Zeit der Aufklärung</dc:title>
</cp:coreProperties>
</file>