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69F5-DF66-47CC-BC9A-682DD1547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CF85-7EEF-4F64-9387-CF44E233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13AF-C5D5-43A4-9BCA-DAFD21EE1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75E0-9EAC-45DD-A509-C862CCA84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F37F1-5A0C-45E9-A97F-0D21617EB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7765-B9D4-41F2-BFC3-99E42C20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BDF4-04A4-42DE-8416-E5703233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52B7-9E27-4F8C-84B6-6E48F3CE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F7F83-A48F-40A1-9DAC-81F9D4CB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308BF-40D9-414A-A8D9-8DAFF006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F6378-1507-4240-B7E4-EDBE4814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C5F3-70E0-4D56-A2AD-4E95550B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E9E8-76E7-4948-912D-454224CF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2F84-A0D4-4CAD-A08E-DD67FBFA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35D6-7D8A-4116-8132-C9708515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64156-DD60-48FA-A88B-BB450DFB9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CC06-AF26-46C0-8647-37C8301F9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642D-988E-4B60-B7E8-861792B8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1F52-C3C5-4BD7-9E84-A132BF60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6FC6-A245-4D68-B36D-92BFC49D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BEE6-2107-4103-8C9C-E4A77B51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D2C9-CCD9-4C6A-A143-41FC5706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D51A-F099-482F-A642-905E1579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4949-174A-4FCA-8CD6-03893273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AB0E-D2B8-4CC0-B236-FCF0D3C9EF67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0C3F-5327-485A-A1D5-BA856A8F8F67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1341000"/>
            <a:ext cx="762300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cc0000"/>
                </a:solidFill>
                <a:latin typeface="Verdana"/>
              </a:rPr>
              <a:t>Sturm und Drang</a:t>
            </a:r>
            <a:endParaRPr b="0" lang="en-US" sz="36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31640" y="2276640"/>
            <a:ext cx="65530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1770-178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684360" y="6381720"/>
            <a:ext cx="79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Deutsch Oberstufe – Literaturgeschichte Sturm und Drang – JG.24.0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611280" y="0"/>
            <a:ext cx="8532720" cy="404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goethe000"/>
          <p:cNvPicPr/>
          <p:nvPr/>
        </p:nvPicPr>
        <p:blipFill>
          <a:blip r:embed="rId1"/>
          <a:stretch/>
        </p:blipFill>
        <p:spPr>
          <a:xfrm>
            <a:off x="250920" y="2276640"/>
            <a:ext cx="2233440" cy="27367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7"/>
          <p:cNvSpPr/>
          <p:nvPr/>
        </p:nvSpPr>
        <p:spPr>
          <a:xfrm>
            <a:off x="2700360" y="404640"/>
            <a:ext cx="64436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werther"/>
          <p:cNvPicPr/>
          <p:nvPr/>
        </p:nvPicPr>
        <p:blipFill>
          <a:blip r:embed="rId2"/>
          <a:stretch/>
        </p:blipFill>
        <p:spPr>
          <a:xfrm>
            <a:off x="6156360" y="2349360"/>
            <a:ext cx="2771640" cy="2192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Erlkoenig_Bruening_SAB_54__440x286_"/>
          <p:cNvPicPr/>
          <p:nvPr/>
        </p:nvPicPr>
        <p:blipFill>
          <a:blip r:embed="rId3"/>
          <a:stretch/>
        </p:blipFill>
        <p:spPr>
          <a:xfrm>
            <a:off x="2916360" y="4005360"/>
            <a:ext cx="28796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0000"/>
                </a:solidFill>
                <a:latin typeface="Verdana"/>
              </a:rPr>
              <a:t>Entstehung</a:t>
            </a:r>
            <a:endParaRPr b="0" lang="en-US" sz="2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aktion auf die Aufklä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deutung des Gefüh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as Gefühl ist wertvoller als die Vernunft’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‘Retour à la nature’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ousseau (Fra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95280" y="0"/>
            <a:ext cx="8748720" cy="404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2268360" y="404640"/>
            <a:ext cx="68756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684360" y="6381720"/>
            <a:ext cx="79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Deutsch Oberstufe – Literaturgeschichte Sturm und Drang – JG.24.0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rousseau"/>
          <p:cNvPicPr/>
          <p:nvPr/>
        </p:nvPicPr>
        <p:blipFill>
          <a:blip r:embed="rId1"/>
          <a:stretch/>
        </p:blipFill>
        <p:spPr>
          <a:xfrm>
            <a:off x="6227640" y="1268280"/>
            <a:ext cx="18525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0000"/>
                </a:solidFill>
                <a:latin typeface="Verdana"/>
              </a:rPr>
              <a:t>Themen des Sturm und Drang</a:t>
            </a:r>
            <a:endParaRPr b="0" lang="en-US" sz="2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2491920"/>
            <a:ext cx="4114800" cy="356724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 u="sng">
                <a:solidFill>
                  <a:srgbClr val="000000"/>
                </a:solidFill>
                <a:uFillTx/>
                <a:latin typeface="Verdana"/>
              </a:rPr>
              <a:t>Freiheitsdra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Gesellschaft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Politi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Dichtung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Lieb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 u="sng">
                <a:solidFill>
                  <a:srgbClr val="000000"/>
                </a:solidFill>
                <a:uFillTx/>
                <a:latin typeface="Verdana"/>
              </a:rPr>
              <a:t>Nat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 u="sng">
                <a:solidFill>
                  <a:srgbClr val="000000"/>
                </a:solidFill>
                <a:uFillTx/>
                <a:latin typeface="Verdana"/>
              </a:rPr>
              <a:t>Gen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 u="sng">
                <a:solidFill>
                  <a:srgbClr val="000000"/>
                </a:solidFill>
                <a:uFillTx/>
                <a:latin typeface="Verdana"/>
              </a:rPr>
              <a:t>großer Kerl, Machtwei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95280" y="0"/>
            <a:ext cx="8748720" cy="404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268360" y="404640"/>
            <a:ext cx="68756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684360" y="6381720"/>
            <a:ext cx="79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Deutsch Oberstufe – Literaturgeschichte Sturm und Drang – JG.24.0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4716360" y="2492280"/>
            <a:ext cx="4114800" cy="356724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 u="sng">
                <a:solidFill>
                  <a:srgbClr val="000000"/>
                </a:solidFill>
                <a:uFillTx/>
                <a:latin typeface="Verdana"/>
              </a:rPr>
              <a:t>Kultur &amp; Tra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Kirch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Mo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Staat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Tyran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539640" y="1341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P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"/>
          <p:cNvSpPr/>
          <p:nvPr/>
        </p:nvSpPr>
        <p:spPr>
          <a:xfrm>
            <a:off x="1619280" y="1773360"/>
            <a:ext cx="0" cy="576000"/>
          </a:xfrm>
          <a:prstGeom prst="line">
            <a:avLst/>
          </a:prstGeom>
          <a:ln w="50760">
            <a:solidFill>
              <a:srgbClr val="cc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5508720" y="1413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Ko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6659640" y="1844640"/>
            <a:ext cx="0" cy="576360"/>
          </a:xfrm>
          <a:prstGeom prst="line">
            <a:avLst/>
          </a:prstGeom>
          <a:ln w="50760">
            <a:solidFill>
              <a:srgbClr val="cc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0000"/>
                </a:solidFill>
                <a:latin typeface="Verdana"/>
              </a:rPr>
              <a:t>Beispiele Sturm und Drang Werke I</a:t>
            </a:r>
            <a:endParaRPr b="0" lang="en-US" sz="2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55548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Johann Wolfgang von Goeth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Die Leiden des jungen Wer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Johann Gottfried Herde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Stimmen der Völker in Lieder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Friedrich von Schiller: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Die Räub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95280" y="0"/>
            <a:ext cx="8748720" cy="404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268360" y="404640"/>
            <a:ext cx="68756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684360" y="6381720"/>
            <a:ext cx="79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Deutsch Oberstufe – Literaturgeschichte Sturm und Drang – JG.24.0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2700360" y="5013360"/>
            <a:ext cx="100800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5435640" y="1844640"/>
            <a:ext cx="136692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1" descr="Schiller1"/>
          <p:cNvPicPr/>
          <p:nvPr/>
        </p:nvPicPr>
        <p:blipFill>
          <a:blip r:embed="rId1"/>
          <a:stretch/>
        </p:blipFill>
        <p:spPr>
          <a:xfrm>
            <a:off x="4067280" y="4076640"/>
            <a:ext cx="1744560" cy="2019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goethe000"/>
          <p:cNvPicPr/>
          <p:nvPr/>
        </p:nvPicPr>
        <p:blipFill>
          <a:blip r:embed="rId2"/>
          <a:stretch/>
        </p:blipFill>
        <p:spPr>
          <a:xfrm>
            <a:off x="7500960" y="765000"/>
            <a:ext cx="1643040" cy="2013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5" descr="Rauber"/>
          <p:cNvPicPr/>
          <p:nvPr/>
        </p:nvPicPr>
        <p:blipFill>
          <a:blip r:embed="rId3"/>
          <a:stretch/>
        </p:blipFill>
        <p:spPr>
          <a:xfrm>
            <a:off x="6156360" y="2852640"/>
            <a:ext cx="25909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0000"/>
                </a:solidFill>
                <a:latin typeface="Verdana"/>
              </a:rPr>
              <a:t>Beispiele Sturm und Drang Werke II</a:t>
            </a:r>
            <a:endParaRPr b="0" lang="en-US" sz="2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36720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Johann Wolfgang von Goethe: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(Gedicht) Mai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395280" y="0"/>
            <a:ext cx="8748720" cy="404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2268360" y="404640"/>
            <a:ext cx="68756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684360" y="6381720"/>
            <a:ext cx="79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Deutsch Oberstufe – Literaturgeschichte Sturm und Drang – JG.24.0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3708360" y="4797360"/>
            <a:ext cx="100800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9"/>
          <p:cNvSpPr/>
          <p:nvPr/>
        </p:nvSpPr>
        <p:spPr>
          <a:xfrm>
            <a:off x="3780000" y="2133720"/>
            <a:ext cx="100800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2" descr="goethe_brion_300"/>
          <p:cNvPicPr/>
          <p:nvPr/>
        </p:nvPicPr>
        <p:blipFill>
          <a:blip r:embed="rId1"/>
          <a:stretch/>
        </p:blipFill>
        <p:spPr>
          <a:xfrm>
            <a:off x="5219640" y="1125360"/>
            <a:ext cx="2454480" cy="2735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Erlkoenig_Schwind_Ackermann_2175b__440x295_"/>
          <p:cNvPicPr/>
          <p:nvPr/>
        </p:nvPicPr>
        <p:blipFill>
          <a:blip r:embed="rId2"/>
          <a:stretch/>
        </p:blipFill>
        <p:spPr>
          <a:xfrm>
            <a:off x="5076720" y="3813120"/>
            <a:ext cx="3672000" cy="24591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5"/>
          <p:cNvSpPr/>
          <p:nvPr/>
        </p:nvSpPr>
        <p:spPr>
          <a:xfrm>
            <a:off x="250920" y="4221000"/>
            <a:ext cx="36716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Johann Wolfgang von Goethe: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(Ballade) Erlkön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0000"/>
                </a:solidFill>
                <a:latin typeface="Verdana"/>
              </a:rPr>
              <a:t>Johann Wolfgang von Goethe - Mailied</a:t>
            </a:r>
            <a:endParaRPr b="0" lang="en-US" sz="2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302436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herrlich leucht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Mir die Natu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glänzt die Sonn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lacht die Flu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Es dringen Blü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Aus jedem Zweig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Und tausend Stim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Aus dem Gesträuch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Und Freud’ und Won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Aus jeder Bru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O Erd’, o Sonn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O Glück, o Lus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O Lieb’, o Lie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So golden schön,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95280" y="0"/>
            <a:ext cx="8748720" cy="404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2268360" y="404640"/>
            <a:ext cx="68756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684360" y="6381720"/>
            <a:ext cx="79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Deutsch Oberstufe – Literaturgeschichte Sturm und Drang – JG.24.0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2843280" y="1341360"/>
            <a:ext cx="302400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Morgenwol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Auf jenen Höh’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u segnest herr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as frische Fel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Im Blütendamp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ie volle We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O Mädchen, Mäd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lieb ich dich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blinkt dein Aug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liebst du mich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5435640" y="1413000"/>
            <a:ext cx="3024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So liebt die Lerc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Gesang und Luf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Und Morgenblu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en Himmelsduf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ich dich lie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Mit warmem Blu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ie du mit Jug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Und Freud’ und M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Zu neuen Lied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Und Tänzen gibs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Sei ewig glücklich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du mich lieb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0000"/>
                </a:solidFill>
                <a:latin typeface="Verdana"/>
              </a:rPr>
              <a:t>Johann Wolfgang von Goethe – Erlkönig</a:t>
            </a:r>
            <a:endParaRPr b="0" lang="en-US" sz="2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46432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Wer reitet so spät durch Nacht und Wind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s ist der Vater mit seinem Kind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r hat den Knaben wohl in dem Arm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r faßt ihn sicher, er hält ihn warm.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Mein Sohn, was birgst du so bang dei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Gesicht?"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Siehst, Vater, du den Erlkönig nicht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Den Erlenkönig mit Kron und Schweif?"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Mein Sohn, es ist ein Nebelstreif."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Du liebes Kind, komm geh mit mir!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Gar schöne Spiele spiel ich mit dir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Manch bunte Blumen sind an dem Strand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Meine Mutter hat manch gülden Gewand."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Mein Vater, mein Vater, hörst du es nicht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Was Erlenkönig mir leise verspricht?"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Sei ruhig, bleibe ruhig, mein Kind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In dürren Blättern säuselt der Wind."</a:t>
            </a: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395280" y="0"/>
            <a:ext cx="8748720" cy="404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268360" y="404640"/>
            <a:ext cx="68756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684360" y="6381720"/>
            <a:ext cx="79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Deutsch Oberstufe – Literaturgeschichte Sturm und Drang – JG.24.0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4211640" y="1341360"/>
            <a:ext cx="493236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Willst, feiner Knabe, du mit mir gehn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Meine Töchter sollen dich warten schön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Meine Töchter führen den nächtlichen Reih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Und wiegen und tanzen und singen dich ein."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Mein Vater, mein Vater, und siehst du nicht dort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rlkönigs Töchter am düsteren Ort?"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Mein Sohn, mein Sohn, ich seh es genau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s scheinen die alten Weiden so grau."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Ich liebe dich, mich reizt deine schö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Gestalt; Und bist du nicht willig, so brauch i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Gewalt."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Mein Vater, mein Vater, jetzt faßt er mich an!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rlkönig hat mir ein Leids getan!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Dem Vater grauset's, er reitet geschwind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r hält in den Armen das ächzende Kind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rreicht den Hof mit Müh und Not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In seinen Armen das Kind war tot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20:01:20Z</dcterms:created>
  <dc:creator>Jos Gulpen</dc:creator>
  <dc:description/>
  <dc:language>en-US</dc:language>
  <cp:lastModifiedBy>JosGulpen</cp:lastModifiedBy>
  <dcterms:modified xsi:type="dcterms:W3CDTF">2013-06-09T11:40:22Z</dcterms:modified>
  <cp:revision>6</cp:revision>
  <dc:subject/>
  <dc:title>Sturm und Drang</dc:title>
</cp:coreProperties>
</file>