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879-82B1-41F6-BCE1-44AC6B66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899-8D58-4DBE-8E57-971E8CD9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11D-B75A-4168-BA2F-54E28375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779-7313-4350-A59F-046DDDAB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5D4B-AE40-451C-9A2A-22967A80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CF61-C1B0-4F50-A980-AD0F09DC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0A29-A322-47A0-9060-9E36ECA9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47EE-6B44-44B2-9CC7-D94FD79F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92D4-FDA5-4FDB-9926-8570ADA2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EDC4-4504-4BF0-8D77-B129BF64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8FD5-B611-4690-8181-3BCA2AFE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194-B93F-46A4-8074-11016BFF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8641-70C3-46F2-9667-797AF968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A8F8-6B05-45CA-90C8-58860949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2091-BEA5-4269-8B74-A447170F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B1DC-34C8-45C1-89AD-26C4E751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C74D-B3F9-4B76-9DA4-9A633370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2C7-38EB-4714-84C6-1D2B569F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5A22-5F04-40CC-86CD-76462D47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009-E60A-4517-A52B-AF47672F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9450-6111-4375-8E02-CD198503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50BB-E0E1-4049-A63E-7D79AE4B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770-F23D-4C7A-B928-E67258FE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3C4-6E04-4ACE-BE67-3BD31FDA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0EFD-C87D-428F-B20E-63B66CF65AD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BFAB-4854-4F10-BA2B-4E225ECCCFC9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1341000"/>
            <a:ext cx="76230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cc0000"/>
                </a:solidFill>
                <a:latin typeface="Verdana"/>
              </a:rPr>
              <a:t>Sturm und Drang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1640" y="2276640"/>
            <a:ext cx="6553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1770-178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11280" y="0"/>
            <a:ext cx="8532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goethe000"/>
          <p:cNvPicPr/>
          <p:nvPr/>
        </p:nvPicPr>
        <p:blipFill>
          <a:blip r:embed="rId1"/>
          <a:stretch/>
        </p:blipFill>
        <p:spPr>
          <a:xfrm>
            <a:off x="250920" y="2276640"/>
            <a:ext cx="2233440" cy="2736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2700360" y="404640"/>
            <a:ext cx="6443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werther"/>
          <p:cNvPicPr/>
          <p:nvPr/>
        </p:nvPicPr>
        <p:blipFill>
          <a:blip r:embed="rId2"/>
          <a:stretch/>
        </p:blipFill>
        <p:spPr>
          <a:xfrm>
            <a:off x="6156360" y="2349360"/>
            <a:ext cx="2771640" cy="219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Erlkoenig_Bruening_SAB_54__440x286_"/>
          <p:cNvPicPr/>
          <p:nvPr/>
        </p:nvPicPr>
        <p:blipFill>
          <a:blip r:embed="rId3"/>
          <a:stretch/>
        </p:blipFill>
        <p:spPr>
          <a:xfrm>
            <a:off x="2916360" y="4005360"/>
            <a:ext cx="2879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Entstehun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aktion auf die Aufklä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deutung des Gefüh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as Gefühl ist wertvoller als die Vernunft’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‘Retour à la nature’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ousseau (Fr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rousseau"/>
          <p:cNvPicPr/>
          <p:nvPr/>
        </p:nvPicPr>
        <p:blipFill>
          <a:blip r:embed="rId1"/>
          <a:stretch/>
        </p:blipFill>
        <p:spPr>
          <a:xfrm>
            <a:off x="6227640" y="1268280"/>
            <a:ext cx="18525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Themen des Sturm und Dran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491920"/>
            <a:ext cx="4114800" cy="3567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Freiheitsdr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Gesellschaf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Polit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Dichtung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Lie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Nat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Gen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großer Kerl, Machtwei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716360" y="2492280"/>
            <a:ext cx="4114800" cy="3567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Kultur &amp; Tra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Kir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M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Staa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Tyra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39640" y="134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1619280" y="1773360"/>
            <a:ext cx="0" cy="57600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508720" y="141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Ko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659640" y="1844640"/>
            <a:ext cx="0" cy="57636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Beispiele Sturm und Drang Werke I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554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Johann Wolfgang von Goeth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Die Leiden des jungen Wer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Johann Gottfried Herd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Stimmen der Völker in Lied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Friedrich von Schiller: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Die Räu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700360" y="501336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5435640" y="1844640"/>
            <a:ext cx="136692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Schiller1"/>
          <p:cNvPicPr/>
          <p:nvPr/>
        </p:nvPicPr>
        <p:blipFill>
          <a:blip r:embed="rId1"/>
          <a:stretch/>
        </p:blipFill>
        <p:spPr>
          <a:xfrm>
            <a:off x="4067280" y="4076640"/>
            <a:ext cx="174456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goethe000"/>
          <p:cNvPicPr/>
          <p:nvPr/>
        </p:nvPicPr>
        <p:blipFill>
          <a:blip r:embed="rId2"/>
          <a:stretch/>
        </p:blipFill>
        <p:spPr>
          <a:xfrm>
            <a:off x="7500960" y="765000"/>
            <a:ext cx="1643040" cy="201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Rauber"/>
          <p:cNvPicPr/>
          <p:nvPr/>
        </p:nvPicPr>
        <p:blipFill>
          <a:blip r:embed="rId3"/>
          <a:stretch/>
        </p:blipFill>
        <p:spPr>
          <a:xfrm>
            <a:off x="6156360" y="2852640"/>
            <a:ext cx="25909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Beispiele Sturm und Drang Werke II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3672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Johann Wolfgang von Goeth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Gedicht) Mai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3780000" y="213372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goethe_brion_300"/>
          <p:cNvPicPr/>
          <p:nvPr/>
        </p:nvPicPr>
        <p:blipFill>
          <a:blip r:embed="rId1"/>
          <a:stretch/>
        </p:blipFill>
        <p:spPr>
          <a:xfrm>
            <a:off x="5219640" y="1125360"/>
            <a:ext cx="2454480" cy="273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Erlkoenig_Schwind_Ackermann_2175b__440x295_"/>
          <p:cNvPicPr/>
          <p:nvPr/>
        </p:nvPicPr>
        <p:blipFill>
          <a:blip r:embed="rId2"/>
          <a:stretch/>
        </p:blipFill>
        <p:spPr>
          <a:xfrm>
            <a:off x="5076720" y="3813120"/>
            <a:ext cx="3672000" cy="2459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5"/>
          <p:cNvSpPr/>
          <p:nvPr/>
        </p:nvSpPr>
        <p:spPr>
          <a:xfrm>
            <a:off x="250920" y="4221000"/>
            <a:ext cx="3671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Johann Wolfgang von Goeth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Ballade) Erlkön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Johann Wolfgang von Goethe - Mailied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30243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herrlich leucht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ir die Natu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glänzt die Sonn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acht die Flu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s dringen Blü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jedem Zwei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tausend Stim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dem Gesträu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Freud’ und Wo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jeder Br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Erd’, o Sonn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Glück, o Lu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Lieb’, o Lie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o golden schön,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843280" y="1341360"/>
            <a:ext cx="3024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Morgenwol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f jenen Höh’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u segnest her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as frische Fel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m Blütendamp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ie volle W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Mädchen, Mäd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ieb ich d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blinkt dein Aug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iebst du m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435640" y="1413000"/>
            <a:ext cx="3024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o liebt die Lerc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Gesang und Luf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Morgenbl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n Himmelsdu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ich dich lie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it warmem Blu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ie du mit Ju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Freud’ und M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Zu neuen Lie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Tänzen gib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ei ewig glückli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du mich lieb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Johann Wolfgang von Goethe – Erlköni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6432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Wer reitet so spät durch Nacht und Wind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s ist der Vater mit seinem Ki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hat den Knaben wohl in dem Ar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faßt ihn sicher, er hält ihn warm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was birgst du so bang de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sich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Siehst, Vater, du den Erlkönig nicht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Den Erlenkönig mit Kron und Schweif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es ist ein Nebelstreif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Du liebes Kind, komm geh mit mir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ar schöne Spiele spiel ich mit dir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anch bunte Blumen sind an dem Stra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Mutter hat manch gülden Gewand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hörst du es nicht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Was Erlenkönig mir leise versprich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Sei ruhig, bleibe ruhig, mein Ki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In dürren Blättern säuselt der Wind."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211640" y="1341360"/>
            <a:ext cx="493236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Willst, feiner Knabe, du mit mir gehn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Töchter sollen dich warten schön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Töchter führen den nächtlichen Reih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Und wiegen und tanzen und singen dich ein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und siehst du nicht dor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lkönigs Töchter am düsteren Or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mein Sohn, ich seh es genau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s scheinen die alten Weiden so grau.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Ich liebe dich, mich reizt deine schö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stalt; Und bist du nicht willig, so brauch i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walt.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jetzt faßt er mich an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lkönig hat mir ein Leids getan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Dem Vater grauset's, er reitet geschwind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hält in den Armen das ächzende Kind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reicht den Hof mit Müh und Not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In seinen Armen das Kind war to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0:01:20Z</dcterms:created>
  <dc:creator>Jos Gulpen</dc:creator>
  <dc:description/>
  <dc:language>en-US</dc:language>
  <cp:lastModifiedBy>JosGulpen</cp:lastModifiedBy>
  <dcterms:modified xsi:type="dcterms:W3CDTF">2013-06-09T11:40:22Z</dcterms:modified>
  <cp:revision>6</cp:revision>
  <dc:subject/>
  <dc:title>Sturm und Drang</dc:title>
</cp:coreProperties>
</file>