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292-B289-4B53-BF18-B2247742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D92-95CF-4B21-B119-E5E39CCC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C83-F719-4957-BBC6-DA2EE669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E83-7F77-4161-B088-F35FF65D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C03C-B5B7-4CED-9C6E-2A4E7292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F924-8AFD-4D7D-B7E3-D0A30B92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8D00-8EFD-4283-90C2-770F8F45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B878-3F58-4790-AA3A-98AB0EDA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2C26-D637-4FD7-B40B-88331C8D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3307-8793-49BD-B6EF-9526C2CD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5218-DC1F-4EB2-A5A2-020051A4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DC9-739F-483B-AD8A-203DAB75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0315-BBDB-4852-BD13-E4FDBD7D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E752-372A-44CC-B497-C864433A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D461-BC54-4A60-8381-B8E798B2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5FCF-7DFD-4426-A35F-9981471FF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BB96-8389-4317-8125-11199075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46A-16C2-4ADF-9387-6C35791B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A97-5AA8-4B10-A20C-1C00CFE4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4B0-9F9F-4600-91B7-60EBBCED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3A8-4918-4A7D-8A21-8C001A09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73C-3848-4E38-A356-1B3F17CF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4ED-B514-40E0-B80F-1D3AA3B2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CC0-C585-4581-850C-FC98A778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3B2D-2DA1-4435-9037-37561A2CF6E9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ED83-A67C-4A2C-9D28-21BC0F970ECA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1341000"/>
            <a:ext cx="76230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0000"/>
                </a:solidFill>
                <a:latin typeface="Verdana"/>
              </a:rPr>
              <a:t>Sturm und Drang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1640" y="2276640"/>
            <a:ext cx="655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1770-178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11280" y="0"/>
            <a:ext cx="8532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goethe000"/>
          <p:cNvPicPr/>
          <p:nvPr/>
        </p:nvPicPr>
        <p:blipFill>
          <a:blip r:embed="rId1"/>
          <a:stretch/>
        </p:blipFill>
        <p:spPr>
          <a:xfrm>
            <a:off x="250920" y="2276640"/>
            <a:ext cx="2233440" cy="2736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700360" y="404640"/>
            <a:ext cx="6443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werther"/>
          <p:cNvPicPr/>
          <p:nvPr/>
        </p:nvPicPr>
        <p:blipFill>
          <a:blip r:embed="rId2"/>
          <a:stretch/>
        </p:blipFill>
        <p:spPr>
          <a:xfrm>
            <a:off x="6156360" y="2349360"/>
            <a:ext cx="2771640" cy="219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rlkoenig_Bruening_SAB_54__440x286_"/>
          <p:cNvPicPr/>
          <p:nvPr/>
        </p:nvPicPr>
        <p:blipFill>
          <a:blip r:embed="rId3"/>
          <a:stretch/>
        </p:blipFill>
        <p:spPr>
          <a:xfrm>
            <a:off x="2916360" y="4005360"/>
            <a:ext cx="2879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Entstehu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aktion auf die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deutung des Gefüh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as Gefühl ist wertvoller als die Vernunft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‘Retour à la nature’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ousseau (Fr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rousseau"/>
          <p:cNvPicPr/>
          <p:nvPr/>
        </p:nvPicPr>
        <p:blipFill>
          <a:blip r:embed="rId1"/>
          <a:stretch/>
        </p:blipFill>
        <p:spPr>
          <a:xfrm>
            <a:off x="6227640" y="1268280"/>
            <a:ext cx="18525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Themen des Sturm und Dran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49192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Freiheitsdr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Gesellschaf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Poli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chtung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Lie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Nat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en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großer Kerl, Machtwei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716360" y="2492280"/>
            <a:ext cx="4114800" cy="35672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000000"/>
                </a:solidFill>
                <a:uFillTx/>
                <a:latin typeface="Verdana"/>
              </a:rPr>
              <a:t>Kultur &amp; Tra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Kirche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M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aa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Tyra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539640" y="134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1619280" y="1773360"/>
            <a:ext cx="0" cy="5760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508720" y="14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Ko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659640" y="1844640"/>
            <a:ext cx="0" cy="57636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5554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Wolfgang von Goeth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Die Leiden des jungen Wer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Johann Gottfried Her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 Stimmen der Völker in Lied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Friedrich von Schiller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-Die Räu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700360" y="5013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5435640" y="1844640"/>
            <a:ext cx="136692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Schiller1"/>
          <p:cNvPicPr/>
          <p:nvPr/>
        </p:nvPicPr>
        <p:blipFill>
          <a:blip r:embed="rId1"/>
          <a:stretch/>
        </p:blipFill>
        <p:spPr>
          <a:xfrm>
            <a:off x="4067280" y="4076640"/>
            <a:ext cx="174456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goethe000"/>
          <p:cNvPicPr/>
          <p:nvPr/>
        </p:nvPicPr>
        <p:blipFill>
          <a:blip r:embed="rId2"/>
          <a:stretch/>
        </p:blipFill>
        <p:spPr>
          <a:xfrm>
            <a:off x="7500960" y="765000"/>
            <a:ext cx="1643040" cy="201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Rauber"/>
          <p:cNvPicPr/>
          <p:nvPr/>
        </p:nvPicPr>
        <p:blipFill>
          <a:blip r:embed="rId3"/>
          <a:stretch/>
        </p:blipFill>
        <p:spPr>
          <a:xfrm>
            <a:off x="6156360" y="2852640"/>
            <a:ext cx="25909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Beispiele Sturm und Drang Werke II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3672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Gedicht) Mai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3780000" y="2133720"/>
            <a:ext cx="100800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goethe_brion_300"/>
          <p:cNvPicPr/>
          <p:nvPr/>
        </p:nvPicPr>
        <p:blipFill>
          <a:blip r:embed="rId1"/>
          <a:stretch/>
        </p:blipFill>
        <p:spPr>
          <a:xfrm>
            <a:off x="5219640" y="1125360"/>
            <a:ext cx="245448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Erlkoenig_Schwind_Ackermann_2175b__440x295_"/>
          <p:cNvPicPr/>
          <p:nvPr/>
        </p:nvPicPr>
        <p:blipFill>
          <a:blip r:embed="rId2"/>
          <a:stretch/>
        </p:blipFill>
        <p:spPr>
          <a:xfrm>
            <a:off x="5076720" y="3813120"/>
            <a:ext cx="3672000" cy="2459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5"/>
          <p:cNvSpPr/>
          <p:nvPr/>
        </p:nvSpPr>
        <p:spPr>
          <a:xfrm>
            <a:off x="250920" y="4221000"/>
            <a:ext cx="3671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Johann Wolfgang von Goethe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Ballade) Erlkön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- Mailied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30243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herrlich leucht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r die Nat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glänzt die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acht die Flur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s dringen Blü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m Zwei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ausend Stim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dem Gesträu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W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s jeder Bru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Erd’, o Sonn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Glück, o Lus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Lieb’, o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golden schön,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843280" y="1341360"/>
            <a:ext cx="30240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Morgenwol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uf jenen Höh’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u segnest herrl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as frische Fel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m Blütendamp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volle Wel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O Mädchen, Mädc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 ich d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blinkt dein Aug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liebst du mi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435640" y="1413000"/>
            <a:ext cx="3024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o liebt die Lerc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Gesang und Luf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Morgenbl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n Himmelsduf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ich dich lie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it warmem Blu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ie du mit Ju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Freud’ und M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Zu neuen Lie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nd Tänzen gib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ei ewig glücklich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ie du mich lieb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cc0000"/>
                </a:solidFill>
                <a:latin typeface="Verdana"/>
              </a:rPr>
              <a:t>Johann Wolfgang von Goethe – Erlkönig</a:t>
            </a: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6432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er reitet so spät durch Nacht und Win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ist der Vater mit seinem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at den Knaben wohl in dem Ar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faßt ihn sicher, er hält ihn warm.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was birgst du so bang d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iehst, Vater, du den Erlkönig nicht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n Erlenkönig mit Kron und Schweif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es ist ein Nebelstreif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Du liebes Kind, komm geh mit mir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ar schöne Spiele spiel ich mit dir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anch bunte Blumen sind an dem Stra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Mutter hat manch gülden Gewand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hörst du es nich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Was Erlenkönig mir leise versprich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Sei ruhig, bleibe ruhig, mein Kin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dürren Blättern säuselt der Wind."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95280" y="0"/>
            <a:ext cx="8748720" cy="404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268360" y="404640"/>
            <a:ext cx="68756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684360" y="6381720"/>
            <a:ext cx="799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Verdana"/>
              </a:rPr>
              <a:t>Deutsch Oberstufe – Literaturgeschichte Sturm und Drang – JG.24.0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211640" y="1341360"/>
            <a:ext cx="493236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Willst, feiner Knabe, du mit mir gehn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sollen dich warten schön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Meine Töchter führen den nächtlichen Reih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Und wiegen und tanzen und singen dich ein."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und siehst du nicht dor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s Töchter am düsteren Ort?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Sohn, mein Sohn, ich seh es genau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s scheinen die alten Weiden so grau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Ich liebe dich, mich reizt deine schö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stalt; Und bist du nicht willig, so brauch i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Gewalt."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"Mein Vater, mein Vater, jetzt faßt er mich 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lkönig hat mir ein Leids getan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Dem Vater grauset's, er reitet geschwind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 hält in den Armen das ächzende Kind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Erreicht den Hof mit Müh und Not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Verdana"/>
              </a:rPr>
              <a:t>In seinen Armen das Kind war tot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0:01:20Z</dcterms:created>
  <dc:creator>Jos Gulpen</dc:creator>
  <dc:description/>
  <dc:language>en-US</dc:language>
  <cp:lastModifiedBy>JosGulpen</cp:lastModifiedBy>
  <dcterms:modified xsi:type="dcterms:W3CDTF">2013-06-09T11:40:22Z</dcterms:modified>
  <cp:revision>6</cp:revision>
  <dc:subject/>
  <dc:title>Sturm und Drang</dc:title>
</cp:coreProperties>
</file>