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4953-F75A-4CDA-A269-59B168CB1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F77B-2B8D-42E8-A7A9-FDE22631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731B-39F6-4A1C-9779-C8392331C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8A4B-A29F-4D4B-8738-3EBEB1D33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EC49-B67B-4805-A0EC-809BDA08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2E6D-3947-4CB0-ADF1-21FBB422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95FE-0C23-4E18-BDB0-ACA17BD1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AE2B-29D9-45AC-B878-AF6D4FD5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D6E0-55FA-477E-803C-8AE851BC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07AD-F1BC-4667-AB4B-5638DEF3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1ABA-1541-436A-941E-AFFFA67E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5F5D-EA91-4797-94D8-F372592F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AF0D-F23A-45C9-AFA6-448CD55FCB1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eutschegeschichten.tv/popup/set.asp?OzIID=6880&amp;ObjKatID=101&amp;ThemaKatID=1004&amp;Qlt=DS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642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ümmer- &amp; Nachkriegsliteratur</a:t>
            </a:r>
            <a:br>
              <a:rPr sz="4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45 - 19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zerstoertes_dresden1"/>
          <p:cNvPicPr/>
          <p:nvPr/>
        </p:nvPicPr>
        <p:blipFill>
          <a:blip r:embed="rId1"/>
          <a:stretch/>
        </p:blipFill>
        <p:spPr>
          <a:xfrm>
            <a:off x="1258920" y="1916280"/>
            <a:ext cx="6624720" cy="43988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395280" y="6381720"/>
            <a:ext cx="84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iteraturgeschichte Oberstufe - Trümmer- &amp; Nachkriegsliteratur – JG.27.1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eutschland 1945- Stunde N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Kriegszerstö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Städte zerbomb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keine Industrie &amp; Versorgungseinrichtung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Mangel an Lebensmittel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Flüchtlinge der Ostgebie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Rückkehr der Kriegsgefangen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Ende als Anf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Neuaufbau: Trümmerfrau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truemmerfrauen_berl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852640"/>
            <a:ext cx="3073680" cy="33800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395280" y="6381720"/>
            <a:ext cx="84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iteraturgeschichte Oberstufe - Trümmer- &amp; Nachkriegsliteratur – JG.27.1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ntstehung der Nachkriegsliteratur 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19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 u="sng">
                <a:solidFill>
                  <a:srgbClr val="000000"/>
                </a:solidFill>
                <a:uFillTx/>
                <a:latin typeface="Arial"/>
              </a:rPr>
              <a:t>Proble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völlig fremd mit der Weltliterat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Exilwerke wurden bekan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Umgang mit der NS-Geschich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95280" y="3716280"/>
            <a:ext cx="7561440" cy="14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2600" spc="-1" strike="noStrike" u="sng">
                <a:solidFill>
                  <a:srgbClr val="000000"/>
                </a:solidFill>
                <a:uFillTx/>
                <a:latin typeface="Arial"/>
              </a:rPr>
              <a:t>Neue Strömung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Trümmerliteratur (bis 194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Gruppe 47 (ab 194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95280" y="6381720"/>
            <a:ext cx="84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iteraturgeschichte Oberstufe - Trümmer- &amp; Nachkriegsliteratur – JG.27.1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ntstehung der Nachkriegsliteratur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403848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iel: das Berichten von der Zerstöru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arnu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rückblick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48000" y="2781000"/>
            <a:ext cx="353844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iel: Neuanfa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ufklärung und Erziehung zur Demokrat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lick in die Zukun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95280" y="1916280"/>
            <a:ext cx="345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 u="sng">
                <a:solidFill>
                  <a:srgbClr val="000000"/>
                </a:solidFill>
                <a:uFillTx/>
                <a:latin typeface="Arial"/>
              </a:rPr>
              <a:t>Trümmerliterat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4572000" y="1989000"/>
            <a:ext cx="345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 u="sng">
                <a:solidFill>
                  <a:srgbClr val="000000"/>
                </a:solidFill>
                <a:uFillTx/>
                <a:latin typeface="Arial"/>
              </a:rPr>
              <a:t>Gruppe 4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395280" y="6381720"/>
            <a:ext cx="84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iteraturgeschichte Oberstufe - Trümmer- &amp; Nachkriegsliteratur – JG.27.1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Trümmerliterat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507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 u="sng">
                <a:solidFill>
                  <a:srgbClr val="000000"/>
                </a:solidFill>
                <a:uFillTx/>
                <a:latin typeface="Arial"/>
              </a:rPr>
              <a:t>Beispiele von Schriftsteller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Wolfgang Borche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.a.: Draußen vor der Tü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ie Hundeblu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achts schlafen die Ratten do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Heinrich Bö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.a.: Der Zug war pünktli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nderer kommst du nach Spa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as Brot der frühen Jah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us ohne Hü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borchert"/>
          <p:cNvPicPr/>
          <p:nvPr/>
        </p:nvPicPr>
        <p:blipFill>
          <a:blip r:embed="rId2"/>
          <a:stretch/>
        </p:blipFill>
        <p:spPr>
          <a:xfrm>
            <a:off x="6804000" y="1557360"/>
            <a:ext cx="1652760" cy="2098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hboll"/>
          <p:cNvPicPr/>
          <p:nvPr/>
        </p:nvPicPr>
        <p:blipFill>
          <a:blip r:embed="rId3"/>
          <a:stretch/>
        </p:blipFill>
        <p:spPr>
          <a:xfrm>
            <a:off x="6804000" y="4005360"/>
            <a:ext cx="1619280" cy="22273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395280" y="6381720"/>
            <a:ext cx="84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iteraturgeschichte Oberstufe - Trümmer- &amp; Nachkriegsliteratur – JG.27.1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ruppe 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5075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 u="sng">
                <a:solidFill>
                  <a:srgbClr val="000000"/>
                </a:solidFill>
                <a:uFillTx/>
                <a:latin typeface="Arial"/>
              </a:rPr>
              <a:t>Beispiele von Schriftsteller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Siegfried Len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u.a.: Es waren Habichte in der Lu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r Mann im Str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Alfred Anders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u.a.: Sansibar oder der letzte Gr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Kirschen der Freihe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180px-Bundesarchiv_B_145_Bild-F030757-0015,_Siegfried_Lenz"/>
          <p:cNvPicPr/>
          <p:nvPr/>
        </p:nvPicPr>
        <p:blipFill>
          <a:blip r:embed="rId2"/>
          <a:stretch/>
        </p:blipFill>
        <p:spPr>
          <a:xfrm>
            <a:off x="6372360" y="1557360"/>
            <a:ext cx="1692000" cy="2232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andersch_site"/>
          <p:cNvPicPr/>
          <p:nvPr/>
        </p:nvPicPr>
        <p:blipFill>
          <a:blip r:embed="rId3"/>
          <a:stretch/>
        </p:blipFill>
        <p:spPr>
          <a:xfrm>
            <a:off x="6372360" y="4149720"/>
            <a:ext cx="1655640" cy="20019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9"/>
          <p:cNvSpPr/>
          <p:nvPr/>
        </p:nvSpPr>
        <p:spPr>
          <a:xfrm>
            <a:off x="395280" y="6381720"/>
            <a:ext cx="84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iteraturgeschichte Oberstufe - Trümmer- &amp; Nachkriegsliteratur – JG.27.1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eiter lesen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Benutze folgende Quellen für mehrere Information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2492280"/>
            <a:ext cx="8209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literaturwelt.com/epochen/nachkrieg.html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http://www.duits.de/literatuur/truemmerliteratur.php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395280" y="6381720"/>
            <a:ext cx="84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iteraturgeschichte Oberstufe - Trümmer- &amp; Nachkriegsliteratur – JG.27.1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18:07:23Z</dcterms:created>
  <dc:creator>Jos Gulpen</dc:creator>
  <dc:description/>
  <dc:language>en-US</dc:language>
  <cp:lastModifiedBy>Jos Gulpen</cp:lastModifiedBy>
  <dcterms:modified xsi:type="dcterms:W3CDTF">2010-10-06T22:25:11Z</dcterms:modified>
  <cp:revision>12</cp:revision>
  <dc:subject/>
  <dc:title>Trümmer- &amp; Nachkriegsliteratur 1945 - 1949</dc:title>
</cp:coreProperties>
</file>