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EFA-06FC-4804-B0C1-0D5B7527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BB0-1B04-4D15-AF25-B2AFE524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1A1-DA39-4788-B79F-861738E4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4A98-D65F-43E7-A72F-179AAADF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A561-BCB6-40DD-A038-13428876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978C-1C05-47F1-8780-4373D81D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0AB3-B3C6-46ED-A092-62F318F9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CAF7-45F5-4A48-9FF0-E8DF566B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D86A-AB0F-4048-97F5-1F05BBFB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AAF9-A7FE-4C89-B488-E7326E3A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3145-4F31-4E04-8689-A29EEFBB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647-9D75-48E1-AC8E-7806C1EE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16F7-9C69-4595-BF1F-3F9E1151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16CB-D4F4-4CEA-B3FC-0E445BE7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C74F-414A-43F1-A645-A20D30C9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EABD-8F76-4466-ADB7-BCA5FFB7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85AA-704B-4FB1-A0A2-176B6063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C18-644D-446D-B659-35DF94E6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A72D-F40B-449C-8E34-1E5D06B2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DFF9-86A9-477F-9551-7FEA1AD7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1540-A5E3-444C-8651-D4A70D71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46A-9902-442B-95A3-957DDBCE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746-E194-4820-B6FF-71A863B3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299-C75B-4CDB-9ECB-3276268A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C270-6E53-417C-BB20-E4C595DC55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AAEC-6BF8-4549-B8CF-1A0C3ACF64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://www.marxists.org/glossary/people/k/pics/kant.jpg&amp;imgrefurl=http://www.marxists.org/glossary/people/k/a.htm&amp;usg=__Va0SAlQsbMhd9pwZSrzmdfBqc5E=&amp;h=356&amp;w=264&amp;sz=11&amp;hl=nl&amp;start=3&amp;um=1&amp;tbnid=SQ8rcw8wNlhaFM:&amp;tbnh=121&amp;tbnw=90&amp;prev=/images%3Fq%3DImmanuel%2BKant%26hl%3Dnl%26um%3D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Verdana"/>
              </a:rPr>
              <a:t>die Aufklärung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769608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 Gesellschaft und die Literatur der Aufklä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m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. Jahrhund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Gesellschaft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507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Reaktion auf den Mittelalter und die Renaiss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ie dunkle Zeit des Unwisse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iegeszug der modernen Naturwissenschaften (Empirism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tatt kirchlicher Lehre -&gt; Vernunft (Rati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Einführung der allgemeinen Schulpfl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Auffass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„Der Mensch ist in sich gut“ -&gt; Optim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er Mensch als Individuum und denkendes 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Toleranz: Religion &amp; Pädagogi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idaktische Litera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Verdana"/>
              </a:rPr>
              <a:t>die Politik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Der Staat</a:t>
            </a:r>
            <a:r>
              <a:rPr b="0" lang="de-DE" sz="2400" spc="-1" strike="noStrike">
                <a:solidFill>
                  <a:srgbClr val="66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Absolut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eutschland: eine Kleinstaate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tandesethik vs. Vernunfteth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Basis der Demokrat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z.B. Voltaire, Montesqui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französische Revolution (178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580000" y="2708280"/>
            <a:ext cx="2521080" cy="2421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92720" y="522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Friedrich II (Preuß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Philosophie                           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660000"/>
                </a:solidFill>
                <a:latin typeface="Verdana"/>
              </a:rPr>
              <a:t>René Dec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“Cogito ergo sum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wissenschaftlich &amp; theologisc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660000"/>
                </a:solidFill>
                <a:latin typeface="Verdana"/>
              </a:rPr>
              <a:t>Immanuel Ka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der Mensch als selbstdenkendes Wes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Erziehung als Ba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1859040" cy="230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3573360"/>
            <a:ext cx="1873080" cy="2303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Philosophie                          I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Zitate (K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Habe den Mut, dich deines eigenen Verstandes zu bedien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Aufklärung ist der Ausgang des Menschen aus seiner selbstverschuldeten Unmündigkeit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Handle so, dass die Maxime deines Willens jederzeit zugleich als Prinzip einer allgemeinen Gesetzgebung gelten könne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Literatur                               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Themen</a:t>
            </a:r>
            <a:br>
              <a:rPr sz="2000"/>
            </a:b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Tolera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Humanit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Kritik auf traditionelle Antwo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Vernunftsreligion vs. Offenbarungs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Nachdenken über den absolutistischen St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844640"/>
            <a:ext cx="41148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Gat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idaktische D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lehrhafte Kleinform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Fabel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Parab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Literatur                              I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Johann Christoph Gottsch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Ständeklau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klassische Regeln der Tragö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Gotthold Ephraim L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Theaterstüc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Nathan der Weise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‘die Ringparabel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Humanitä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Toleranz der Relig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2081160" cy="237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04000" y="1413000"/>
            <a:ext cx="1940040" cy="2493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Verdana"/>
              </a:rPr>
              <a:t>Ende der Präsentati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87640" y="299736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2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9:54:38Z</dcterms:created>
  <dc:creator>Mondriaan</dc:creator>
  <dc:description/>
  <dc:language>en-US</dc:language>
  <cp:lastModifiedBy>Jos Gulpen</cp:lastModifiedBy>
  <dcterms:modified xsi:type="dcterms:W3CDTF">2011-12-07T10:01:31Z</dcterms:modified>
  <cp:revision>13</cp:revision>
  <dc:subject/>
  <dc:title>die Zeit der Aufklärung</dc:title>
</cp:coreProperties>
</file>