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FBA-1D8E-41D1-8095-C7C26BDA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DC0-8A5A-4C66-804F-1FD91642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D7F-A3E5-4D72-998A-5B4EA037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D94-8B3D-4F68-9323-F2352B6C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4F02-DB5E-45B4-AB9C-C8932EBB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1E6C-A10F-4690-86E2-9E93336B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ADD5-ED99-47DE-9AAC-DD5827D4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AE05-096B-41C0-8F4C-75D2814B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93A4-7861-4E54-A1CA-28AB3C63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D992-D852-48CB-B585-3EB8125E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4851-9664-45C6-AC1B-AB748C38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100-D11E-408A-9D96-453F7A2D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35DC-8074-4A65-9A7B-F2FEB102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A1EA-ACC7-48F8-83E8-B9DB8B86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C886-23B6-4ADC-97F3-EB531C1D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E426-8950-43F2-97DE-0BD17137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3B29-1C51-4B43-B9CB-309F62CD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456-7AFB-4ED6-AF19-AE24399E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201-DD14-4A5F-81B6-EC9EF379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EF9-E87B-4031-8E8F-9AE81BC2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00C-18AD-4F54-90EA-B8A13E71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8D1-2ADC-475A-B397-254EB72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7EF-87DB-456C-A66E-01B26DEE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F6C3-D738-40C0-9379-7B6C408E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DB0F-2066-4710-9AE6-E47BA45C3A7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23D0-6CF0-451F-B51C-D48661D3E14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6230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0000"/>
                </a:solidFill>
                <a:latin typeface="Verdana"/>
              </a:rPr>
              <a:t>Sturm und Drang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1640" y="2276640"/>
            <a:ext cx="655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1770-178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11280" y="0"/>
            <a:ext cx="8532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goethe000"/>
          <p:cNvPicPr/>
          <p:nvPr/>
        </p:nvPicPr>
        <p:blipFill>
          <a:blip r:embed="rId1"/>
          <a:stretch/>
        </p:blipFill>
        <p:spPr>
          <a:xfrm>
            <a:off x="250920" y="2276640"/>
            <a:ext cx="2233440" cy="2736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700360" y="404640"/>
            <a:ext cx="6443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werther"/>
          <p:cNvPicPr/>
          <p:nvPr/>
        </p:nvPicPr>
        <p:blipFill>
          <a:blip r:embed="rId2"/>
          <a:stretch/>
        </p:blipFill>
        <p:spPr>
          <a:xfrm>
            <a:off x="6156360" y="2349360"/>
            <a:ext cx="2771640" cy="219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rlkoenig_Bruening_SAB_54__440x286_"/>
          <p:cNvPicPr/>
          <p:nvPr/>
        </p:nvPicPr>
        <p:blipFill>
          <a:blip r:embed="rId3"/>
          <a:stretch/>
        </p:blipFill>
        <p:spPr>
          <a:xfrm>
            <a:off x="2916360" y="4005360"/>
            <a:ext cx="2879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Entstehu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aktion auf die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deutung des Gefüh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as Gefühl ist wertvoller als die Vernunft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Retour à la nature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ousseau (Fr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rousseau"/>
          <p:cNvPicPr/>
          <p:nvPr/>
        </p:nvPicPr>
        <p:blipFill>
          <a:blip r:embed="rId1"/>
          <a:stretch/>
        </p:blipFill>
        <p:spPr>
          <a:xfrm>
            <a:off x="6227640" y="1268280"/>
            <a:ext cx="18525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Themen des Sturm und Dra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49192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Freiheitsdr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Gesellschaf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Polit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chtung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Lie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Nat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roßer Kerl, Machtwe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716360" y="249228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Kultur &amp; Tra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Kir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M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aa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Tyra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39640" y="134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1619280" y="1773360"/>
            <a:ext cx="0" cy="5760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508720" y="141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o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659640" y="1844640"/>
            <a:ext cx="0" cy="57636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554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Wolfgang von Goeth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e Leiden des jungen Wer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Gottfried Herd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immen der Völker in Lied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Friedrich von Schiller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Die Räu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700360" y="5013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5435640" y="1844640"/>
            <a:ext cx="136692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Schiller1"/>
          <p:cNvPicPr/>
          <p:nvPr/>
        </p:nvPicPr>
        <p:blipFill>
          <a:blip r:embed="rId1"/>
          <a:stretch/>
        </p:blipFill>
        <p:spPr>
          <a:xfrm>
            <a:off x="4067280" y="4076640"/>
            <a:ext cx="174456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goethe000"/>
          <p:cNvPicPr/>
          <p:nvPr/>
        </p:nvPicPr>
        <p:blipFill>
          <a:blip r:embed="rId2"/>
          <a:stretch/>
        </p:blipFill>
        <p:spPr>
          <a:xfrm>
            <a:off x="7500960" y="765000"/>
            <a:ext cx="1643040" cy="201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Rauber"/>
          <p:cNvPicPr/>
          <p:nvPr/>
        </p:nvPicPr>
        <p:blipFill>
          <a:blip r:embed="rId3"/>
          <a:stretch/>
        </p:blipFill>
        <p:spPr>
          <a:xfrm>
            <a:off x="6156360" y="2852640"/>
            <a:ext cx="25909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3672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Gedicht) Mai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3780000" y="213372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goethe_brion_300"/>
          <p:cNvPicPr/>
          <p:nvPr/>
        </p:nvPicPr>
        <p:blipFill>
          <a:blip r:embed="rId1"/>
          <a:stretch/>
        </p:blipFill>
        <p:spPr>
          <a:xfrm>
            <a:off x="5219640" y="1125360"/>
            <a:ext cx="2454480" cy="273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Erlkoenig_Schwind_Ackermann_2175b__440x295_"/>
          <p:cNvPicPr/>
          <p:nvPr/>
        </p:nvPicPr>
        <p:blipFill>
          <a:blip r:embed="rId2"/>
          <a:stretch/>
        </p:blipFill>
        <p:spPr>
          <a:xfrm>
            <a:off x="5076720" y="3813120"/>
            <a:ext cx="3672000" cy="2459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5"/>
          <p:cNvSpPr/>
          <p:nvPr/>
        </p:nvSpPr>
        <p:spPr>
          <a:xfrm>
            <a:off x="250920" y="4221000"/>
            <a:ext cx="3671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Ballade) Erlkön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- Mailied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30243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herrlich leucht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r die Nat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glänzt die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acht die Fl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s dringen Blü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m Zwei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ausend 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dem Gesträu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Wo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r Br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Erd’, o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Glück, o Lu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Lieb’, o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golden schön,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843280" y="1341360"/>
            <a:ext cx="302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Morgenwol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f jenen Höh’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u segnest her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as frische Fel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m Blütendamp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volle W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Mädchen, Mäd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 ich d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blinkt dein Au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st du m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435640" y="1413000"/>
            <a:ext cx="3024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liebt die Ler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Gesang und Lu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Morgenbl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n Himmelsdu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ich dich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t warmem Blu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du mit Ju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M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Zu neuen Lie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änzen gib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ei ewig glückli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du mich lieb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– Erlköni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6432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er reitet so spät durch Nacht und Wind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ist der Vater mit seinem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at den Knaben wohl in dem Ar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faßt ihn sicher, er hält ihn warm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was birgst du so bang de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iehst, Vater, du den Erlkönig nicht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n Erlenkönig mit Kron und Schweif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es ist ein Nebelstreif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Du liebes Kind, komm geh mit mir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ar schöne Spiele spiel ich mit dir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anch bunte Blumen sind an dem Stra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Mutter hat manch gülden Gewand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hörst du es nich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as Erlenkönig mir leise verspr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ei ruhig, bleibe ruhig, mein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dürren Blättern säuselt der Wind."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211640" y="1341360"/>
            <a:ext cx="493236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Willst, feiner Knabe, du mit mir gehn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sollen dich warten schön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führen den nächtlichen Reih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Und wiegen und tanzen und singen dich ein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und siehst du nicht dor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s Töchter am düsteren Or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mein Sohn, ich seh es genau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scheinen die alten Weiden so grau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Ich liebe dich, mich reizt deine schö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talt; Und bist du nicht willig, so brauch i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walt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jetzt faßt er mich 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 hat mir ein Leids get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m Vater grauset's, er reitet geschwind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ält in den Armen das ächzende Kind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reicht den Hof mit Müh und Not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seinen Armen das Kind war to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0:01:20Z</dcterms:created>
  <dc:creator>Jos Gulpen</dc:creator>
  <dc:description/>
  <dc:language>en-US</dc:language>
  <cp:lastModifiedBy>JosGulpen</cp:lastModifiedBy>
  <dcterms:modified xsi:type="dcterms:W3CDTF">2013-06-09T11:40:22Z</dcterms:modified>
  <cp:revision>6</cp:revision>
  <dc:subject/>
  <dc:title>Sturm und Drang</dc:title>
</cp:coreProperties>
</file>