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8B9-20F5-4B28-B1FA-66B966C9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B33-5BCE-4213-BF1C-7055DBE7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577-0C08-451F-963B-27E38561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1E6-A67A-4F29-B319-F8781B5C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18CA-52A2-4E3D-9BAC-4774C2DF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21DE-135A-4976-AAEA-5E1FA0CD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D89E-2E03-4BA2-B649-1DDE4499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FF22-C404-4B43-A339-714CD2BF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8493-593C-4FD7-BAE8-7A58ED1F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70E6-0A6B-47BE-BD19-25E461C1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E5DE-7DB2-4001-8782-86E0D0B9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73C-CC8E-482D-A9EF-B35BE177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7501-EF36-4E7B-A086-1D26C25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9FB1-407E-407D-AE99-030CE200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F937-DE1F-4F0D-9F71-B54AA01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344F-7570-4E07-AA0C-B2158724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A2FB-33A7-4753-9B3A-1BEEBF2F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C4F-4B22-4812-961C-91AB8405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900-7CE2-4A64-AFA4-D82E0AC3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3A2-E2C6-4AF4-8D68-7F018239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9B2-96CB-4515-97CD-21AE3908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F73-9605-415F-8E3C-E3B0F006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4A4-D302-41F2-84B9-E8838A1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E7D-DA59-4BAF-9191-3488B08B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DF46-B1AE-4299-962F-52F452141B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FC03-6A0F-4F56-9019-F0E702C90A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marxists.org/glossary/people/k/pics/kant.jpg&amp;imgrefurl=http://www.marxists.org/glossary/people/k/a.htm&amp;usg=__Va0SAlQsbMhd9pwZSrzmdfBqc5E=&amp;h=356&amp;w=264&amp;sz=11&amp;hl=nl&amp;start=3&amp;um=1&amp;tbnid=SQ8rcw8wNlhaFM:&amp;tbnh=121&amp;tbnw=90&amp;prev=/images%3Fq%3DImmanuel%2BKant%26hl%3Dnl%26um%3D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erdana"/>
              </a:rPr>
              <a:t>die Aufklärung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 Gesellschaft und die Literatur der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Gesellschaft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07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Reaktion auf den Mittelalter und die Rena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ie dunkle Zeit des Unwiss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iegeszug der modernen Naturwissenschaften (Empir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tt kirchlicher Lehre -&gt; Vernunft (Rat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Einführung der allgemeinen Schulpf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Auffas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„Der Mensch ist in sich gut“ -&gt; Optim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r Mensch als Individuum und denkendes 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Toleranz: Religion &amp; Pädagog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Litera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Verdana"/>
              </a:rPr>
              <a:t>die Politi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Der Staat</a:t>
            </a:r>
            <a:r>
              <a:rPr b="0" lang="de-DE" sz="24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Absolut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utschland: eine Kleinstaa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ndesethik vs. Vernunft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Basis der Demokrat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Voltaire, Montesqu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französische Revolution (178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521080" cy="242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522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Friedrich II (Preuß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René Dec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“Cogito ergo sum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wissenschaftlich &amp; theologis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Immanuel Ka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der Mensch als selbstdenkendes We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Erziehung als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185904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7336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Zitate (K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be den Mut, dich deines eigenen Verstandes zu bedien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Aufklärung ist der Ausgang des Menschen aus seiner selbstverschuldeten Unmündigkeit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ndle so, dass die Maxime deines Willens jederzeit zugleich als Prinzip einer allgemeinen Gesetzgebung gelten kön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Themen</a:t>
            </a:r>
            <a:br>
              <a:rPr sz="2000"/>
            </a:b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olera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Human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ritik auf traditionelle Antwo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Vernunftsreligion vs. Offenbarungs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chdenken über den absolutistischen 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148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at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lehrhafte Kleinform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Fabel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Parab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Johann Christoph Gotts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Ständeklau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lassische Regeln der Tragö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otthold Ephraim 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heaterst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than der Weise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die Ringparabe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Human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Toleranz der Reli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08116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940040" cy="249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Verdana"/>
              </a:rPr>
              <a:t>Ende der Präsent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54:38Z</dcterms:created>
  <dc:creator>Mondriaan</dc:creator>
  <dc:description/>
  <dc:language>en-US</dc:language>
  <cp:lastModifiedBy>Jos Gulpen</cp:lastModifiedBy>
  <dcterms:modified xsi:type="dcterms:W3CDTF">2011-12-07T10:01:31Z</dcterms:modified>
  <cp:revision>13</cp:revision>
  <dc:subject/>
  <dc:title>die Zeit der Aufklärung</dc:title>
</cp:coreProperties>
</file>