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82D-E99F-4A9B-85BC-A84DB124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30D-FFA5-4569-80ED-BEA122EB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5EC-8632-4AF4-AD62-03444F24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5D5-CBD6-41FF-9BE2-FE1B79A9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2C35-03B1-4E13-A3E3-5F2A3E7E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6E30-1047-4587-93A2-AB743CA8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4D6F-EAF1-48E1-8DB0-039C6068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0D9B-656F-45AE-B13F-052D069A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2386-C901-434A-BAA4-7C501585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DE3B-2D96-4D95-BB0C-13AA568D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50E1-C155-4624-A877-F0568D92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53B-4F3D-4B2B-BC1E-6D42C060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6751-25F6-42A4-9D72-259A8ACD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0999-9F1C-4A49-8DE0-ABABF4C7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5A08-95E7-4E8D-9AD4-9F76AFA4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1763-FB8C-4B39-8584-4D1AB1E4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F345-0758-490D-8F98-2CE73BF5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D6B-B8E9-4C33-95A7-DA1F72C1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5E4-9B72-49A2-B805-DD613B5E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24A-7883-4AAB-AC60-1CC37539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5EF-3CB6-4BE0-B41F-8B6CA529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ADA-9476-49C0-B0BC-B2EB54F8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DD6-32B6-4804-8D8E-A71FD77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A07-DDA0-49DC-8ADF-E1C5235C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1433-524A-4EA7-9055-814517D60E2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D522-30CE-431F-81C3-5DF5F8A7549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6633"/>
                </a:solidFill>
                <a:latin typeface="Garamond"/>
              </a:rPr>
              <a:t>Die Entwicklung der deutschen Sprach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00536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n der indoeuropäischen ‘Ursprache’ zur neuhochdeutschen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‘Ursprache’: Indoeuropäis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 denkt, dass diese Sprachen auf Grund der Grammatik, des Wortschatzes und der Entwicklungen zu einer großen Sprachfamilie gehö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51280" y="278136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6633"/>
                </a:solidFill>
                <a:latin typeface="Arial"/>
              </a:rPr>
              <a:t>Indoeuropäis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3573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iech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87280" y="4292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ta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435640" y="47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elt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635280" y="4076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altisch &amp; Slaw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227640" y="3933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rma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58800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usgestorbene 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2124000" y="3284280"/>
            <a:ext cx="2303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2195640" y="3357720"/>
            <a:ext cx="252072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4643280" y="3357720"/>
            <a:ext cx="14472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219640" y="3357720"/>
            <a:ext cx="50472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 flipV="1">
            <a:off x="5508360" y="3357360"/>
            <a:ext cx="863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 flipV="1">
            <a:off x="5651280" y="3213000"/>
            <a:ext cx="93636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18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Indoeuropäische Erbwörter (Bsp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paar Beispiele von ‘Urwörter’ des Indoeuropäis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rman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niederlä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i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e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tal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latein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è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französ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oi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iech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eí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alti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aya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á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6877080" y="1989000"/>
            <a:ext cx="0" cy="3888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539640" y="3284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39640" y="4508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39640" y="544500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9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deutsche Sprach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thochdeuts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 750-10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ttelhochdeutsch ( 1050-13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uhochdeutsch ( 1350-……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ühmittelalter 500-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prägt von Kirche und B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ölkerwa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ligen und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rseburger Zaubersprü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ldebrands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istliche Lit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ngelienharmon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ö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fbeelding 3" descr="Codex_Manesse_Walther_von_der_Vogelweide.jpg"/>
          <p:cNvPicPr/>
          <p:nvPr/>
        </p:nvPicPr>
        <p:blipFill>
          <a:blip r:embed="rId1"/>
          <a:stretch/>
        </p:blipFill>
        <p:spPr>
          <a:xfrm>
            <a:off x="5508720" y="1197000"/>
            <a:ext cx="3047760" cy="424188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4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as Hildebrandlied (Ahd. 8. Jh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Lied aus der ältesten Periode der ‘deutschen’ Sprache (750-1050 n.Chr.)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71640" y="2565360"/>
            <a:ext cx="43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sagetun mi , usere liu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71640" y="3068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 erzählten mir, unsere Leu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3500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te anti frote , dea erhina varun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71640" y="3933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alte und erfahrene, die vordem wa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71640" y="4365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hiltibrant haetti min fater , ih heittu hadub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71640" y="4797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s mein Vater Hildebrand hieße, ich heiße Hadubran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7164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n het ostar gihueit , floh het otachres n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971640" y="57340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In der Vorzeit ging er nach Osten, floh er vor Odoakers H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619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chmittelalter 1180 - 1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öfische Liter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lshaus der Staufe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iedrich I Barbar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dene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tter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nes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euz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Afbeelding 4" descr="wolfram_von_eschenbach.jpg"/>
          <p:cNvPicPr/>
          <p:nvPr/>
        </p:nvPicPr>
        <p:blipFill>
          <a:blip r:embed="rId1"/>
          <a:stretch/>
        </p:blipFill>
        <p:spPr>
          <a:xfrm>
            <a:off x="5508720" y="1413000"/>
            <a:ext cx="2950920" cy="425124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90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ätmittelalter 1250 -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twicklung der Städ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t der Reichs- und Kurfür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fsteigendes Bürger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terarische 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wank (lustiger Einf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ent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tnachtspiel (Vorläufer des Dra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Wolgemut_-_1493_-_tanz_der_gerippe.jpg"/>
          <p:cNvPicPr/>
          <p:nvPr/>
        </p:nvPicPr>
        <p:blipFill>
          <a:blip r:embed="rId1"/>
          <a:stretch/>
        </p:blipFill>
        <p:spPr>
          <a:xfrm>
            <a:off x="5580000" y="3357720"/>
            <a:ext cx="3095640" cy="26208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6" descr="logoma.jpg"/>
          <p:cNvPicPr/>
          <p:nvPr/>
        </p:nvPicPr>
        <p:blipFill>
          <a:blip r:embed="rId2"/>
          <a:stretch/>
        </p:blipFill>
        <p:spPr>
          <a:xfrm>
            <a:off x="5076720" y="907920"/>
            <a:ext cx="2735280" cy="2230560"/>
          </a:xfrm>
          <a:prstGeom prst="rect">
            <a:avLst/>
          </a:prstGeom>
          <a:ln w="0">
            <a:noFill/>
          </a:ln>
        </p:spPr>
      </p:pic>
      <p:sp>
        <p:nvSpPr>
          <p:cNvPr id="137" name="Tekstvak 7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Nach dem Mittelalter 1500 - 1600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anismus: heliozentrische Bewegung, human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aissance: Wiedergeburt der antiken 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ormation: wichtig für Nhd. Spra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Bibelübersetz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tdeckung der Buchdruckkunst 1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martin-luther-540x304.jpg"/>
          <p:cNvPicPr/>
          <p:nvPr/>
        </p:nvPicPr>
        <p:blipFill>
          <a:blip r:embed="rId1"/>
          <a:stretch/>
        </p:blipFill>
        <p:spPr>
          <a:xfrm>
            <a:off x="2050920" y="3141720"/>
            <a:ext cx="4694400" cy="2641680"/>
          </a:xfrm>
          <a:prstGeom prst="rect">
            <a:avLst/>
          </a:prstGeom>
          <a:ln w="0">
            <a:noFill/>
          </a:ln>
        </p:spPr>
      </p:pic>
      <p:sp>
        <p:nvSpPr>
          <p:cNvPr id="141" name="Tekstvak 5"/>
          <p:cNvSpPr/>
          <p:nvPr/>
        </p:nvSpPr>
        <p:spPr>
          <a:xfrm>
            <a:off x="2771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tin Lu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kstvak 6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9:22:25Z</dcterms:created>
  <dc:creator>Jos Gulpen</dc:creator>
  <dc:description/>
  <dc:language>en-US</dc:language>
  <cp:lastModifiedBy>glp</cp:lastModifiedBy>
  <dcterms:modified xsi:type="dcterms:W3CDTF">2015-03-12T08:33:42Z</dcterms:modified>
  <cp:revision>15</cp:revision>
  <dc:subject/>
  <dc:title>Die Entwicklung der deutschen Sprache</dc:title>
</cp:coreProperties>
</file>