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A2EF-14F1-4411-9539-E7A3B849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B8CD-9A4F-461A-8F4F-6A0AD3DE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C92F-D67D-4215-87AC-F8C2EFF2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D74-5E44-4B48-ADCC-7F26326D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8C37-9503-4F4C-AE2F-9D365BDE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7DA5-2823-4546-85D7-6E80E733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4414-D95E-4438-B23D-84987926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76BF-E592-46B9-9BA8-8873DABB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5DF5-8853-46DE-A547-539DA594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E2E9-66CE-4EB3-A9E7-AF4D690B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E0B-8A0E-4C34-80FD-9300A8B6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627F-A90B-44C5-9534-496A9B44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400B-6403-42A8-92A1-68E528AD5C3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eutschegeschichten.tv/popup/set.asp?OzIID=6880&amp;ObjKatID=101&amp;ThemaKatID=1004&amp;Qlt=DS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ümmer- &amp; Nachkriegsliteratur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5 - 19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zerstoertes_dresden1"/>
          <p:cNvPicPr/>
          <p:nvPr/>
        </p:nvPicPr>
        <p:blipFill>
          <a:blip r:embed="rId1"/>
          <a:stretch/>
        </p:blipFill>
        <p:spPr>
          <a:xfrm>
            <a:off x="1258920" y="1916280"/>
            <a:ext cx="6624720" cy="43988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utschland 1945- Stunde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Kriegszerstö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Städte zerbomb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keine Industrie &amp; Versorgungseinricht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Mangel an Lebensmittel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Flüchtlinge der Ostgebi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Rückkehr der Kriegsgefange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Ende als Anf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Neuaufbau: Trümmerfrau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truemmerfrauen_berl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852640"/>
            <a:ext cx="3073680" cy="3380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tstehung der Nachkriegsliteratur 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Proble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völlig fremd mit der Weltliterat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Exilwerke wurden bekan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Umgang mit der NS-Geschich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95280" y="3716280"/>
            <a:ext cx="7561440" cy="14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Neue Ström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Trümmerliteratur (bis 194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Gruppe 47 (ab 194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tstehung der Nachkriegsliteratur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403848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el: das Berichten von der Zerstör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arn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ückblick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8000" y="2781000"/>
            <a:ext cx="353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el: Neuanfa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ufklärung und Erziehung zur Demokrat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lick in die Zukun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95280" y="191628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Trümmerliterat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572000" y="198900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Gruppe 4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rümmerliterat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Beispiele von Schriftstell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Wolfgang Borch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.a.: Draußen vor der Tü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e Hundeb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chts schlafen die Ratten do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Heinrich Bö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.a.: Der Zug war pünktli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nderer kommst du nach Spa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s Brot der frühen Jah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us ohne Hü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orchert"/>
          <p:cNvPicPr/>
          <p:nvPr/>
        </p:nvPicPr>
        <p:blipFill>
          <a:blip r:embed="rId2"/>
          <a:stretch/>
        </p:blipFill>
        <p:spPr>
          <a:xfrm>
            <a:off x="6804000" y="1557360"/>
            <a:ext cx="1652760" cy="2098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hboll"/>
          <p:cNvPicPr/>
          <p:nvPr/>
        </p:nvPicPr>
        <p:blipFill>
          <a:blip r:embed="rId3"/>
          <a:stretch/>
        </p:blipFill>
        <p:spPr>
          <a:xfrm>
            <a:off x="6804000" y="4005360"/>
            <a:ext cx="1619280" cy="2227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ruppe 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Beispiele von Schriftstell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Siegfried Len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.a.: Es waren Habichte in der Lu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r Mann im St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Alfred Anders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.a.: Sansibar oder der letzte Gr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irschen der Freihe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180px-Bundesarchiv_B_145_Bild-F030757-0015,_Siegfried_Lenz"/>
          <p:cNvPicPr/>
          <p:nvPr/>
        </p:nvPicPr>
        <p:blipFill>
          <a:blip r:embed="rId2"/>
          <a:stretch/>
        </p:blipFill>
        <p:spPr>
          <a:xfrm>
            <a:off x="6372360" y="1557360"/>
            <a:ext cx="169200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andersch_site"/>
          <p:cNvPicPr/>
          <p:nvPr/>
        </p:nvPicPr>
        <p:blipFill>
          <a:blip r:embed="rId3"/>
          <a:stretch/>
        </p:blipFill>
        <p:spPr>
          <a:xfrm>
            <a:off x="6372360" y="4149720"/>
            <a:ext cx="1655640" cy="20019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eiter lesen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Benutze folgende Quellen für mehrere Information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492280"/>
            <a:ext cx="8209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iteraturwelt.com/epochen/nachkrieg.html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http://www.duits.de/literatuur/truemmerliteratur.php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8:07:23Z</dcterms:created>
  <dc:creator>Jos Gulpen</dc:creator>
  <dc:description/>
  <dc:language>en-US</dc:language>
  <cp:lastModifiedBy>Jos Gulpen</cp:lastModifiedBy>
  <dcterms:modified xsi:type="dcterms:W3CDTF">2010-10-06T22:25:11Z</dcterms:modified>
  <cp:revision>12</cp:revision>
  <dc:subject/>
  <dc:title>Trümmer- &amp; Nachkriegsliteratur 1945 - 1949</dc:title>
</cp:coreProperties>
</file>