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E75-E3AD-43E0-A37C-E763BA84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640-AFC0-47CF-B15B-A3920534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BE8-46F3-4E66-9119-179F2484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FD6-2677-42F4-BD0E-F0C93422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6318-0313-4716-B380-75A94CCD6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A637-BC37-4338-AF50-FF2DF123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F1F1-0FE8-4009-8801-616C9BC7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0DE6-359F-4807-BA06-D8C20F60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C54B-7AB7-4E31-B070-4DD26B0A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89F2-B853-4D52-BA36-5833D8A5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8C67-4356-4E31-9A9A-69A91A6D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05D-3CE1-4DF6-96E9-00AC3C56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A673-CE5A-49B5-8986-3C6690B8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E518-356C-4214-BAF8-DF60DBA9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6048-D68C-4178-B1E2-6A0D9C97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A3F5-1663-4CE3-8A7F-B9FF81CC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8AC3-BCA7-4D27-9216-6F8777C6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FC8-438E-4F85-B09A-BA88C619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4F7-86F2-4D1A-ADCF-B633EFC6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E0D-F799-49C1-8250-1A6867B1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B60-AE36-4672-8379-CC52C025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CA5-74D5-4320-B56C-2E31EA30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5AB-E3BB-4DA2-8AE3-24601C08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27C-17E7-431A-9591-8C03531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076B-26B1-40A9-9D2F-A6518016F3C0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B60E-C18E-40BF-B3B3-93F740F310A1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6633"/>
                </a:solidFill>
                <a:latin typeface="Garamond"/>
              </a:rPr>
              <a:t>Die Entwicklung der deutschen Sprach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47640" y="400536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n der indoeuropäischen ‘Ursprache’ zur neuhochdeutschen Spr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‘Ursprache’: Indoeuropäisch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n denkt, dass diese Sprachen auf Grund der Grammatik, des Wortschatzes und der Entwicklungen zu einer großen Sprachfamilie gehö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51280" y="2781360"/>
            <a:ext cx="23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6633"/>
                </a:solidFill>
                <a:latin typeface="Arial"/>
              </a:rPr>
              <a:t>Indoeuropäis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84360" y="3573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iech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187280" y="429264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tal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435640" y="4724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elt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635280" y="407664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altisch &amp; Slaw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227640" y="393372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rma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58800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usgestorbene Spr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 flipV="1">
            <a:off x="2124000" y="3284280"/>
            <a:ext cx="230364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 flipV="1">
            <a:off x="2195640" y="3357720"/>
            <a:ext cx="2520720" cy="10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 flipH="1">
            <a:off x="4643280" y="3357720"/>
            <a:ext cx="144720" cy="71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5219640" y="3357720"/>
            <a:ext cx="50472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 flipH="1" flipV="1">
            <a:off x="5508360" y="3357360"/>
            <a:ext cx="86364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 flipH="1" flipV="1">
            <a:off x="5651280" y="3213000"/>
            <a:ext cx="93636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18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Indoeuropäische Erbwörter (Bsp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paar Beispiele von ‘Urwörter’ des Indoeuropäis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rman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niederlä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i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eut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drei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ngl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tal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latein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è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französ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oi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iech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reí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s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disch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altindisch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trayas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000000"/>
                </a:solidFill>
                <a:latin typeface="Arial"/>
              </a:rPr>
              <a:t>á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6877080" y="1989000"/>
            <a:ext cx="0" cy="3888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539640" y="3284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539640" y="450864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7"/>
          <p:cNvSpPr/>
          <p:nvPr/>
        </p:nvSpPr>
        <p:spPr>
          <a:xfrm>
            <a:off x="539640" y="5445000"/>
            <a:ext cx="75614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kstvak 9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deutsche Sprach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thochdeutsch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( 750-10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ittelhochdeutsch ( 1050-1350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euhochdeutsch ( 1350-…… n.Chr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114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ühmittelalter 500-1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prägt von Kirche und Bi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ölkerwand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ligen und Ki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rseburger Zaubersprü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ldebrands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istliche Litera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ngelienharmon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öb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fbeelding 3" descr="Codex_Manesse_Walther_von_der_Vogelweide.jpg"/>
          <p:cNvPicPr/>
          <p:nvPr/>
        </p:nvPicPr>
        <p:blipFill>
          <a:blip r:embed="rId1"/>
          <a:stretch/>
        </p:blipFill>
        <p:spPr>
          <a:xfrm>
            <a:off x="5508720" y="1197000"/>
            <a:ext cx="3047760" cy="4241880"/>
          </a:xfrm>
          <a:prstGeom prst="rect">
            <a:avLst/>
          </a:prstGeom>
          <a:ln w="0">
            <a:noFill/>
          </a:ln>
        </p:spPr>
      </p:pic>
      <p:sp>
        <p:nvSpPr>
          <p:cNvPr id="117" name="Tekstvak 4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as Hildebrandlied (Ahd. 8. Jh.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 Lied aus der ältesten Periode der ‘deutschen’ Sprache (750-1050 n.Chr.)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71640" y="2565360"/>
            <a:ext cx="43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sagetun mi , usere liu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971640" y="3068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 erzählten mir, unsere Leu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71640" y="350028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te anti frote , dea erhina varun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71640" y="3933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alte und erfahrene, die vordem war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971640" y="4365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hiltibrant haetti min fater , ih heittu hadub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971640" y="47973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dass mein Vater Hildebrand hieße, ich heiße Hadubran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971640" y="530064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n het ostar gihueit , floh het otachres n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971640" y="57340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6633"/>
                </a:solidFill>
                <a:latin typeface="Arial"/>
              </a:rPr>
              <a:t>In der Vorzeit ging er nach Osten, floh er vor Odoakers H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kstvak 13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6195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chmittelalter 1180 - 1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öfische Literat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lshaus der Staufer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iedrich I Barbaro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ch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ldene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tterd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nnes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reuz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Afbeelding 4" descr="wolfram_von_eschenbach.jpg"/>
          <p:cNvPicPr/>
          <p:nvPr/>
        </p:nvPicPr>
        <p:blipFill>
          <a:blip r:embed="rId1"/>
          <a:stretch/>
        </p:blipFill>
        <p:spPr>
          <a:xfrm>
            <a:off x="5508720" y="1413000"/>
            <a:ext cx="2950920" cy="4251240"/>
          </a:xfrm>
          <a:prstGeom prst="rect">
            <a:avLst/>
          </a:prstGeom>
          <a:ln w="0">
            <a:noFill/>
          </a:ln>
        </p:spPr>
      </p:pic>
      <p:sp>
        <p:nvSpPr>
          <p:cNvPr id="132" name="Tekstvak 5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Die Literatur im Mittelalter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906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ätmittelalter 1250 -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twicklung der Städ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cht der Reichs- und Kurfür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fsteigendes Bürger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terarische F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wank (lustiger Einf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enta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astnachtspiel (Vorläufer des Dra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5" descr="Wolgemut_-_1493_-_tanz_der_gerippe.jpg"/>
          <p:cNvPicPr/>
          <p:nvPr/>
        </p:nvPicPr>
        <p:blipFill>
          <a:blip r:embed="rId1"/>
          <a:stretch/>
        </p:blipFill>
        <p:spPr>
          <a:xfrm>
            <a:off x="5580000" y="3357720"/>
            <a:ext cx="3095640" cy="2620800"/>
          </a:xfrm>
          <a:prstGeom prst="rect">
            <a:avLst/>
          </a:prstGeom>
          <a:ln w="0">
            <a:noFill/>
          </a:ln>
        </p:spPr>
      </p:pic>
      <p:pic>
        <p:nvPicPr>
          <p:cNvPr id="136" name="Afbeelding 6" descr="logoma.jpg"/>
          <p:cNvPicPr/>
          <p:nvPr/>
        </p:nvPicPr>
        <p:blipFill>
          <a:blip r:embed="rId2"/>
          <a:stretch/>
        </p:blipFill>
        <p:spPr>
          <a:xfrm>
            <a:off x="5076720" y="907920"/>
            <a:ext cx="2735280" cy="2230560"/>
          </a:xfrm>
          <a:prstGeom prst="rect">
            <a:avLst/>
          </a:prstGeom>
          <a:ln w="0">
            <a:noFill/>
          </a:ln>
        </p:spPr>
      </p:pic>
      <p:sp>
        <p:nvSpPr>
          <p:cNvPr id="137" name="Tekstvak 7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33"/>
                </a:solidFill>
                <a:latin typeface="Garamond"/>
              </a:rPr>
              <a:t>Nach dem Mittelalter 1500 - 1600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002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manismus: heliozentrische Bewegung, human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aissance: Wiedergeburt der antiken Kult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ormation: wichtig für Nhd. Sprach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Bibelübersetz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ntdeckung der Buchdruckkunst 14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martin-luther-540x304.jpg"/>
          <p:cNvPicPr/>
          <p:nvPr/>
        </p:nvPicPr>
        <p:blipFill>
          <a:blip r:embed="rId1"/>
          <a:stretch/>
        </p:blipFill>
        <p:spPr>
          <a:xfrm>
            <a:off x="2050920" y="3141720"/>
            <a:ext cx="4694400" cy="2641680"/>
          </a:xfrm>
          <a:prstGeom prst="rect">
            <a:avLst/>
          </a:prstGeom>
          <a:ln w="0">
            <a:noFill/>
          </a:ln>
        </p:spPr>
      </p:pic>
      <p:sp>
        <p:nvSpPr>
          <p:cNvPr id="141" name="Tekstvak 5"/>
          <p:cNvSpPr/>
          <p:nvPr/>
        </p:nvSpPr>
        <p:spPr>
          <a:xfrm>
            <a:off x="2771640" y="580536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rtin Lu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kstvak 6"/>
          <p:cNvSpPr/>
          <p:nvPr/>
        </p:nvSpPr>
        <p:spPr>
          <a:xfrm>
            <a:off x="755640" y="6381720"/>
            <a:ext cx="756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d9d9d9"/>
                </a:solidFill>
                <a:latin typeface="Arial"/>
              </a:rPr>
              <a:t>Deutsch Oberstufe - Die Entwicklung der deutschen Sprache und die Literatur des Mittelalters - JG.03.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9:22:25Z</dcterms:created>
  <dc:creator>Jos Gulpen</dc:creator>
  <dc:description/>
  <dc:language>en-US</dc:language>
  <cp:lastModifiedBy>glp</cp:lastModifiedBy>
  <dcterms:modified xsi:type="dcterms:W3CDTF">2015-03-12T08:33:42Z</dcterms:modified>
  <cp:revision>15</cp:revision>
  <dc:subject/>
  <dc:title>Die Entwicklung der deutschen Sprache</dc:title>
</cp:coreProperties>
</file>