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697-9FD0-4667-B63F-A74C61B2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888-8D6F-4DFF-B9A6-13DB3E4F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50A-CB25-47AC-978E-1E9C23FF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5A0-662A-4CED-AD2C-8B78A5B7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AB72-5F41-43A4-879E-5F0CAFED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CA66-FCB8-4B7A-872D-173E14DA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8523-DDC2-4B20-8409-A9E3E116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7BE1-E32A-42EC-B08E-FCC95EC6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0E9-62B4-4A4D-9A85-53223FD4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8CCA-64BF-464A-B5C1-FB278996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6FD7-1FEC-4FD6-858B-609442E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614-9C08-48AB-AD13-26353D16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FCCE-672C-4336-AEED-EFF7762D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652-ABF5-405F-9D6B-DDE45BF3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FD04-F465-4758-A79A-6D8C69CF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1575-2E74-4609-B1E1-267A8DAD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0B19-8410-4F40-AADB-74D43762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548-5CEF-47A0-A7A7-61E9FEEF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332-A42E-400B-A664-F5046E06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EC6-BEF7-43FE-9CAE-FE98B54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23D-5C67-49C8-9FE0-4771DF78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DFB-CB16-4A69-BE3B-CC3BBC4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4EC-9D76-4F54-97DC-16479A6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778-C014-477F-AE40-6269ACA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6DF8-A018-40C6-B58D-86F362B4C63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A3A5-F2A6-4439-A2F8-9C02455EB50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6633"/>
                </a:solidFill>
                <a:latin typeface="Garamond"/>
              </a:rPr>
              <a:t>Die Entwicklung der deutschen Sprach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n der indoeuropäischen ‘Ursprache’ zur neuhochdeutschen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‘Ursprache’: Indoeuropäis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 denkt, dass diese Sprachen auf Grund der Grammatik, des Wortschatzes und der Entwicklungen zu einer großen Sprachfamilie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51280" y="2781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6633"/>
                </a:solidFill>
                <a:latin typeface="Arial"/>
              </a:rPr>
              <a:t>Indoeuropä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3573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iech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8728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ta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3564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el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35280" y="4076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ltisch &amp; Slaw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227640" y="39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rma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58800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usgestorbene 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124000" y="3284280"/>
            <a:ext cx="2303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2195640" y="3357720"/>
            <a:ext cx="252072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4643280" y="3357720"/>
            <a:ext cx="14472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219640" y="3357720"/>
            <a:ext cx="504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 flipV="1">
            <a:off x="5508360" y="3357360"/>
            <a:ext cx="863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5651280" y="3213000"/>
            <a:ext cx="93636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18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Indoeuropäische Erbwörter (Bsp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paar Beispiele von ‘Urwörter’ des Indoeuropäis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rman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iederlä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i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tal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atein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è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französ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iech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eí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alti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aya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á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6877080" y="1989000"/>
            <a:ext cx="0" cy="3888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9640" y="3284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39640" y="4508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9640" y="544500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deutsche Sprac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thochdeuts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 750-10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ttelhochdeutsch ( 1050-13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uhochdeutsch ( 1350-……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ühmittelalter 500-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prägt von Kirche und B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ölkerwa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ligen und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rseburger Zaubersprü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ldebrands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istliche Lit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ngelienharmon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ö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fbeelding 3" descr="Codex_Manesse_Walther_von_der_Vogelweide.jpg"/>
          <p:cNvPicPr/>
          <p:nvPr/>
        </p:nvPicPr>
        <p:blipFill>
          <a:blip r:embed="rId1"/>
          <a:stretch/>
        </p:blipFill>
        <p:spPr>
          <a:xfrm>
            <a:off x="5508720" y="1197000"/>
            <a:ext cx="304776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4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as Hildebrandlied (Ahd. 8. Jh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Lied aus der ältesten Periode der ‘deutschen’ Sprache (750-1050 n.Chr.)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256536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sagetun mi , usere li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306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 erzählten mir, unsere Leu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3500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te anti frote , dea erhina varun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7164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alte und erfahrene, die vordem wa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71640" y="4365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hiltibrant haetti min fater , ih heittu hadub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4797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s mein Vater Hildebrand hieße, ich heiße Hadubran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7164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n het ostar gihueit , floh het otachres n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71640" y="57340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In der Vorzeit ging er nach Osten, floh er vor Odoakers H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619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chmittelalter 1180 -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öfische Lite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lshaus der Stauf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iedrich I Barbar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dene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tter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nes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euz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Afbeelding 4" descr="wolfram_von_eschenbach.jpg"/>
          <p:cNvPicPr/>
          <p:nvPr/>
        </p:nvPicPr>
        <p:blipFill>
          <a:blip r:embed="rId1"/>
          <a:stretch/>
        </p:blipFill>
        <p:spPr>
          <a:xfrm>
            <a:off x="5508720" y="1413000"/>
            <a:ext cx="2950920" cy="425124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ätmittelalter 1250 -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twicklung der Stä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t der Reichs- und Kurfür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fsteigendes Bürger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terarisch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wank (lustiger Einf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ent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tnachtspiel (Vorläufer des D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Wolgemut_-_1493_-_tanz_der_gerippe.jpg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6208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6" descr="logoma.jpg"/>
          <p:cNvPicPr/>
          <p:nvPr/>
        </p:nvPicPr>
        <p:blipFill>
          <a:blip r:embed="rId2"/>
          <a:stretch/>
        </p:blipFill>
        <p:spPr>
          <a:xfrm>
            <a:off x="5076720" y="907920"/>
            <a:ext cx="2735280" cy="2230560"/>
          </a:xfrm>
          <a:prstGeom prst="rect">
            <a:avLst/>
          </a:prstGeom>
          <a:ln w="0">
            <a:noFill/>
          </a:ln>
        </p:spPr>
      </p:pic>
      <p:sp>
        <p:nvSpPr>
          <p:cNvPr id="137" name="Tekstvak 7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Nach dem Mittelalter 1500 - 160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anismus: heliozentrische Bewegung, human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aissance: Wiedergeburt der antiken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ormation: wichtig für Nhd. Spra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Bibelübersetz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tdeckung der Buchdruckkunst 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martin-luther-540x304.jpg"/>
          <p:cNvPicPr/>
          <p:nvPr/>
        </p:nvPicPr>
        <p:blipFill>
          <a:blip r:embed="rId1"/>
          <a:stretch/>
        </p:blipFill>
        <p:spPr>
          <a:xfrm>
            <a:off x="2050920" y="3141720"/>
            <a:ext cx="469440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kstvak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vak 6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9:22:25Z</dcterms:created>
  <dc:creator>Jos Gulpen</dc:creator>
  <dc:description/>
  <dc:language>en-US</dc:language>
  <cp:lastModifiedBy>glp</cp:lastModifiedBy>
  <dcterms:modified xsi:type="dcterms:W3CDTF">2015-03-12T08:33:42Z</dcterms:modified>
  <cp:revision>15</cp:revision>
  <dc:subject/>
  <dc:title>Die Entwicklung der deutschen Sprache</dc:title>
</cp:coreProperties>
</file>