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E492-8F02-468E-B917-AE788B60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E5BA-41E0-4F07-83E2-A62C55FE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6B76-0E3C-4CAC-AC8E-B73434C0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07F2-535E-4279-9621-FF2F93E42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85F8-8F2B-47E5-A1F6-D2F792A2E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0B1A-3AD6-411D-A155-155556A6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9797-2F2E-415B-A958-3D3A8E31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1A74-5E25-4B21-B28A-C7A469CE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3FA8-C4C0-46E5-84E5-13024B9A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5B95-019D-4DE6-A4BE-F6C4015B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2150-BD86-4E35-ACC2-50A53B3C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0ACF-A775-4FBA-A9D7-B3AF6AB0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CD3B-8BEC-4593-9961-FA7CE3D9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645C-7A8D-47EF-A1FF-860BB4DB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0B72-282D-4D43-ACB2-0903003F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AEE5C-C996-4EF8-8184-CC1AADDF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8495-14D4-45D3-AB42-3D2E6D3E3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31A9-D2FB-4ED7-ADCD-FE1A8DAB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49E2-7FAF-4656-82B5-C548886D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C324-E8C5-414A-B2CE-2355C7A6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C14F-6EEA-4BB4-BC66-84D0535F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B515-07E0-43CF-A91D-FE465D1A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73F2-A31D-4F07-9F3D-4BD77E4E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3EE4-369D-4732-9BD3-2CC542FB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2250-CCED-494A-BBE2-34FEE7A459C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7288-0578-4629-B65C-C5C104B7631B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1767960"/>
            <a:ext cx="84978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b9efee"/>
                </a:solidFill>
                <a:latin typeface="Garamond"/>
              </a:rPr>
              <a:t>Literatur im ‘Dritten Reich’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Garamond"/>
              </a:rPr>
              <a:t>1933-1945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Die Machtergreifu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ie NS ergreifen 1933 die Mac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ie ‘Säuberung’ der deutschen Literat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ücherverbrennung Mai 193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lle Künstler Mitglied der Reichskulturkammer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Oppositionsschriftsteller überwacht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Oppositionsschriftsteller ins KZ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b9efee"/>
                </a:solidFill>
                <a:latin typeface="Garamond"/>
              </a:rPr>
              <a:t>Die Literatur in der NS-Zeit: 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Exilliterat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iderstandsliteratur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innere Emigration 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öffentlichte Widerstandsliteratu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lut und Boden-Literatu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Exilliteratu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iele Autoren flohen aus Deutschlan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u.a. Bertolt Brecht, Thomas Mann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m Exil den Fascismus bekämpf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Widerstandsliteratur:</a:t>
            </a:r>
            <a:br>
              <a:rPr sz="4400"/>
            </a:b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innere Emigration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Opposition / Widerstand in Deutschla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-politische Them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ie Menschlichkeit, Verbundenheit -&gt; Nat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z.B. Ernst Wiechert und Werner Bergengrue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öffentliche Widerstandsliteratur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öffentlicher Widerstand gegen den Fascism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eimliche Veröffentlichung ihrer Werk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z.B. Jan Petersen und Wolfgang Langhof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b9efee"/>
                </a:solidFill>
                <a:latin typeface="Garamond"/>
              </a:rPr>
              <a:t>Blut und Boden- Literatu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eimatdichtu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bneigung gegen die Großstadt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chwärmen für das Deutsche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idealisierter und romantisierter Rassismus (Ariër,   Germanen) 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Antisemitismus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Heldentum 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Kameradschaf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prache der NS-Autoren: geschwollen (Pathos), emotional, theatr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19:12:00Z</dcterms:created>
  <dc:creator>Jos Gulpen</dc:creator>
  <dc:description/>
  <dc:language>en-US</dc:language>
  <cp:lastModifiedBy>glp</cp:lastModifiedBy>
  <dcterms:modified xsi:type="dcterms:W3CDTF">2011-03-01T10:59:08Z</dcterms:modified>
  <cp:revision>14</cp:revision>
  <dc:subject/>
  <dc:title>Literatuur tijdens het Derde Rijk </dc:title>
</cp:coreProperties>
</file>