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E36-B785-47F3-88A0-21B3C87C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D06-2EDE-42D5-AFE8-EE6DBF9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3D3-1F68-4D27-BB15-484E8743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E168-677B-4998-9DE2-37D816D9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32C-5D3B-48F8-A6C7-32EE8CF3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E40F-FB6A-4A0F-9F00-A332A1A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DBC-E711-4FB4-BDE8-E306B511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D3E-B54E-4397-92DC-CD0073F7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4A9F-7C52-47E2-A3E8-A2B836AD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C1A-B889-4840-804B-26FD061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F6E-5BEB-467B-A942-03745233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497-3F4A-43C9-A8E5-7FBCCFF3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3D0C-EF15-4D8C-BBFC-82524EC6E2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eutschegeschichten.tv/popup/set.asp?OzIID=6880&amp;ObjKatID=101&amp;ThemaKatID=1004&amp;Qlt=DS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ümmer- &amp; Nachkriegsliteratur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5 - 19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zerstoertes_dresden1"/>
          <p:cNvPicPr/>
          <p:nvPr/>
        </p:nvPicPr>
        <p:blipFill>
          <a:blip r:embed="rId1"/>
          <a:stretch/>
        </p:blipFill>
        <p:spPr>
          <a:xfrm>
            <a:off x="1258920" y="1916280"/>
            <a:ext cx="6624720" cy="43988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Deutschland 1945- Stunde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Kriegszerstö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tädte zerbomb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keine Industrie &amp; Versorgungseinricht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Mangel an Lebensmittel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Flüchtlinge der Ostgebie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Rückkehr der Kriegsgefangen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Ende als An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Neuaufbau: Trümmerfrau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truemmerfrauen_berl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2640"/>
            <a:ext cx="3073680" cy="338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Probl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völlig fremd mit der Welt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Exilwerke wurden bekan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Umgang mit der NS-Geschich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95280" y="3716280"/>
            <a:ext cx="756144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Neue Strömun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Trümmerliteratur (bis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Gruppe 47 (ab 194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ntstehung der Nachkriegsliteratur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40384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das Berichten von der Zerstör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arn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ückblick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8000" y="2781000"/>
            <a:ext cx="353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el: Neuanfa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ufklärung und Erziehung zur Demokra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lick in die Zukun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191628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Trümmerliterat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572000" y="198900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Gruppe 4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rümmerliterat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Wolfgang Borch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raußen vor der Tü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ie Hundeblu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chts schlafen die Ratten do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Heinrich Bö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u.a.: Der Zug war pünkt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anderer kommst du nach Spa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s Brot der frühen J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aus ohne Hü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borchert"/>
          <p:cNvPicPr/>
          <p:nvPr/>
        </p:nvPicPr>
        <p:blipFill>
          <a:blip r:embed="rId2"/>
          <a:stretch/>
        </p:blipFill>
        <p:spPr>
          <a:xfrm>
            <a:off x="6804000" y="1557360"/>
            <a:ext cx="1652760" cy="2098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hboll"/>
          <p:cNvPicPr/>
          <p:nvPr/>
        </p:nvPicPr>
        <p:blipFill>
          <a:blip r:embed="rId3"/>
          <a:stretch/>
        </p:blipFill>
        <p:spPr>
          <a:xfrm>
            <a:off x="6804000" y="4005360"/>
            <a:ext cx="1619280" cy="2227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uppe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 u="sng">
                <a:solidFill>
                  <a:srgbClr val="000000"/>
                </a:solidFill>
                <a:uFillTx/>
                <a:latin typeface="Arial"/>
              </a:rPr>
              <a:t>Beispiele von Schriftstelle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Siegfried Len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Es waren Habichte in der Lu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r Mann im Str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Alfred Anders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.a.: Sansibar oder der letzte Gr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irschen der Freihe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80px-Bundesarchiv_B_145_Bild-F030757-0015,_Siegfried_Lenz"/>
          <p:cNvPicPr/>
          <p:nvPr/>
        </p:nvPicPr>
        <p:blipFill>
          <a:blip r:embed="rId2"/>
          <a:stretch/>
        </p:blipFill>
        <p:spPr>
          <a:xfrm>
            <a:off x="6372360" y="1557360"/>
            <a:ext cx="169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andersch_site"/>
          <p:cNvPicPr/>
          <p:nvPr/>
        </p:nvPicPr>
        <p:blipFill>
          <a:blip r:embed="rId3"/>
          <a:stretch/>
        </p:blipFill>
        <p:spPr>
          <a:xfrm>
            <a:off x="6372360" y="4149720"/>
            <a:ext cx="1655640" cy="2001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iter lesen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- Benutze folgende Quellen für mehrere Information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492280"/>
            <a:ext cx="8209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iteraturwelt.com/epochen/nachkrieg.htm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http://www.duits.de/literatuur/truemmerliteratur.php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95280" y="6381720"/>
            <a:ext cx="84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Literaturgeschichte Oberstufe - Trümmer- &amp; Nachkriegsliteratur – JG.27.11.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18:07:23Z</dcterms:created>
  <dc:creator>Jos Gulpen</dc:creator>
  <dc:description/>
  <dc:language>en-US</dc:language>
  <cp:lastModifiedBy>Jos Gulpen</cp:lastModifiedBy>
  <dcterms:modified xsi:type="dcterms:W3CDTF">2010-10-06T22:25:11Z</dcterms:modified>
  <cp:revision>12</cp:revision>
  <dc:subject/>
  <dc:title>Trümmer- &amp; Nachkriegsliteratur 1945 - 1949</dc:title>
</cp:coreProperties>
</file>