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C9E-FD74-4BD2-877E-C3262BE3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7F5-567D-4210-B012-06E5CABC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63B-AEBD-4D34-BB50-1298EFD2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FD4-300A-4FAC-96A7-883BD4C1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074D-50D5-4644-8E0C-047706BD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36BF-FC0A-4EE7-9B18-60255832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363E-22F7-4833-B599-E673E544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7273-9FE8-490D-9E8B-CC4151AE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D533-62EE-478C-827B-78D8018F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5B5F-F563-4F47-B3B1-32052684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2017-0A3A-4577-8DB7-3A84DD2E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CB3-FA30-4FD1-A5DB-D826FA1E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A649-EF8A-4827-9DE0-DCD0BFD1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F54F-CC3A-45C7-ACF0-01153EAD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46C7-9CF5-4787-95AC-E5ECB22B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03CD-59B5-47AA-A633-E498942E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B019-D998-4128-8195-3CAC87FE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E99-53B7-4763-A931-6614ABF1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10F9-308A-4101-8844-0461AC7F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E0FB-DAA2-45E8-844C-1F44DB65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299-42AF-420D-A37C-56E00345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ED2-B1D4-403C-8D98-73C63D91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0AD5-4EF5-4B5A-A69C-0D600E01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05E-767A-4225-895A-E4FA5E21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8344-C469-4E3C-B39B-FC030CC165F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3D30-93AB-4769-BE2B-D802DAF5ECD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67960"/>
            <a:ext cx="84978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b9efee"/>
                </a:solidFill>
                <a:latin typeface="Garamond"/>
              </a:rPr>
              <a:t>Literatur im ‘Dritten Reich’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Garamond"/>
              </a:rPr>
              <a:t>1933-194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Die Machtergreifu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NS ergreifen 1933 die Mac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‘Säuberung’ der deutschen Liter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ücherverbrennung Mai 193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lle Künstler Mitglied der Reichskulturkammer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Oppositionsschriftsteller überwacht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Oppositionsschriftsteller ins K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b9efee"/>
                </a:solidFill>
                <a:latin typeface="Garamond"/>
              </a:rPr>
              <a:t>Die Literatur in der NS-Zeit: 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Exilliter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derstandsliteratur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innere Emigration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öffentlichte Widerstandsliteratu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lut und Boden-Literatu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Exilliteratu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iele Autoren flohen aus Deutschl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u.a. Bertolt Brecht, Thomas Mann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m Exil den Fascismus bekämpf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Widerstandsliteratur:</a:t>
            </a:r>
            <a:br>
              <a:rPr sz="4400"/>
            </a:b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innere Emigration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pposition / Widerstand in Deutschl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-politische Them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Menschlichkeit, Verbundenheit -&gt; N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.B. Ernst Wiechert und Werner Bergengrue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öffentliche Widerstandsliteratur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öffentlicher Widerstand gegen den Fascis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imliche Veröffentlichung ihrer Wer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.B. Jan Petersen und Wolfgang Langho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Blut und Boden- Literatu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imatdicht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bneigung gegen die Großstadt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chwärmen für das Deutsche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idealisierter und romantisierter Rassismus (Ariër,   Germanen)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Antisemitismus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Heldentum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Kameradsch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prache der NS-Autoren: geschwollen (Pathos), emotional, theat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9:12:00Z</dcterms:created>
  <dc:creator>Jos Gulpen</dc:creator>
  <dc:description/>
  <dc:language>en-US</dc:language>
  <cp:lastModifiedBy>glp</cp:lastModifiedBy>
  <dcterms:modified xsi:type="dcterms:W3CDTF">2011-03-01T10:59:08Z</dcterms:modified>
  <cp:revision>14</cp:revision>
  <dc:subject/>
  <dc:title>Literatuur tijdens het Derde Rijk </dc:title>
</cp:coreProperties>
</file>