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5155-D4E8-4201-80D7-7EE41D62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997-9454-4A80-992A-D6DFA68A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A6E-FE56-4536-B38C-C93053B4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EE4-64E6-4EED-BDB9-180F323E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FE40-A1E6-456F-9BF2-88B81C03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EA58-9E36-478C-AE12-8A9BA1F0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03D6-176B-4E1C-AD3C-B6E11858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58F9-8462-4975-9253-344AC41D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F353-4CE2-4CBB-82D1-7755DCDD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56DE-E6E7-41A0-B58A-A7BDD964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4035-E916-43BD-BADA-CCBA977E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6AA-6075-495E-BDC8-FC5CB42B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04DB-8A0B-4D44-9FF9-EA37FB18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BB47-9A3E-44BF-AE11-C45CD4C7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5627-9935-42D5-8F67-05795028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4842-1FFF-43D4-9395-C244D2F1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6420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6280" y="376524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76212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6420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6280" y="4840200"/>
            <a:ext cx="24778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12D6-D39B-4759-A27E-3DAD8F39D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C9A-1BE0-4A93-B823-4B286561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F30B-C3B8-47A4-BD76-4AF8282B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D16-53BB-4493-8A04-5837CEBB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930-AFFF-456C-9F65-E5950524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7049-FE24-462C-91D4-0DB55FBA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05920" y="484020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931-F30D-40EB-A92A-5F6482E7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3765240"/>
            <a:ext cx="375552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840200"/>
            <a:ext cx="769608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959F-E6AD-47FF-A017-E0CAC8BC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DA46-F220-4B9B-8B9E-488D23EE75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834F-4A55-4D64-B1B9-CA8B3ED642D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://www.marxists.org/glossary/people/k/pics/kant.jpg&amp;imgrefurl=http://www.marxists.org/glossary/people/k/a.htm&amp;usg=__Va0SAlQsbMhd9pwZSrzmdfBqc5E=&amp;h=356&amp;w=264&amp;sz=11&amp;hl=nl&amp;start=3&amp;um=1&amp;tbnid=SQ8rcw8wNlhaFM:&amp;tbnh=121&amp;tbnw=90&amp;prev=/images%3Fq%3DImmanuel%2BKant%26hl%3Dnl%26um%3D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Verdana"/>
              </a:rPr>
              <a:t>die Aufklärung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769608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 Gesellschaft und die Literatur der Aufklär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m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. Jahrhund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16360" y="206064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Gesellschaft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507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Reaktion auf den Mittelalter und die Renaiss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ie dunkle Zeit des Unwisse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iegeszug der modernen Naturwissenschaften (Empirism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tatt kirchlicher Lehre -&gt; Vernunft (Rati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Einführung der allgemeinen Schulpfl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Auffass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„Der Mensch ist in sich gut“ -&gt; Optim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er Mensch als Individuum und denkendes 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Toleranz: Religion &amp; Pädagogi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idaktische Litera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0000"/>
                </a:solidFill>
                <a:latin typeface="Verdana"/>
              </a:rPr>
              <a:t>die Politik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660000"/>
                </a:solidFill>
                <a:latin typeface="Verdana"/>
              </a:rPr>
              <a:t>Der Staat</a:t>
            </a:r>
            <a:r>
              <a:rPr b="0" lang="de-DE" sz="2400" spc="-1" strike="noStrike">
                <a:solidFill>
                  <a:srgbClr val="66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Absolut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Deutschland: eine Kleinstaate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Standesethik vs. Vernunfteth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Basis der Demokrat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z.B. Voltaire, Montesquie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* französische Revolution (1789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580000" y="2708280"/>
            <a:ext cx="2521080" cy="2421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292720" y="5229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Friedrich II (Preuß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Philosophie                           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660000"/>
                </a:solidFill>
                <a:latin typeface="Verdana"/>
              </a:rPr>
              <a:t>René Dec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“Cogito ergo sum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wissenschaftlich &amp; theologisc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660000"/>
                </a:solidFill>
                <a:latin typeface="Verdana"/>
              </a:rPr>
              <a:t>Immanuel Ka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der Mensch als selbstdenkendes Wes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* Erziehung als Bas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1859040" cy="2303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3573360"/>
            <a:ext cx="1873080" cy="2303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Philosophie                          I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Zitate (K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Habe den Mut, dich deines eigenen Verstandes zu bediene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Aufklärung ist der Ausgang des Menschen aus seiner selbstverschuldeten Unmündigkeit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“Handle so, dass die Maxime deines Willens jederzeit zugleich als Prinzip einer allgemeinen Gesetzgebung gelten könne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Literatur                               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Themen</a:t>
            </a:r>
            <a:br>
              <a:rPr sz="2000"/>
            </a:b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Toleran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Humanit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Kritik auf traditionelle Antwor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Vernunftsreligion vs. Offenbarungsrelig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Nachdenken über den absolutistischen St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844640"/>
            <a:ext cx="41148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Gat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didaktische D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lehrhafte Kleinform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Fabel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Parabe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0000"/>
                </a:solidFill>
                <a:latin typeface="Verdana"/>
              </a:rPr>
              <a:t>die Literatur                              II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Johann Christoph Gottsch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Ständeklau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klassische Regeln der Tragö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Gotthold Ephraim L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Theaterstüc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* Nathan der Weise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‘die Ringparabel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Humanitä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- Toleranz der Relig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940360" y="3933720"/>
            <a:ext cx="2081160" cy="237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04000" y="1413000"/>
            <a:ext cx="1940040" cy="2493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696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0000"/>
                </a:solidFill>
                <a:latin typeface="Verdana"/>
              </a:rPr>
              <a:t>Ende der Präsentati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87640" y="2997360"/>
            <a:ext cx="3095640" cy="2592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27040" cy="534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5280" y="6381720"/>
            <a:ext cx="806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000000"/>
                </a:solidFill>
                <a:latin typeface="Verdana"/>
              </a:rPr>
              <a:t>Literatur der Oberstufe – Aufklärung – JG.11.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2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9:54:38Z</dcterms:created>
  <dc:creator>Mondriaan</dc:creator>
  <dc:description/>
  <dc:language>en-US</dc:language>
  <cp:lastModifiedBy>Jos Gulpen</cp:lastModifiedBy>
  <dcterms:modified xsi:type="dcterms:W3CDTF">2011-12-07T10:01:31Z</dcterms:modified>
  <cp:revision>13</cp:revision>
  <dc:subject/>
  <dc:title>die Zeit der Aufklärung</dc:title>
</cp:coreProperties>
</file>