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9FE0-3690-4A33-9F94-F71E7DD58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2DB7-8311-4D54-B06D-AFE46635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CBBE-9E2C-4E75-8E8F-B51E2EABE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25BD-FC44-4708-8314-992C92D86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3D6E3-20E6-4D28-8CEE-61C376A21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F1B1-AF8C-4020-9512-EE62100D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5D207-2A92-4407-88E5-5B870059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D2CE-640E-4D9F-BFD5-9B34A628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AD6B8-8400-4EE7-BB60-74A8C89A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DCFD-373A-47E0-8FCB-63148100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EF91-D7CD-4239-9179-908944CC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CA53-F9DC-4834-B59B-88A960A4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250C-AAA7-40C7-98BD-7C402269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AA72-A873-41B6-A0AE-118E8A92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DDBC-3A02-4941-BF6B-28C06008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CEA3C-2AEB-4277-8C13-04C6FFEEF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E256-75A2-4F7B-8F14-9E708F3BF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FBA49-7CE1-4F14-AAB8-220392A81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175D3-8AAD-48CC-B706-AF67B5C8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4A209-BA69-418A-A04F-EB525A74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27900-0DCD-4EF6-8145-429B4A24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D419A-BCF2-47B2-9BE1-CAE90C9C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34B8-21F4-437C-8E6F-91C30C39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0ADA2-1C36-420E-AEDF-9B0D4E5A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1A107-35E9-425E-AAAC-1907EACD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0EA8D-9E81-4350-B45A-B9B065C5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7232D-0DA9-4A2F-9D77-BF6D8974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06EF9-CC90-4F06-968D-F78DD92D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7903F-94DF-4993-9417-115046E8B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68F92-822A-4F93-A350-C738085DF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D67C1-2CFD-469D-8FFB-B689C3433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DA7B2-D229-4D21-9834-BF7F25E9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3F3C7-7516-43BB-9260-333CC5C1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751A-F691-4FFD-ACDA-B764BBE1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E1315-2FF4-46BD-B576-6230F64F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F491E-1296-4DFA-BDF5-235619E6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E6CAE-70FC-4A38-8B5A-1495B0F0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2E142-0DB2-412C-9A12-6F6AFBA6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3E7D5-D428-4CD1-8A07-0311A249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6F751-5A95-4C73-A436-4FA8F19B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C4B7D-F828-4B95-80A0-74373835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4E4C2-2224-4016-86FF-6E0C9AF0C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B7E27-8387-4CAB-985E-3EBF0FC6D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C602B-6B60-4DEB-8349-18333A6BD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A17D-7284-41DB-9947-DD39EBEE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657EE-A75E-4D92-81FD-0DE18EAD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4B882-02E5-486E-B745-C8C7003A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D3D08-6C44-4AF6-B056-B53B3D85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9539C-95B8-41FD-BFB8-47EC7825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860D3-E86E-46C4-BFB6-715DF4E9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97009-A071-40A4-A19C-0A489706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D3260-9903-4595-9737-EBD6A37F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E4334-C0B6-4295-9CDC-984EEFED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4242B-CD0D-4E8A-ABD6-B0901301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7C945-1C34-4CE1-AEF7-EE46098E0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5CE2-555A-4377-B4B6-66829663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E9FB8-DC22-4306-AF13-9264CE4E5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F1F2-2ECD-4D35-BADE-1DE0E4C8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EF7E-3C93-48DF-86A8-7179302C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5F95-1DDD-4761-BB1B-4A130E41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A675-7325-403A-805C-7B224971551E}" type="slidenum">
              <a:rPr b="0" lang="nl-NL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hthoek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Rechthoek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Rechte verbindingslijn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B99B-26FA-45D6-92E3-A46D858F6851}" type="slidenum">
              <a:rPr b="0" lang="nl-NL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984B-9696-4560-AFE7-5C2C69EEADFE}" type="slidenum">
              <a:rPr b="0" lang="nl-NL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hthoek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hoek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4e7e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BB33-B9D5-47C5-B02F-297F182E6EFD}" type="slidenum">
              <a:rPr b="0" lang="nl-NL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2D79-22F6-4207-BBAF-90EB316CB748}" type="slidenum">
              <a:rPr b="0" lang="nl-NL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despelendefilosoof.nl/wp-content/uploads/2010/11/waarnemen.png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http://despelendefilosoof.nl/wp-content/uploads/2010/11/waarnemen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92360" y="1413000"/>
            <a:ext cx="54673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82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Grote wond = naar de dokt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Kleine wond = schoon spoelen, ontsmetten en pleister of verbandj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Brandwond = afspoelen onder LAUW stromend water en dan naar de dokter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2858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Maken opdr. 1 t/m 5 + 7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Leren bas. 1 en 2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elke zintuigen kennen jullie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Picture 2" descr="http://www.channelup.nl/tasks/render/file/index.cfm?fileID=82B32A31-9ACB-4A5B-A801BBC876451569"/>
          <p:cNvPicPr/>
          <p:nvPr/>
        </p:nvPicPr>
        <p:blipFill>
          <a:blip r:embed="rId2"/>
          <a:stretch/>
        </p:blipFill>
        <p:spPr>
          <a:xfrm>
            <a:off x="1692360" y="2349360"/>
            <a:ext cx="552456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elke prikkels kennen jullie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Daar is je zintuig speciaal gevoelig voor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Neus - geu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Oog – licht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Huid – gevo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Oor – gelui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Mond – smaa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Lage drempelwaarde= als je iets snel kunt waarnemen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Hoge drempelwaarde= als je iets niet snel kunt waarnemen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Voorbeeld hond heeft een lagere drempelwaarde voor geur dan mensen. Een hond kan beter ruiken dan mense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el 1" descr=""/>
          <p:cNvPicPr/>
          <p:nvPr/>
        </p:nvPicPr>
        <p:blipFill>
          <a:blip r:embed="rId1"/>
          <a:stretch/>
        </p:blipFill>
        <p:spPr>
          <a:xfrm>
            <a:off x="225360" y="115920"/>
            <a:ext cx="8474040" cy="14382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Reageren op prikkels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Picture 2" descr="http://uitwerkingen-deelvragen-pws.jouwweb.nl/upload/e/a/0/uitwerkingen-deelvragen-pws/pws-afbeelding.large.jpg"/>
          <p:cNvPicPr/>
          <p:nvPr/>
        </p:nvPicPr>
        <p:blipFill>
          <a:blip r:embed="rId2"/>
          <a:stretch/>
        </p:blipFill>
        <p:spPr>
          <a:xfrm>
            <a:off x="4500720" y="1916280"/>
            <a:ext cx="43560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Gehoorzintuig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Gezichtszintuig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Smaakzintuig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Reukzintui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armtezintuig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Koudezintuigen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Tastzintuig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Drukzintuig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Pijnpunten zijn uiteinden van zenuwen. Liggen overal in je lichaam ook in de dieper gelegen organen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367080" y="533520"/>
            <a:ext cx="5105520" cy="28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40" name="Picture 2" descr="http://intranet.grundel.nl/grassroots/biologie/Waarnemen/html/huid%20schematisch1.jpg"/>
          <p:cNvPicPr/>
          <p:nvPr/>
        </p:nvPicPr>
        <p:blipFill>
          <a:blip r:embed="rId1"/>
          <a:stretch/>
        </p:blipFill>
        <p:spPr>
          <a:xfrm>
            <a:off x="-63360" y="642960"/>
            <a:ext cx="91915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9:27:29Z</dcterms:created>
  <dc:creator>CSG Het Noordik</dc:creator>
  <dc:description/>
  <dc:language>en-US</dc:language>
  <cp:lastModifiedBy>Hanneke Borgman</cp:lastModifiedBy>
  <dcterms:modified xsi:type="dcterms:W3CDTF">2015-05-11T07:56:16Z</dcterms:modified>
  <cp:revision>8</cp:revision>
  <dc:subject/>
  <dc:title>Zintuigenstelsel</dc:title>
</cp:coreProperties>
</file>