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1CDD-D3A3-45CE-BBC5-C3770106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2B97-DADA-4C16-AF72-B7B494CC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C3E-B249-4967-A26E-4C449D8F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E1E0-029C-4A90-ADF8-D39CB0D4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7B56-730B-4257-AAFB-24F1833C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712F-9C4B-4C81-9653-5BEA0A37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4D3C-957D-4F81-877D-C870C968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C705-2A24-4E75-905E-60DAD1CB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B0C1-5DCF-4017-B77E-1F93BE85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5199-9813-4AE0-A522-A517A14C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232E-D036-494A-A612-ECC5B0C2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2849-C20C-4020-98A8-0024C972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8F4D-EFA0-47D2-8A07-D73442B9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DDAA-63ED-43F6-84FD-2349B313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5AB5-6D1B-4F17-91D4-D22ABE88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94CB-19FA-4A61-9307-6DA5FC03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88BA-AA71-4ABF-A24C-98EF73A9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4D626-F996-4892-87F5-963826BD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C375C-D6F0-4525-A7DE-9878A577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4BB1D-A951-4C99-9D32-A5774BA3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72745-77B6-4284-BC14-4D05BD78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6E98F-551A-42B6-BA5D-85EC7F8A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27A2-121D-4725-A3FF-4A6D5F14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7F4DF-C6B4-42B3-B87F-B53EAB33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E217E-999C-40A2-8B59-B84A3B28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C7C62-5AA0-40CF-AEA6-7610C501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8CC06-67E2-4CC9-AEC4-BDA106D4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5354F-0AB4-43A9-A194-86630A02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B185E-CA59-4AAE-934B-AC7F2494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11DE9-61D7-42EE-8CF2-EA8F9FC8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1936D-4FC3-4AD7-AF86-8E5FFDE0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1728C-0DF3-4D0F-990A-88FFEA52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2555F-5B6E-48D5-8DDB-87D397DD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6DF8-70AC-4C0C-9C13-C427F1F0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26987-AFF6-4A13-B21C-21DD30CC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FA1BC-2CD2-4F16-97B0-2A85B3FE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2021C-E665-4620-BC15-552047BD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DEC47-B48B-4739-9DC2-B9748043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52BAA-FC2E-46E2-A8D1-F7423B60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6D4BA-F424-4C60-8945-72AE85F6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43DE9-3041-420D-854B-3F21DE32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EE984-0DC3-49B5-AA8E-DAF0F9AA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D7A20-138F-46E0-8590-5581C6F0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66F76-9D10-480A-826F-5A914037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DC8E-0888-4DC8-80D8-B77C9CD3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3DD15-D281-4306-B9B5-9DE04F13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65E7A-45F0-45C7-846D-B54654F2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E0825-6C19-45BB-ABDB-A7E92311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5192C-17A2-4B09-B5FF-B4562F5D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00B78-0446-4890-BB03-2297A109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DB816-BF80-401F-9A81-1AC0881C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470D9-1106-4B31-8FE1-68534C9D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B7EB9-7B2E-48AB-94C3-47CE954C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7A3C8-DB0C-4305-92B6-208DFCCF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B56D6-D3B6-42F4-B66A-C1631CC0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4F48-0B06-4071-B797-28A1BA9B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8693A-7E5D-4008-8A8E-214ED532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3286-8C17-4968-9446-40FEFA66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D544-228F-4A3C-988B-134F3776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6B13-B84F-419C-9FA5-26C661E9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9F39-2648-4AAA-9E82-A1DDFAA9B65A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hthoe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hthoe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hte verbindingslijn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7C56-FD82-4FD4-8AD3-D9A5572F2414}" type="slidenum">
              <a:rPr b="0" lang="nl-NL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4EAF-58F9-4719-866F-40B227D31272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D165-CAB0-4EF6-A102-51265806A17F}" type="slidenum">
              <a:rPr b="0" lang="nl-NL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E3A4-3F59-4BB7-B7B6-939E27A4B0B8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despelendefilosoof.nl/wp-content/uploads/2010/11/waarnemen.png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http://despelendefilosoof.nl/wp-content/uploads/2010/11/waarneme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2360" y="1413000"/>
            <a:ext cx="54673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rote wond = naar de dokt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Kleine wond = schoon spoelen, ontsmetten en pleister of verbandj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randwond = afspoelen onder LAUW stromend water en dan naar de dokter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2858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aken opdr. 1 t/m 5 + 7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eren bas. 1 en 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lke zintuigen kennen julli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2" descr="http://www.channelup.nl/tasks/render/file/index.cfm?fileID=82B32A31-9ACB-4A5B-A801BBC876451569"/>
          <p:cNvPicPr/>
          <p:nvPr/>
        </p:nvPicPr>
        <p:blipFill>
          <a:blip r:embed="rId2"/>
          <a:stretch/>
        </p:blipFill>
        <p:spPr>
          <a:xfrm>
            <a:off x="1692360" y="2349360"/>
            <a:ext cx="55245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lke prikkels kennen julli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aar is je zintuig speciaal gevoelig voor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eus - geu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g – lich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uid – gevo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r – gelu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ond – smaa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age drempelwaarde= als je iets snel kunt waarnem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oge drempelwaarde= als je iets niet snel kunt waarnem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oorbeeld hond heeft een lagere drempelwaarde voor geur dan mensen. Een hond kan beter ruiken dan mense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el 1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ageren op prikkel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http://uitwerkingen-deelvragen-pws.jouwweb.nl/upload/e/a/0/uitwerkingen-deelvragen-pws/pws-afbeelding.large.jpg"/>
          <p:cNvPicPr/>
          <p:nvPr/>
        </p:nvPicPr>
        <p:blipFill>
          <a:blip r:embed="rId2"/>
          <a:stretch/>
        </p:blipFill>
        <p:spPr>
          <a:xfrm>
            <a:off x="4500720" y="1916280"/>
            <a:ext cx="4356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hoor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zichts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maak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ukzintui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rmte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Koudezintuig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ast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ruk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ijnpunten zijn uiteinden van zenuwen. Liggen overal in je lichaam ook in de dieper gelegen organ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0" name="Picture 2" descr="http://intranet.grundel.nl/grassroots/biologie/Waarnemen/html/huid%20schematisch1.jpg"/>
          <p:cNvPicPr/>
          <p:nvPr/>
        </p:nvPicPr>
        <p:blipFill>
          <a:blip r:embed="rId1"/>
          <a:stretch/>
        </p:blipFill>
        <p:spPr>
          <a:xfrm>
            <a:off x="-63360" y="642960"/>
            <a:ext cx="91915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27:29Z</dcterms:created>
  <dc:creator>CSG Het Noordik</dc:creator>
  <dc:description/>
  <dc:language>en-US</dc:language>
  <cp:lastModifiedBy>Hanneke Borgman</cp:lastModifiedBy>
  <dcterms:modified xsi:type="dcterms:W3CDTF">2015-05-11T07:56:16Z</dcterms:modified>
  <cp:revision>8</cp:revision>
  <dc:subject/>
  <dc:title>Zintuigenstelsel</dc:title>
</cp:coreProperties>
</file>