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89DF-5959-4C4C-8DB5-DBC11EEE1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1E6D-E2A2-4722-9284-51180ECB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3803-F551-41D7-9A8F-3F9278904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FA94-CDC9-488E-BF00-C728EA86E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0303-C808-48E3-BA18-F953C07F6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E13D-8AED-4C0B-806A-05338B4E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846F-2AA7-4ABD-9B69-C712B712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75DE-DA44-40AD-A400-9833CAED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EF38-38BC-494C-8D2A-0A1AD89B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C7FE-DBF6-4B37-9719-DEADCA61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8799-3908-4229-A030-5B3DF3EA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278B-AC7F-4A84-8D6F-E5EE9D76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F499-37BC-45E6-8F0C-D3D8ED1A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9081-7792-431E-B5C7-DD3D60F6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5169-DC0E-4D9F-A61B-5072073B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EBE5-0E18-469A-95B0-882266DB2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2387-7982-4E6B-AD96-669556C0C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3AC57-0F17-4422-A4F4-E6B608107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38322-178B-4E21-8B82-989B8F1B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B56D5-7126-4BC9-9074-F6CAF66C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D9DA0-EBDB-42A4-AA0E-1C6A4399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5B9A2-0BA1-4C9D-93B1-00519911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42A7-B089-4167-8FAE-91FD0F6B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9ED2F-C1B9-4720-A65A-0B58E2FF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2E65A-D9A6-4D77-B94B-50A08440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B8B96-88D0-46F7-B343-69CA85E7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5400F-091E-4E74-BB88-03D198AF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E3C87-229F-4FDB-B762-19EE7E53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019BE-01FF-4246-A9CD-5FFDB08FF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92370-F8E7-4962-B5E9-C49F34588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46F06-5A9C-497B-B261-C6F3C68BE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3A37D-F17F-499F-8EC3-690C6AE4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3CD9B-49FA-4677-9081-15CF79B8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004D-C9E0-41E7-BB8D-DA92C131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DDC46-9706-4C87-9EB5-BBBB7116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A7438-847C-4CF2-9352-A50E8A3B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149EC-5B0A-45DB-9DF1-4DA948D0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A9681-4286-4916-A05F-65AF58CD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56C7D-6056-4B2C-8801-ABA6266E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EFEC4-056A-487B-B208-D356D715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1E554-69FF-46F8-856E-23D927CC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31978-8AE3-48CB-B2B9-158E9F7FF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E3E38-A7B5-4B69-98B7-C918E0408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8ACDA-1BD8-4E34-BA01-4D43091AA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B28B-3EE9-4888-AE83-86CEAD64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F33D9-3774-4D3A-9222-1A8718EA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DBB0D-F42B-401F-B6A4-B71D3E15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54D0C-C1B4-4DFB-9629-C88533B2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2339E-762F-4670-8E5A-1DAD8071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7E2BD-B28E-4A1A-AE99-1FF5C00E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3FCB1-328E-4276-AAA8-18B5A0FB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D69C6-E08C-4421-8E44-67E2AB1D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57516-7827-4572-BA3E-F1088499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EA376-73B6-4E4D-94C7-5708A87E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3F335-A49D-4326-A7FF-D0F9E498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9C85-A8A7-40A8-98D5-3A60101F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F357C-7BB4-4965-A603-7E3D1156B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F305-F1FE-47AC-A34A-893A0868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3FDA-E562-417A-B8A7-9BED5F8E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9232-77E7-434D-A3BE-0631FEE3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2BF2-B482-471B-B8AF-828262B40FB3}" type="slidenum">
              <a:rPr b="0" lang="nl-NL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hthoek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Rechthoek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Rechte verbindingslijn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E622-5515-4AC3-9FBA-5DEF6573A070}" type="slidenum">
              <a:rPr b="0" lang="nl-NL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4FC4-362D-4A07-8997-AC2E32982ADC}" type="slidenum">
              <a:rPr b="0" lang="nl-NL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hoek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4e7e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4FA4-60E7-4574-9B70-597DE9671DAF}" type="slidenum">
              <a:rPr b="0" lang="nl-NL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CEF5-ABD2-4E66-82C9-C8340D074857}" type="slidenum">
              <a:rPr b="0" lang="nl-NL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despelendefilosoof.nl/wp-content/uploads/2010/11/waarnemen.png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http://despelendefilosoof.nl/wp-content/uploads/2010/11/waarnemen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92360" y="1413000"/>
            <a:ext cx="54673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82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Grote wond = naar de dokt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Kleine wond = schoon spoelen, ontsmetten en pleister of verbandj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Brandwond = afspoelen onder LAUW stromend water en dan naar de dokter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2858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Maken opdr. 1 t/m 5 + 7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Leren bas. 1 en 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elke zintuigen kennen jullie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Picture 2" descr="http://www.channelup.nl/tasks/render/file/index.cfm?fileID=82B32A31-9ACB-4A5B-A801BBC876451569"/>
          <p:cNvPicPr/>
          <p:nvPr/>
        </p:nvPicPr>
        <p:blipFill>
          <a:blip r:embed="rId2"/>
          <a:stretch/>
        </p:blipFill>
        <p:spPr>
          <a:xfrm>
            <a:off x="1692360" y="2349360"/>
            <a:ext cx="552456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elke prikkels kennen jullie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Daar is je zintuig speciaal gevoelig voor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Neus - geu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Oog – licht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Huid – gevo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Oor – gelui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Mond – smaa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Lage drempelwaarde= als je iets snel kunt waarnemen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Hoge drempelwaarde= als je iets niet snel kunt waarnemen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Voorbeeld hond heeft een lagere drempelwaarde voor geur dan mensen. Een hond kan beter ruiken dan mense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el 1" descr=""/>
          <p:cNvPicPr/>
          <p:nvPr/>
        </p:nvPicPr>
        <p:blipFill>
          <a:blip r:embed="rId1"/>
          <a:stretch/>
        </p:blipFill>
        <p:spPr>
          <a:xfrm>
            <a:off x="225360" y="115920"/>
            <a:ext cx="8474040" cy="14382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Reageren op prikkel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Picture 2" descr="http://uitwerkingen-deelvragen-pws.jouwweb.nl/upload/e/a/0/uitwerkingen-deelvragen-pws/pws-afbeelding.large.jpg"/>
          <p:cNvPicPr/>
          <p:nvPr/>
        </p:nvPicPr>
        <p:blipFill>
          <a:blip r:embed="rId2"/>
          <a:stretch/>
        </p:blipFill>
        <p:spPr>
          <a:xfrm>
            <a:off x="4500720" y="1916280"/>
            <a:ext cx="43560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Gehoor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Gezichts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Smaak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Reukzintui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armte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Koudezintuigen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Tast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Druk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Pijnpunten zijn uiteinden van zenuwen. Liggen overal in je lichaam ook in de dieper gelegen organen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105520" cy="28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0" name="Picture 2" descr="http://intranet.grundel.nl/grassroots/biologie/Waarnemen/html/huid%20schematisch1.jpg"/>
          <p:cNvPicPr/>
          <p:nvPr/>
        </p:nvPicPr>
        <p:blipFill>
          <a:blip r:embed="rId1"/>
          <a:stretch/>
        </p:blipFill>
        <p:spPr>
          <a:xfrm>
            <a:off x="-63360" y="642960"/>
            <a:ext cx="91915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9:27:29Z</dcterms:created>
  <dc:creator>CSG Het Noordik</dc:creator>
  <dc:description/>
  <dc:language>en-US</dc:language>
  <cp:lastModifiedBy>Hanneke Borgman</cp:lastModifiedBy>
  <dcterms:modified xsi:type="dcterms:W3CDTF">2015-05-11T07:56:16Z</dcterms:modified>
  <cp:revision>8</cp:revision>
  <dc:subject/>
  <dc:title>Zintuigenstelsel</dc:title>
</cp:coreProperties>
</file>