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CA6-E0A5-49E6-AD90-FE2A4E06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DDA-4075-44AB-9198-E2F7011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8F1-F246-4A7E-A527-F8B4714A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F48-423F-4FCA-99A6-41DB0804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8EA-AE92-49D9-93CA-24F58A61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7DE1-5F0B-4340-B475-B8BC0AB0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6F3E-03E9-4ABC-9A1E-B7C84AA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B230-510B-41FF-9C28-8AFEB05C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100-F811-4A5A-B1C7-912EEB87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356E-E4CF-43BE-B9FF-F3D399E3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1B0D-09A3-4084-89CB-30E7EE56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334-C855-46E5-BEFD-D3C8D281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30F2-EF42-42B8-A757-F1D48399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068-293D-4091-8877-1410FA6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63D2-256A-44F2-934A-A4B3DEB0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425-6F10-45D9-8667-4E128A8B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1943-050D-42B7-96CE-FB4A9ED3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987D-858E-41CA-8953-1FE2F31C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3F731-FA19-40BF-8A8A-FC6FC14D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0597-3C4B-468C-A7EA-DDD5BFBD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0D3E-010D-4C99-9C92-CF2B942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B7FC-ED24-4B04-8C3C-196A9A6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3D55-6363-4EE6-9F69-02124233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A2C6-DBDD-4B90-85DD-B8CDDAB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75601-7F4E-4A37-A9AC-54F09BC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62940-A917-4CC6-A963-E44E562F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5146-A629-4953-95B6-4F8AD3C9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5F39-5343-4438-BD1A-2DF6968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CC8C5-8DEF-4BCA-A5BB-B94DC1B4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8FBC-B309-4C95-A5C6-1A1663B8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6F11E-E98C-4D91-8231-A8E40AD2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93B2-8DDF-4E65-BB05-63A5C312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903B-BBBC-485E-9771-47E4A027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8B5-4F37-4662-8D06-051193A5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D26B-1DD1-424F-9016-F6DAC61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4CB9-57C3-4556-9017-8E13918D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572E1-02E5-462E-AC55-C60F24C3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8805-91F4-4241-8AD7-E581F4F2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9C70-3958-411A-B046-DBF69867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8743-8033-4EC1-A720-89CFDF1B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D003-3646-4EEC-94B9-DDEA2B80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4E59-D424-47A8-A9E0-2D47437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B656-6D1F-49C3-BEE9-89CDF92F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CA2FD-0CB9-49B0-BB98-6EA20689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7AE-9358-4BDF-AE6E-006D41DB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D214E-904B-415A-98C9-03235ED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4E87D-BD4A-4438-8E91-2B1D9AA8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273E1-E204-461C-B5A8-3F226012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C5B45-DFCB-489E-A077-34EA9869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F6BC-9B2F-4D46-B0DE-74CD2A74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D74E8-CD99-4CBE-825B-EFB36DCB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5C222-77AC-4637-99F2-CD59D5DE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2C38-DBE7-457E-A57C-F373214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A76A-D066-4C49-B8D5-A0D1A7F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0592-016A-4C71-8C4B-7D301522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B7E-C492-4513-A27E-4FE93BE1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143A-3067-4C32-A9F1-52CA2EBF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6B7-21A0-40B8-BE48-6C94FB4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8AF-7A14-40CA-9F59-58DE9B4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9E0-44D8-41E1-8FD8-D5223F9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A947-4B60-4F9A-9FEB-0232EB690800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8692-5087-455F-90C3-546BB81CD700}" type="slidenum">
              <a:rPr b="0" lang="nl-NL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B743-A821-4154-8F61-2F599CA31E50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3FE3-697D-4020-8B48-3B6F5DFC041A}" type="slidenum">
              <a:rPr b="0" lang="nl-NL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2E4C-1D9C-4499-B82A-4096BA90E65D}" type="slidenum">
              <a:rPr b="0" lang="nl-NL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espelendefilosoof.nl/wp-content/uploads/2010/11/waarnemen.png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http://despelendefilosoof.nl/wp-content/uploads/2010/11/waarneme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92360" y="1413000"/>
            <a:ext cx="54673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rote wond = naar de dok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leine wond = schoon spoelen, ontsmetten en pleister of verbandj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randwond = afspoelen onder LAUW stromend water en dan naar de dokter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ken opdr. 1 t/m 5 + 7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eren bas. 1 en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zintuigen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://www.channelup.nl/tasks/render/file/index.cfm?fileID=82B32A31-9ACB-4A5B-A801BBC876451569"/>
          <p:cNvPicPr/>
          <p:nvPr/>
        </p:nvPicPr>
        <p:blipFill>
          <a:blip r:embed="rId2"/>
          <a:stretch/>
        </p:blipFill>
        <p:spPr>
          <a:xfrm>
            <a:off x="1692360" y="2349360"/>
            <a:ext cx="552456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lke prikkels kennen julli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aar is je zintuig speciaal gevoelig voor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eus - geu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g – lic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uid – gevo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 – gelu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ond – sma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Lage drempelwaarde= als je iets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oge drempelwaarde= als je iets niet snel kunt waarnem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 hond heeft een lagere drempelwaarde voor geur dan mensen. Een hond kan beter ruiken dan mense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el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ageren op prikkels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uitwerkingen-deelvragen-pws.jouwweb.nl/upload/e/a/0/uitwerkingen-deelvragen-pws/pws-afbeelding.large.jpg"/>
          <p:cNvPicPr/>
          <p:nvPr/>
        </p:nvPicPr>
        <p:blipFill>
          <a:blip r:embed="rId2"/>
          <a:stretch/>
        </p:blipFill>
        <p:spPr>
          <a:xfrm>
            <a:off x="4500720" y="1916280"/>
            <a:ext cx="4356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hoor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zichts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maa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eukzintui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rmte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oudezintui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st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rukzintuig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punten zijn uiteinden van zenuwen. Liggen overal in je lichaam ook in de dieper gelegen organen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367080" y="533520"/>
            <a:ext cx="5105520" cy="2868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0" name="Picture 2" descr="http://intranet.grundel.nl/grassroots/biologie/Waarnemen/html/huid%20schematisch1.jpg"/>
          <p:cNvPicPr/>
          <p:nvPr/>
        </p:nvPicPr>
        <p:blipFill>
          <a:blip r:embed="rId1"/>
          <a:stretch/>
        </p:blipFill>
        <p:spPr>
          <a:xfrm>
            <a:off x="-63360" y="642960"/>
            <a:ext cx="91915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27:29Z</dcterms:created>
  <dc:creator>CSG Het Noordik</dc:creator>
  <dc:description/>
  <dc:language>en-US</dc:language>
  <cp:lastModifiedBy>Hanneke Borgman</cp:lastModifiedBy>
  <dcterms:modified xsi:type="dcterms:W3CDTF">2015-05-11T07:56:16Z</dcterms:modified>
  <cp:revision>8</cp:revision>
  <dc:subject/>
  <dc:title>Zintuigenstelsel</dc:title>
</cp:coreProperties>
</file>