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621-9D4E-4569-98A3-F2E0CF73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D86-EBF5-49D4-81AF-55254D35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46E-A114-4FA5-9284-26B9A5D2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089-E48E-4DCA-B72C-6935FD61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8F7C-3B49-4898-9253-7899707B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C091-D6D8-417D-B60C-294D952F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8F79-812B-43DC-B1C8-59A72558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DD40-359A-483C-BE3E-E9A29E94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2475-C90E-42D7-9973-A691597F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0E24-B7E1-4D33-AEE5-BF69FAF9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C3A3-E2D6-4F2E-8357-EA49884A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41A-8326-4304-9C41-19FAF6BD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D944-DDBF-4BAA-8461-2E8B488E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984D-8306-4FE6-AE6A-232F86FA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B1A8-9BF8-49DB-8B91-28151488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2F8A-106A-4491-ACD0-92AA6D6F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A4BD-AF37-4235-8838-B275DCC1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B46D-C00E-4EEA-9A08-00CEBABD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9071-71B2-486D-A5E7-4E2A30EC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C6DA-492E-44CA-AA9E-91F345FE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AC76-DB92-46D9-A77A-DE704204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328F-364D-4F25-8F9D-827410EF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0CA2-E1A7-41B8-ABA2-FA4CB510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50641-7C0E-42C7-BD5E-425FC003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1124-8EAA-4159-B5D9-E4E5000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0CDD-3B8F-4453-A56C-A8CE2A5F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3B82B-8EDF-4452-A9A7-5470910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1074-A823-4F42-B508-58296D01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108C6-8A6B-4637-8FB9-3D9E3FA1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FD22-207C-4747-9C12-F19AEAB0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4F4A-3591-4BEC-8A82-D59C9CA3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73C88-D43F-4708-B0CE-73D984DF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2D3D-1419-4169-A98B-9CD9DA80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888-3E48-47BB-AC1F-C5E45B90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798D-76E7-4B58-8E72-3775A54C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786B-EB52-43A9-BEE0-40816C99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8A169-2848-481C-A7A0-D760E89B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123C7-5F75-47C3-AB3F-B637390F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B212-8954-4073-83BB-F4BD2F96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517E7-1BD7-4FAB-A05F-45F7341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47501-54AC-4A66-B443-9324DC6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81652-A17B-4C6A-BD30-956A0B11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4D33-8AEB-4CC0-9A4B-12EC2796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684FC-416D-45CD-9AFA-F226C0AA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BE0-6674-4253-85F4-1D06BE36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9BA01-1258-4FBB-A685-004CB9E3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AE8A8-3115-4F0E-8FFB-5075A4DC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F4A1B-1643-4459-BB81-8393E645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A11AC-6D48-4304-AD3F-72549CFA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48CFF-386B-4DDA-BF8A-FAFAB8E7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87D0D-DD8C-4D82-9B6F-8948C0EC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4CD4-D7C2-4C82-8F6B-4CE56DF4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251E8-DD17-4B80-953A-78F38223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1069C-ED9C-4998-852F-2519CD9C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D6B46-4315-487E-AB05-C3D01967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88E-DB23-4B79-8FF9-7BF4CB1C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F82D-062D-4A76-9AF4-52F8EBCE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C5F-F218-44BF-A7DA-BBD9F11B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1A5-E57F-4268-90BC-76391A2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62C-B17A-4FD6-A58A-BE0C5649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3DC9-B77E-45D5-8A2D-28CE409C443A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053F-3CBD-431E-83BD-C88A1B41CDAE}" type="slidenum">
              <a:rPr b="0" lang="nl-N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B233-680B-40B0-8470-F509284D1DC4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0170-85B3-480A-BAFA-5CBA3CFB1BDD}" type="slidenum">
              <a:rPr b="0" lang="nl-N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138F-4034-441F-B7D0-6E0D7535234C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spelendefilosoof.nl/wp-content/uploads/2010/11/waarneme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despelendefilosoof.nl/wp-content/uploads/2010/11/waarneme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413000"/>
            <a:ext cx="5467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rote wond = naar de dok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leine wond = schoon spoelen, ontsmetten en pleister of verbandj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randwond = afspoelen onder LAUW stromend water en dan naar de dokte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ken opdr. 1 t/m 5 + 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ren bas. 1 en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zintuigen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://www.channelup.nl/tasks/render/file/index.cfm?fileID=82B32A31-9ACB-4A5B-A801BBC876451569"/>
          <p:cNvPicPr/>
          <p:nvPr/>
        </p:nvPicPr>
        <p:blipFill>
          <a:blip r:embed="rId2"/>
          <a:stretch/>
        </p:blipFill>
        <p:spPr>
          <a:xfrm>
            <a:off x="1692360" y="2349360"/>
            <a:ext cx="5524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prikkels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aar is je zintuig speciaal gevoelig vo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s - ge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g – lic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uid – gevo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 – gelu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ond – sma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ge drempelwaarde= als je iets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oge drempelwaarde= als je iets niet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 hond heeft een lagere drempelwaarde voor geur dan mensen. Een hond kan beter ruiken dan mense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geren op prikke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uitwerkingen-deelvragen-pws.jouwweb.nl/upload/e/a/0/uitwerkingen-deelvragen-pws/pws-afbeelding.large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5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hoor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zichts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maa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ukzintui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rmte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oudezintui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st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ru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punten zijn uiteinden van zenuwen. Liggen overal in je lichaam ook in de dieper gelegen organ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2" descr="http://intranet.grundel.nl/grassroots/biologie/Waarnemen/html/huid%20schematisch1.jpg"/>
          <p:cNvPicPr/>
          <p:nvPr/>
        </p:nvPicPr>
        <p:blipFill>
          <a:blip r:embed="rId1"/>
          <a:stretch/>
        </p:blipFill>
        <p:spPr>
          <a:xfrm>
            <a:off x="-63360" y="642960"/>
            <a:ext cx="919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27:29Z</dcterms:created>
  <dc:creator>CSG Het Noordik</dc:creator>
  <dc:description/>
  <dc:language>en-US</dc:language>
  <cp:lastModifiedBy>Hanneke Borgman</cp:lastModifiedBy>
  <dcterms:modified xsi:type="dcterms:W3CDTF">2015-05-11T07:56:16Z</dcterms:modified>
  <cp:revision>8</cp:revision>
  <dc:subject/>
  <dc:title>Zintuigenstelsel</dc:title>
</cp:coreProperties>
</file>