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EC19-8CED-47DA-9F4B-5F7A3D2F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2FC-7DDC-4D3D-A5D5-F6A808C3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596-EF33-48B6-9D93-4B50AAEE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34B-C734-435E-93BA-6163DBEC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C34F-76E6-414D-82CC-EE44865E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4822-AE03-48C4-9D58-2B418CAA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6DA7-C31A-49FC-AD69-12FC201D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F382-166E-4E2B-A955-A3A9EFC1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8929-9900-4B71-8BF1-CAFA5B8D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3843-731F-4B75-A86A-EB7B4A88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68E0-A52B-41F8-BC6C-604ADCCD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50D-3ABA-4787-B8F8-3922DE2A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C02B-23CC-4BC6-A3FA-DF14F58F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BACF-14B6-4E2F-86D2-A7D1AA61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1F8A-9A99-4C95-B9C0-D92D66AF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2E5A-7614-4C25-B2FB-0B0E474D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AEFA-19E3-4251-96A6-0564EF1E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A6621-E475-4AB0-839D-2E79FD36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90C29-2875-42BD-B2E3-7365998E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B1165-4C06-4369-AAEA-3CB14C76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6B285-A58D-4EC7-8641-50C36145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71F9D-7D65-424C-8248-B3ED2EFA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E1F-BFF9-41A0-9ACE-F43FCE43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9442-39CF-4A73-B734-CDC1B664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7BB86-5432-4EAA-BD36-B07C93C5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B8F2-E801-44BB-AB29-537BB4ED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F624B-0C73-4C39-AF7D-365BE7EC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C7691-46D3-4500-80F3-777A5472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A312E-5C45-47D5-9B6A-7A9086D3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19326-9273-4E99-A8C7-CB6E6FAB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BA936-CB4E-474F-A2D0-A4796224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3D8C4-17DE-4FB3-B8B0-EE8646AF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D9C66-3845-43D7-BA71-1B5ECF65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AF0-46B9-4248-9058-5A0E1AC7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4AEE3-D3E0-48AA-A76E-747BAA66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AFD83-B2E6-4FEE-ABA1-24BB3696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F6135-BF7E-4AD6-BCD1-C888B821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C687D-060C-40B6-9A2D-360BF51A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96377-4038-4349-85F9-A9035C03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5CBC7-635D-4347-B4FE-25B2BEF4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3FFA7-5C1F-4E7E-AB71-D19F76F1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DE73E-8384-4FE6-BF84-E019761A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2BC3F-5B4A-4187-B287-902F05C4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0ABA6-CCAF-469F-8C6F-3E1E8D7F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8FC-83F0-4604-ABBB-BC52202A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67BA3-25B0-4C8F-B13F-03A893ED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8E7BC-5632-4F21-A61F-40178755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10215-0116-4120-9816-F96239D7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BB421-B254-43C7-9AD6-FF4BA828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90C7B-7475-4F59-83D7-18D0518A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3510D-6BCF-42EB-896D-7DF67D36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79B12-C4A0-4029-A41C-600FE7F7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876B0-B741-4F87-9895-41C3E0F3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DAC76-530F-4C44-A48F-40051F4D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00EDF-1147-4C26-B879-A604864C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B78-A4A3-4643-9224-5CF45734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B8AED-47E8-46B4-83B8-A55744F6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496-3CF9-494B-A933-5412558B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975-F365-45CE-9E0B-088C2CD4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F33-5E6E-41C4-BC33-1DEEC284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77AC-BD91-45CA-83DC-3966F0D06984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3AD2-8EF9-4A68-874A-990872BC6458}" type="slidenum">
              <a:rPr b="0" lang="nl-NL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46D2-981D-48CE-B82B-66EEC71E82DC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9825-600B-4F64-BC18-C8A2D203656A}" type="slidenum">
              <a:rPr b="0" lang="nl-NL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75FB-3B6B-49B2-8D4B-C9C43259112A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despelendefilosoof.nl/wp-content/uploads/2010/11/waarnemen.pn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despelendefilosoof.nl/wp-content/uploads/2010/11/waarneme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413000"/>
            <a:ext cx="5467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rote wond = naar de dok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leine wond = schoon spoelen, ontsmetten en pleister of verbandj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randwond = afspoelen onder LAUW stromend water en dan naar de dokter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ken opdr. 1 t/m 5 + 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ren bas. 1 en 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zintuigen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http://www.channelup.nl/tasks/render/file/index.cfm?fileID=82B32A31-9ACB-4A5B-A801BBC876451569"/>
          <p:cNvPicPr/>
          <p:nvPr/>
        </p:nvPicPr>
        <p:blipFill>
          <a:blip r:embed="rId2"/>
          <a:stretch/>
        </p:blipFill>
        <p:spPr>
          <a:xfrm>
            <a:off x="1692360" y="2349360"/>
            <a:ext cx="5524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prikkels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aar is je zintuig speciaal gevoelig voor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s - ge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g – lich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uid – gevo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 – gelu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ond – sma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ge drempelwaarde= als je iets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oge drempelwaarde= als je iets niet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beeld hond heeft een lagere drempelwaarde voor geur dan mensen. Een hond kan beter ruiken dan mense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geren op prikkel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uitwerkingen-deelvragen-pws.jouwweb.nl/upload/e/a/0/uitwerkingen-deelvragen-pws/pws-afbeelding.large.jpg"/>
          <p:cNvPicPr/>
          <p:nvPr/>
        </p:nvPicPr>
        <p:blipFill>
          <a:blip r:embed="rId2"/>
          <a:stretch/>
        </p:blipFill>
        <p:spPr>
          <a:xfrm>
            <a:off x="4500720" y="1916280"/>
            <a:ext cx="4356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hoor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zichts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maa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ukzintui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rmte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oudezintuig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ast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ru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punten zijn uiteinden van zenuwen. Liggen overal in je lichaam ook in de dieper gelegen organ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0" name="Picture 2" descr="http://intranet.grundel.nl/grassroots/biologie/Waarnemen/html/huid%20schematisch1.jpg"/>
          <p:cNvPicPr/>
          <p:nvPr/>
        </p:nvPicPr>
        <p:blipFill>
          <a:blip r:embed="rId1"/>
          <a:stretch/>
        </p:blipFill>
        <p:spPr>
          <a:xfrm>
            <a:off x="-63360" y="642960"/>
            <a:ext cx="9191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27:29Z</dcterms:created>
  <dc:creator>CSG Het Noordik</dc:creator>
  <dc:description/>
  <dc:language>en-US</dc:language>
  <cp:lastModifiedBy>Hanneke Borgman</cp:lastModifiedBy>
  <dcterms:modified xsi:type="dcterms:W3CDTF">2015-05-11T07:56:16Z</dcterms:modified>
  <cp:revision>8</cp:revision>
  <dc:subject/>
  <dc:title>Zintuigenstelsel</dc:title>
</cp:coreProperties>
</file>