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32B-7239-42C4-8D48-BE67444B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4C7-2D94-48A0-B41F-2BE4B955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0A4-6309-4985-B064-3ACED682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5B7-C946-48F9-A2C1-8B20562C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8C9-823A-4DC9-99AA-6861036C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8FD-CFAD-402E-8620-D49EE200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4E4-6038-476F-9CD4-9063E37E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6BE-12BD-4356-8C7F-9C606EF2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789-3A91-4A1C-A012-BBA857F5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4A1-47F0-4C00-B216-CFEB87AA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954-B9FC-4823-B817-3445FDB1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CB7-2E96-4A4B-A4DD-CD3048F1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E915-F43B-4417-9885-3E17ADA609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voudig 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van les 1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geet je huiswerk ni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 op Itslea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47720" y="1125360"/>
          <a:ext cx="5848560" cy="522288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… van 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 o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heeft men met het geld ge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a of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 komt het geld van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47720" y="1125360"/>
          <a:ext cx="5848560" cy="588492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2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ttend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e Middel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Lan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K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nanciële f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een goede administratie worden alle financiële gegevens systematisch vastgele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leggen vindt plaats op basis van boekingsstukken. Bijv. rekeningen, kassabonnen en overzichten van d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ekingsstukken worden opgenomen in een dagb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groot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rootboek bestaat uit een grote hoeveelheid grootboek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zijn overzichten per bezitting, schuld,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financiële feiten worden (via het dagboek) op de grootboekrekeningen verwe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ings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bijwerken van grootboekrekeningen gebeurt aan de hand van reg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rot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zelfde kant als op de ba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 andere kant (want in de boekhouding wordt alleen opgeteld nooit afgetrokk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125360"/>
          <a:ext cx="6769080" cy="6334200"/>
        </p:xfrm>
        <a:graphic>
          <a:graphicData uri="http://schemas.openxmlformats.org/drawingml/2006/table">
            <a:tbl>
              <a:tblPr/>
              <a:tblGrid>
                <a:gridCol w="1692360"/>
                <a:gridCol w="1693800"/>
                <a:gridCol w="1690560"/>
                <a:gridCol w="169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(schulden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op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530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bij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52624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9:43Z</dcterms:created>
  <dc:creator>Jeannet Hommel-Rozendaal</dc:creator>
  <dc:description/>
  <dc:language>en-US</dc:language>
  <cp:lastModifiedBy>Gert Jan De Boer</cp:lastModifiedBy>
  <dcterms:modified xsi:type="dcterms:W3CDTF">2015-05-05T15:05:33Z</dcterms:modified>
  <cp:revision>6</cp:revision>
  <dc:subject/>
  <dc:title>Elementair Boekhouden</dc:title>
</cp:coreProperties>
</file>