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C6D-DFB0-4B85-A306-F9DB2A82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5E8-3EB3-4751-80E6-5D31844A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64F-5861-49F8-8010-356201B8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5E6-C507-46B0-9245-9BDDA5A6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C36-87DF-4926-BB47-3D015B7D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8BA-D39B-4F26-8B60-6C237697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D34-EF15-4C9C-8582-C0A0CC36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1E0-2DDE-4AB9-BEF4-FAEA9C77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90A-33D4-4292-9BC5-9AFE701A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C7D-083F-4AF7-B5D9-0934D8B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4DD-7272-4E24-9068-BAC9DB95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396-F3C9-40D4-B415-2B4C610C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242E-C0B0-4805-8074-15D56D936F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stof bij Taak 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laatste gedeelte van de kolommenbalans: de verlies &amp; winstrekening en de eind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1320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914400"/>
                <a:gridCol w="914400"/>
                <a:gridCol w="863640"/>
                <a:gridCol w="838080"/>
                <a:gridCol w="863640"/>
                <a:gridCol w="838080"/>
                <a:gridCol w="8636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/w 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.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d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06"/>
          <p:cNvSpPr/>
          <p:nvPr/>
        </p:nvSpPr>
        <p:spPr>
          <a:xfrm>
            <a:off x="673200" y="5157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iedere grootboekrekening geldt dat het saldo of naar de v/w rekening gaat of naar de eindbalans (behalve privé, die komt niet terug op v/w rek of eindbalans maar op de rekening Eigen Vermo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slot van de kolommenbal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lies &amp; winstrekening wordt in evenwicht gebracht door het saldo aan de kleinste kant te vermelden. Dit saldo is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inst/verliessaldo wordt ingevuld op de grootboekrekening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indbalans is, als het goed is, automatisch in evenw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samenvatting van l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anderingen in het Eigen Vermogen worden geboekt op hulprekeningen van het Eigen Vermogen zodat de oorzaken van de veranderingen duidelijk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le feiten worden verwerkt in het journ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boek wordt geopend met de gegevens van de balans en bijgewerkt a.h.v. de journaalpo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wicht is belangrijk. De balans heeft debet en credit dezelfde telling, iedere journaalpost is in evenwicht en het journaal in zijn geheel heeft ook gelijke tel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erste stap op weg naar het afronden van de boekhoudcyclus is het maken van een proef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3151080"/>
        </p:xfrm>
        <a:graphic>
          <a:graphicData uri="http://schemas.openxmlformats.org/drawingml/2006/table">
            <a:tbl>
              <a:tblPr/>
              <a:tblGrid>
                <a:gridCol w="5724360"/>
                <a:gridCol w="1285920"/>
                <a:gridCol w="121932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00"/>
          <p:cNvSpPr/>
          <p:nvPr/>
        </p:nvSpPr>
        <p:spPr>
          <a:xfrm>
            <a:off x="673200" y="4941720"/>
            <a:ext cx="82296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grootboekrekeningen worden op een rijtje gezet. Zowel de debettelling als de credittelling worden vermel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totaaltelling van de proefbalans is gelijk aan die van het journaal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roefbalans is in evenw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stap is het maken van een saldiba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2960640"/>
        </p:xfrm>
        <a:graphic>
          <a:graphicData uri="http://schemas.openxmlformats.org/drawingml/2006/table">
            <a:tbl>
              <a:tblPr/>
              <a:tblGrid>
                <a:gridCol w="4402080"/>
                <a:gridCol w="957240"/>
                <a:gridCol w="954000"/>
                <a:gridCol w="952560"/>
                <a:gridCol w="9637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63"/>
          <p:cNvSpPr/>
          <p:nvPr/>
        </p:nvSpPr>
        <p:spPr>
          <a:xfrm>
            <a:off x="673200" y="4508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7"/>
          <p:cNvSpPr/>
          <p:nvPr/>
        </p:nvSpPr>
        <p:spPr>
          <a:xfrm>
            <a:off x="673200" y="486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saldibalans komt van iedere grootboekrekening het saldo: het verschil tussen debet en credit. Het saldo komt aan de kant die het groots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boekrekeningen worden af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dat alle grootboekrekeningen zijn geopend en bijgewerkt a.h.v. het journaal worden eerst de proef- en saldibalans gemaa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s worden de grootboekrekeningen afgesloten: er wordt evenwicht gecreëerd door aan de kant waar het totaalbedrag het kleinst is het saldo te vermel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boekrekening Eigen Vermogen wordt nog niet afgesloten, daar moet het saldo van Privé nog bij en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grootboekrekeningen van bezit en schuld, en op de rekening Eigen Vermogen, komt bij het saldo te staan: naar Ba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hulprekeningen van het Eigen Vermogen komt te staan: naar verlies/winstrekening. Behalve op de rekening privé, daar komt te staan: naar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8242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hecaire l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lo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derhoudsko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 re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v/w-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52:59Z</dcterms:created>
  <dc:creator>Jeannet Hommel-Rozendaal</dc:creator>
  <dc:description/>
  <dc:language>en-US</dc:language>
  <cp:lastModifiedBy>Gert Jan De Boer</cp:lastModifiedBy>
  <dcterms:modified xsi:type="dcterms:W3CDTF">2015-05-05T17:04:51Z</dcterms:modified>
  <cp:revision>7</cp:revision>
  <dc:subject/>
  <dc:title>Elementair Boekhouden</dc:title>
</cp:coreProperties>
</file>