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47CA2-DF11-45CA-AD8C-00035C2F6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FFB69-3AEF-44DF-8AF7-D6DAE19F2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C2AE0-6F2F-4910-976A-8BF48BFC6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A1DD0-FB26-432D-92CB-8BA82C21F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07CEB-B166-4BE2-881B-64CB11756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77FE8-B069-4B9E-B460-0BE202196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4B2EF-3E23-4E80-835E-59AB48176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E59F2-7DA7-42E8-87F0-CA8652388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9F71E-3746-4D4F-AEC9-5F260A7B2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A92E4-50C5-4FBD-BB0B-B5C74C2E5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71E2F-4CD9-48CB-8322-DD55A8ED8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0CA55-D637-4DDF-935B-89370EFB0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4E24-E268-4FC0-AE0F-0A0E7A59428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ekhouden</a:t>
            </a:r>
            <a:br>
              <a:rPr sz="4400"/>
            </a:br>
            <a:r>
              <a:rPr b="0" lang="nl-NL" sz="4400" spc="-1" strike="noStrike">
                <a:solidFill>
                  <a:srgbClr val="000000"/>
                </a:solidFill>
                <a:latin typeface="Arial"/>
              </a:rPr>
              <a:t>Groep 2</a:t>
            </a:r>
            <a:br>
              <a:rPr sz="4400"/>
            </a:br>
            <a:r>
              <a:rPr b="0" lang="nl-NL" sz="4400" spc="-1" strike="noStrike">
                <a:solidFill>
                  <a:srgbClr val="000000"/>
                </a:solidFill>
                <a:latin typeface="Arial"/>
              </a:rPr>
              <a:t>GJ de Boer</a:t>
            </a:r>
            <a:br>
              <a:rPr sz="4400"/>
            </a:br>
            <a:r>
              <a:rPr b="0" lang="nl-NL" sz="4400" spc="-1" strike="noStrike">
                <a:solidFill>
                  <a:srgbClr val="000000"/>
                </a:solidFill>
                <a:latin typeface="Arial"/>
              </a:rPr>
              <a:t>Mei 2015 </a:t>
            </a:r>
            <a:br>
              <a:rPr sz="4400"/>
            </a:br>
            <a:r>
              <a:rPr b="0" lang="nl-NL" sz="4400" spc="-1" strike="noStrike">
                <a:solidFill>
                  <a:srgbClr val="000000"/>
                </a:solidFill>
                <a:latin typeface="Arial"/>
              </a:rPr>
              <a:t>3k3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Grootbo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an een Journaal</a:t>
            </a:r>
            <a:endParaRPr b="0" lang="en-US" sz="2800" spc="-1" strike="noStrike">
              <a:solidFill>
                <a:srgbClr val="000000"/>
              </a:solidFill>
              <a:latin typeface="Arial"/>
            </a:endParaRPr>
          </a:p>
        </p:txBody>
      </p:sp>
      <p:graphicFrame>
        <p:nvGraphicFramePr>
          <p:cNvPr id="55" name=""/>
          <p:cNvGraphicFramePr/>
          <p:nvPr/>
        </p:nvGraphicFramePr>
        <p:xfrm>
          <a:off x="457200" y="1628640"/>
          <a:ext cx="8229600" cy="2668680"/>
        </p:xfrm>
        <a:graphic>
          <a:graphicData uri="http://schemas.openxmlformats.org/drawingml/2006/table">
            <a:tbl>
              <a:tblPr/>
              <a:tblGrid>
                <a:gridCol w="963720"/>
                <a:gridCol w="630000"/>
                <a:gridCol w="3392640"/>
                <a:gridCol w="1620720"/>
                <a:gridCol w="1622520"/>
              </a:tblGrid>
              <a:tr h="468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a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Omschrijv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eb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lanstellinge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biteu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4.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utowin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ra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Rectangle 667"/>
          <p:cNvSpPr/>
          <p:nvPr/>
        </p:nvSpPr>
        <p:spPr>
          <a:xfrm>
            <a:off x="468360" y="4581360"/>
            <a:ext cx="8280360" cy="1943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is nu ook een goede controle op het evenwicht tussen debet en credit bij het verwerken van een financieel feit.</a:t>
            </a:r>
            <a:br>
              <a:rPr sz="2400"/>
            </a:br>
            <a:r>
              <a:rPr b="0" lang="nl-NL" sz="2400" spc="-1" strike="noStrike">
                <a:solidFill>
                  <a:srgbClr val="000000"/>
                </a:solidFill>
                <a:latin typeface="Arial"/>
              </a:rPr>
              <a:t>Om verwarring van Debet en Credit te voorkomen komt bij iedere creditboeking het woordje ‘aan’ te st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Journaal naar Grootboek:</a:t>
            </a:r>
            <a:br>
              <a:rPr sz="2800"/>
            </a:br>
            <a:r>
              <a:rPr b="0" lang="nl-NL" sz="2800" spc="-1" strike="noStrike">
                <a:solidFill>
                  <a:srgbClr val="000000"/>
                </a:solidFill>
                <a:latin typeface="Arial"/>
              </a:rPr>
              <a:t>niet meer rommelig maar systematisch bijwerken van het Grootboek.</a:t>
            </a:r>
            <a:endParaRPr b="0" lang="en-US" sz="2800" spc="-1" strike="noStrike">
              <a:solidFill>
                <a:srgbClr val="000000"/>
              </a:solidFill>
              <a:latin typeface="Arial"/>
            </a:endParaRPr>
          </a:p>
        </p:txBody>
      </p:sp>
      <p:sp>
        <p:nvSpPr>
          <p:cNvPr id="58"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vullen van het Grootboek gebeurt in een paar stapp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penen</a:t>
            </a:r>
            <a:r>
              <a:rPr b="0" lang="nl-NL" sz="2400" spc="-1" strike="noStrike">
                <a:solidFill>
                  <a:srgbClr val="000000"/>
                </a:solidFill>
                <a:latin typeface="Arial"/>
              </a:rPr>
              <a:t> (overnemen van de balansgegevens, zie Hoofdstuk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werken</a:t>
            </a:r>
            <a:r>
              <a:rPr b="0" lang="nl-NL" sz="2400" spc="-1" strike="noStrike">
                <a:solidFill>
                  <a:srgbClr val="000000"/>
                </a:solidFill>
                <a:latin typeface="Arial"/>
              </a:rPr>
              <a:t> (overnemen van de gegevens uit het Journaal, zet een vinkje als een regel is verwerk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luiten</a:t>
            </a:r>
            <a:r>
              <a:rPr b="0" lang="nl-NL" sz="2400" spc="-1" strike="noStrike">
                <a:solidFill>
                  <a:srgbClr val="000000"/>
                </a:solidFill>
                <a:latin typeface="Arial"/>
              </a:rPr>
              <a:t> (komt in Hoofdstuk 5 aan de or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400" spc="-1" strike="noStrike">
                <a:solidFill>
                  <a:srgbClr val="000000"/>
                </a:solidFill>
                <a:latin typeface="Arial"/>
              </a:rPr>
              <a:t>Korte samenvatting van les 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Financiële feiten worden verwerkt aan de hand van boekingsstukk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Grootboekrekeningen worden eerst geopend (van Balans) en daarna bijgewerkt volgens boekingsrege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groter wordt komt het aan dezelfde kant als op de bal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kleiner wordt komt het aan de andere kant. (want in de boekhouding wordt alleen opgeteld nooit afgetrok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1" lang="nl-NL" sz="2400" spc="-1" strike="noStrike">
                <a:solidFill>
                  <a:srgbClr val="000000"/>
                </a:solidFill>
                <a:latin typeface="Arial"/>
              </a:rPr>
              <a:t>Contant of op rek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ant betekent dat er geld betaald of ontvangen wordt. Op rekening betekent dat er pas later geld passeert, er komt een vordering op een klant (debiteuren) of een schuld aan een leverancier (credite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rootboekrekening Eigen Vermogen</a:t>
            </a:r>
            <a:endParaRPr b="0" lang="en-US" sz="2400" spc="-1" strike="noStrike">
              <a:solidFill>
                <a:srgbClr val="000000"/>
              </a:solidFill>
              <a:latin typeface="Arial"/>
            </a:endParaRPr>
          </a:p>
        </p:txBody>
      </p:sp>
      <p:graphicFrame>
        <p:nvGraphicFramePr>
          <p:cNvPr id="46" name=""/>
          <p:cNvGraphicFramePr/>
          <p:nvPr/>
        </p:nvGraphicFramePr>
        <p:xfrm>
          <a:off x="457200" y="1600200"/>
          <a:ext cx="8229600" cy="4869000"/>
        </p:xfrm>
        <a:graphic>
          <a:graphicData uri="http://schemas.openxmlformats.org/drawingml/2006/table">
            <a:tbl>
              <a:tblPr/>
              <a:tblGrid>
                <a:gridCol w="1046160"/>
                <a:gridCol w="1857240"/>
                <a:gridCol w="1238400"/>
                <a:gridCol w="1236600"/>
                <a:gridCol w="1841400"/>
                <a:gridCol w="1009800"/>
              </a:tblGrid>
              <a:tr h="508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Eigen Vermog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3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elef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schrijving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lektriciteit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uin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an Bal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2,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9,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5,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3</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o’n grootboekrekening Eigen Vermogen is veel te rommelig om echt informatie op te leveren voor het manage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arom gebruikt men in vrijwel iedere organisatie hulprekeningen van het Eigen Vermog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nl-NL" sz="2400" spc="-1" strike="noStrike">
                <a:solidFill>
                  <a:srgbClr val="000000"/>
                </a:solidFill>
                <a:latin typeface="Arial"/>
              </a:rPr>
              <a:t>Per oorzaak van veranderingen</a:t>
            </a:r>
            <a:r>
              <a:rPr b="0" lang="nl-NL" sz="2400" spc="-1" strike="noStrike">
                <a:solidFill>
                  <a:srgbClr val="000000"/>
                </a:solidFill>
                <a:latin typeface="Arial"/>
              </a:rPr>
              <a:t> in het Eigen Vermogen wordt een aparte grootboekrekening gebruikt (voor zover men de oorzaak belangrijk genoeg vindt om apart te registre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ze hulprekeningen van het Eigen Vermogen worden gebruikt in de plaats van de rekening Eigen Vermogen zelf (want anders worden gegevens 2x geboe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1125360"/>
          <a:ext cx="8229600" cy="3843360"/>
        </p:xfrm>
        <a:graphic>
          <a:graphicData uri="http://schemas.openxmlformats.org/drawingml/2006/table">
            <a:tbl>
              <a:tblPr/>
              <a:tblGrid>
                <a:gridCol w="1046160"/>
                <a:gridCol w="1857240"/>
                <a:gridCol w="1238400"/>
                <a:gridCol w="1236600"/>
                <a:gridCol w="1841400"/>
                <a:gridCol w="100980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nderhoudskost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8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boekingsregels voor het bijhouden van hulprekeningen van het Eigen Vermogen zijn dezelfde als voor andere grootboekrekening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an belang is de </a:t>
            </a:r>
            <a:r>
              <a:rPr b="1" lang="nl-NL" sz="2400" spc="-1" strike="noStrike">
                <a:solidFill>
                  <a:srgbClr val="000000"/>
                </a:solidFill>
                <a:latin typeface="Arial"/>
              </a:rPr>
              <a:t>invloed op het Eigen Vermogen</a:t>
            </a:r>
            <a:r>
              <a:rPr b="0" lang="nl-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groter wordt komt iets op de hulprekening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kleiner wordt komt iets op de hulprekening deb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Hulprekeningen van het Eigen Vermogen worden niet geopend want ze geven alleen aan wat er in deze periode gebeurt met het Eigen Vermogen. Er is geen beginsaldo, ze staan niet op de Ba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speciale hulprekening van het Eigen Vermogen: Privé</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opnamen en privéstortingen hebben ook invloed op het Eigen Vermogen maar……..ze hebben geen invloed op het resultaat van het bedrijf!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e worden op een speciale hulprekening van het Eigen Vermogen geboek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neller en met minder kans op fout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rechtstreeks verwerken van alle aspecten van financiële feiten op grootboekrekeningen is een heel gedoe: nadenken, de juiste grootboekrekening opzoeken, aan de goede kant invullen, niet verge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komt een extra stap: Het Journ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8:08:43Z</dcterms:created>
  <dc:creator>Jeannet Hommel-Rozendaal</dc:creator>
  <dc:description/>
  <dc:language>en-US</dc:language>
  <cp:lastModifiedBy>Gert Jan De Boer</cp:lastModifiedBy>
  <dcterms:modified xsi:type="dcterms:W3CDTF">2015-05-05T15:03:48Z</dcterms:modified>
  <cp:revision>9</cp:revision>
  <dc:subject/>
  <dc:title>Elementair Boekhouden</dc:title>
</cp:coreProperties>
</file>