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754B-5033-4901-800D-5AFC8E7F0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D340-D7E4-40B0-BC66-C65B3DCAB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A523-67FB-4A59-A854-EEC9FBFA7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C956-69E9-4FC5-B44E-4D0486AC3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8539-B8CB-46B1-9E1F-9070DCC46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D83D-BBD6-4D2C-B1BA-10F52A0E8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CD36-F6A0-4B0C-A6F4-C8A4C8C5A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058A-2B70-4600-A9EF-A003B2B4C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0417-B1D0-47CC-BC70-71773B641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7A96-9E4B-4615-BDBC-5EF088C2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322C-DAA6-407A-8E26-B6E0C4FA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885B-3C10-43A2-B4AA-C77AF1A6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C73A1-B518-440B-893D-5768BA908B8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269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ekhouden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xtra stof bij Taak 8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852280"/>
            <a:ext cx="64008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i 2015 GJ de Boer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3k3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laatste gedeelte van de kolommenbalans: de verlies &amp; winstrekening en de eindba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00200"/>
          <a:ext cx="8229600" cy="3132000"/>
        </p:xfrm>
        <a:graphic>
          <a:graphicData uri="http://schemas.openxmlformats.org/drawingml/2006/table">
            <a:tbl>
              <a:tblPr/>
              <a:tblGrid>
                <a:gridCol w="1219320"/>
                <a:gridCol w="914400"/>
                <a:gridCol w="914400"/>
                <a:gridCol w="914400"/>
                <a:gridCol w="863640"/>
                <a:gridCol w="838080"/>
                <a:gridCol w="863640"/>
                <a:gridCol w="838080"/>
                <a:gridCol w="863640"/>
              </a:tblGrid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efbal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ldibal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/w r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indbal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orra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.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d.k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Rectangle 306"/>
          <p:cNvSpPr/>
          <p:nvPr/>
        </p:nvSpPr>
        <p:spPr>
          <a:xfrm>
            <a:off x="673200" y="5157720"/>
            <a:ext cx="82296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 iedere grootboekrekening geldt dat het saldo of naar de v/w rekening gaat of naar de eindbalans (behalve privé, die komt niet terug op v/w rek of eindbalans maar op de rekening Eigen Vermoge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slot van de kolommenbala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verlies &amp; winstrekening wordt in evenwicht gebracht door het saldo aan de kleinste kant te vermelden. Dit saldo is de winst of het verlies van deze peri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winst/verliessaldo wordt ingevuld op de grootboekrekening Eigen Vermo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eindbalans is, als het goed is, automatisch in evenwich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orte samenvatting van les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anderingen in het Eigen Vermogen worden geboekt op hulprekeningen van het Eigen Vermogen zodat de oorzaken van de veranderingen duidelijk zij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nanciële feiten worden verwerkt in het journa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grootboek wordt geopend met de gegevens van de balans en bijgewerkt a.h.v. de journaalpos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venwicht is belangrijk. De balans heeft debet en credit dezelfde telling, iedere journaalpost is in evenwicht en het journaal in zijn geheel heeft ook gelijke tellin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eerste stap op weg naar het afronden van de boekhoudcyclus is het maken van een proefba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57200" y="1844640"/>
          <a:ext cx="8229600" cy="3151080"/>
        </p:xfrm>
        <a:graphic>
          <a:graphicData uri="http://schemas.openxmlformats.org/drawingml/2006/table">
            <a:tbl>
              <a:tblPr/>
              <a:tblGrid>
                <a:gridCol w="5724360"/>
                <a:gridCol w="1285920"/>
                <a:gridCol w="1219320"/>
              </a:tblGrid>
              <a:tr h="55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efbal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am grootboekreke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bouw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orra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thecaire le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z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Rectangle 100"/>
          <p:cNvSpPr/>
          <p:nvPr/>
        </p:nvSpPr>
        <p:spPr>
          <a:xfrm>
            <a:off x="673200" y="4941720"/>
            <a:ext cx="822960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le grootboekrekeningen worden op een rijtje gezet. Zowel de debettelling als de credittelling worden vermeld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totaaltelling van de proefbalans is gelijk aan die van het journaal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proefbalans is in evenwic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volgende stap is het maken van een saldibal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600200"/>
          <a:ext cx="8229600" cy="2960640"/>
        </p:xfrm>
        <a:graphic>
          <a:graphicData uri="http://schemas.openxmlformats.org/drawingml/2006/table">
            <a:tbl>
              <a:tblPr/>
              <a:tblGrid>
                <a:gridCol w="4402080"/>
                <a:gridCol w="957240"/>
                <a:gridCol w="954000"/>
                <a:gridCol w="952560"/>
                <a:gridCol w="963720"/>
              </a:tblGrid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efbal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ldibal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am grootboekreke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bouw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orra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thecaire le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z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Rectangle 163"/>
          <p:cNvSpPr/>
          <p:nvPr/>
        </p:nvSpPr>
        <p:spPr>
          <a:xfrm>
            <a:off x="673200" y="4508640"/>
            <a:ext cx="82296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7"/>
          <p:cNvSpPr/>
          <p:nvPr/>
        </p:nvSpPr>
        <p:spPr>
          <a:xfrm>
            <a:off x="673200" y="4869000"/>
            <a:ext cx="82296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 de saldibalans komt van iedere grootboekrekening het saldo: het verschil tussen debet en credit. Het saldo komt aan de kant die het grootst 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grootboekrekeningen worden afgeslo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dat alle grootboekrekeningen zijn geopend en bijgewerkt a.h.v. het journaal worden eerst de proef- en saldibalans gemaak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volgens worden de grootboekrekeningen afgesloten: er wordt evenwicht gecreëerd door aan de kant waar het totaalbedrag het kleinst is het saldo te vermel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grootboekrekening Eigen Vermogen wordt nog niet afgesloten, daar moet het saldo van Privé nog bij en de winst of het verlies van deze peri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grootboekrekeningen van bezit en schuld, en op de rekening Eigen Vermogen, komt bij het saldo te staan: naar Bal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hulprekeningen van het Eigen Vermogen komt te staan: naar verlies/winstrekening. Behalve op de rekening privé, daar komt te staan: naar Eigen Vermo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ootboekrekening afslui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1600200"/>
          <a:ext cx="8229600" cy="4129200"/>
        </p:xfrm>
        <a:graphic>
          <a:graphicData uri="http://schemas.openxmlformats.org/drawingml/2006/table">
            <a:tbl>
              <a:tblPr/>
              <a:tblGrid>
                <a:gridCol w="1046160"/>
                <a:gridCol w="1857240"/>
                <a:gridCol w="1238400"/>
                <a:gridCol w="1236600"/>
                <a:gridCol w="1841400"/>
                <a:gridCol w="1009800"/>
              </a:tblGrid>
              <a:tr h="5094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orra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schrijv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n Bal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koo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koo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===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schrijv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koo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koo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ar Bal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===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83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ootboekrekening afslui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57200" y="1600200"/>
          <a:ext cx="8229600" cy="3824280"/>
        </p:xfrm>
        <a:graphic>
          <a:graphicData uri="http://schemas.openxmlformats.org/drawingml/2006/table">
            <a:tbl>
              <a:tblPr/>
              <a:tblGrid>
                <a:gridCol w="1046160"/>
                <a:gridCol w="1857240"/>
                <a:gridCol w="1238400"/>
                <a:gridCol w="1236600"/>
                <a:gridCol w="1841400"/>
                <a:gridCol w="10098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ypothecaire le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schrijv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floss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ar Bal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====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schrijv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n Bal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===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ootboekrekening afslui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600200"/>
          <a:ext cx="8229600" cy="4129200"/>
        </p:xfrm>
        <a:graphic>
          <a:graphicData uri="http://schemas.openxmlformats.org/drawingml/2006/table">
            <a:tbl>
              <a:tblPr/>
              <a:tblGrid>
                <a:gridCol w="1046160"/>
                <a:gridCol w="1857240"/>
                <a:gridCol w="1238400"/>
                <a:gridCol w="1236600"/>
                <a:gridCol w="1841400"/>
                <a:gridCol w="1009800"/>
              </a:tblGrid>
              <a:tr h="5094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derhoudskos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schrijv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 b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 k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 reke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====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schrijv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ar v/w-r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===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83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14:52:59Z</dcterms:created>
  <dc:creator>Jeannet Hommel-Rozendaal</dc:creator>
  <dc:description/>
  <dc:language>en-US</dc:language>
  <cp:lastModifiedBy>Gert Jan De Boer</cp:lastModifiedBy>
  <dcterms:modified xsi:type="dcterms:W3CDTF">2015-05-05T17:04:51Z</dcterms:modified>
  <cp:revision>7</cp:revision>
  <dc:subject/>
  <dc:title>Elementair Boekhouden</dc:title>
</cp:coreProperties>
</file>