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0151-0A5B-4F39-B907-E5B710C4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D91A-14BF-49A2-80A8-BA142E23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C69A-8650-498F-8F79-A8E857DD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6CC1-64F8-4B63-A959-62C3A737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6CED-AB35-4C22-8F01-25E85282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E1D8-24AD-4A8C-800D-91E7F750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80C-039A-4570-97E4-0904D64F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908D-1A43-4327-B803-487CC4C3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6BA0-505E-427E-A91E-9E343C48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C19C-D4AE-4BDE-8EAC-D85BC76E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685E-C668-4418-87DD-0288D116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C6ED-8459-408F-9FDC-F54FEF33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4931-9FFB-41E3-AF4F-519B2680FF2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voudig Boekhoud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i 2015 GJ de Boer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k3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nde van les 1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geet je huiswerk ni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ijk op Itslearn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647720" y="1125360"/>
          <a:ext cx="5848560" cy="522288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1960"/>
                <a:gridCol w="146232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be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ans per… van .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7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a of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itting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 heeft men met het geld gedaan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a of Vermog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r komt het geld vandaan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647720" y="1125360"/>
          <a:ext cx="5848560" cy="588492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1960"/>
                <a:gridCol w="1462320"/>
              </a:tblGrid>
              <a:tr h="4672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be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ans per.. van.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21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ste Activ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ottende Activ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e Middel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gen Vermog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emd Vermogen Lan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emd Vermogen Kor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inanciële fei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een goede administratie worden alle financiële gegevens systematisch vastgeleg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leggen vindt plaats op basis van boekingsstukken. Bijv. rekeningen, kassabonnen en overzichten van de b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oekingsstukken worden opgenomen in een dagbo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grootb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grootboek bestaat uit een grote hoeveelheid grootboekrekenin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zijn overzichten per bezitting, schuld, 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financiële feiten worden (via het dagboek) op de grootboekrekeningen verwerk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ekingsreg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bijwerken van grootboekrekeningen gebeurt aan de hand van reg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iets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grote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ordt komt het aan dezelfde kant als op de bal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iets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kleine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ordt komt het aan de andere kant (want in de boekhouding wordt alleen opgeteld nooit afgetrokke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116000" y="1125360"/>
          <a:ext cx="6769080" cy="6334200"/>
        </p:xfrm>
        <a:graphic>
          <a:graphicData uri="http://schemas.openxmlformats.org/drawingml/2006/table">
            <a:tbl>
              <a:tblPr/>
              <a:tblGrid>
                <a:gridCol w="1692360"/>
                <a:gridCol w="1693800"/>
                <a:gridCol w="1690560"/>
                <a:gridCol w="1692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be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ans per.. van.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9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ittinge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 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 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V 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gen Vermoge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emd Vermogen (schulden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 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 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V 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op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465300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orraa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bij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526248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orraa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koop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koop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1:59:43Z</dcterms:created>
  <dc:creator>Jeannet Hommel-Rozendaal</dc:creator>
  <dc:description/>
  <dc:language>en-US</dc:language>
  <cp:lastModifiedBy>Gert Jan De Boer</cp:lastModifiedBy>
  <dcterms:modified xsi:type="dcterms:W3CDTF">2015-05-05T15:05:33Z</dcterms:modified>
  <cp:revision>6</cp:revision>
  <dc:subject/>
  <dc:title>Elementair Boekhouden</dc:title>
</cp:coreProperties>
</file>