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E39-24B6-4013-AD4D-81C39A92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5EA-7081-4427-9410-4C52CE07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B3FA-5AE2-4A7B-AB57-07AC2FA2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850-E55E-41ED-9B92-E7E95FF1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793-477D-4B42-B7BD-62FEE64C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907B-9DFA-4800-9991-5C4B436D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48F1-CCE5-4E4D-AD05-9BF094FA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C68B-BB8E-41A5-A38D-8D79B7EE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032A-6CC1-42E6-984B-46B131E5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B2E-F158-497C-BFD3-F2B3C6DC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6F8-76C0-4A61-B1BE-1EB8C235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F3A7-FF5E-4D0B-8E64-09E8BFAA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7F2D-FA73-41C5-B027-2E88FE72F9C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voudig Boekhoud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i 2015 GJ de Boer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k3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nde van les 1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geet je huiswerk ni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ijk op Itslearn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647720" y="1125360"/>
          <a:ext cx="5848560" cy="522288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1960"/>
                <a:gridCol w="14623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… van .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7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 of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ittin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 heeft men met het geld gedaan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a of Vermo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 komt het geld vandaan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47720" y="1125360"/>
          <a:ext cx="5848560" cy="588492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1960"/>
                <a:gridCol w="1462320"/>
              </a:tblGrid>
              <a:tr h="467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.. van.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21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ste Activ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ottende Activ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e Middel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en Vermo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Lan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Kor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inanciële f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een goede administratie worden alle financiële gegevens systematisch vastgeleg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leggen vindt plaats op basis van boekingsstukken. Bijv. rekeningen, kassabonnen en overzichten van de b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oekingsstukken worden opgenomen in een dagbo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groot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grootboek bestaat uit een grote hoeveelheid grootboekreken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zijn overzichten per bezitting, schuld, 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financiële feiten worden (via het dagboek) op de grootboekrekeningen verwer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ekingsreg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bijwerken van grootboekrekeningen gebeurt aan de hand van reg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ets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grot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rdt komt het aan dezelfde kant als op de bal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ets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klein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rdt komt het aan de andere kant (want in de boekhouding wordt alleen opgeteld nooit afgetrokk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16000" y="1125360"/>
          <a:ext cx="6769080" cy="6334200"/>
        </p:xfrm>
        <a:graphic>
          <a:graphicData uri="http://schemas.openxmlformats.org/drawingml/2006/table">
            <a:tbl>
              <a:tblPr/>
              <a:tblGrid>
                <a:gridCol w="1692360"/>
                <a:gridCol w="1693800"/>
                <a:gridCol w="1690560"/>
                <a:gridCol w="1692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.. van.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ittinge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V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en Vermoge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(schulden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V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op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6530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bij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526248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59:43Z</dcterms:created>
  <dc:creator>Jeannet Hommel-Rozendaal</dc:creator>
  <dc:description/>
  <dc:language>en-US</dc:language>
  <cp:lastModifiedBy>Gert Jan De Boer</cp:lastModifiedBy>
  <dcterms:modified xsi:type="dcterms:W3CDTF">2015-05-05T15:05:33Z</dcterms:modified>
  <cp:revision>6</cp:revision>
  <dc:subject/>
  <dc:title>Elementair Boekhouden</dc:title>
</cp:coreProperties>
</file>