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A93-65A3-4DC3-BAC4-D717FD0F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BA6-D331-4494-A4B5-F2118D4B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357-6E09-4662-BB40-A0F73397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7D6-48FE-47E6-A2C4-94EC2398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E28-39E8-4DB5-AAE6-97AEA596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B35-DEFE-4D38-BED5-31186DA5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F35-FEE6-4164-85BD-AC172B09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A08-21B9-4E1F-B0C5-E723829A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989-D1C8-4577-8B20-98C0D2B8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82E-D9E0-4102-948C-22F2FEA6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FF0-686D-46A7-8C4E-79EA8927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74F-3FFD-4981-B261-7156F2B6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D876-DF6F-4D35-9CF6-803B4B0AAA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stof bij Taak 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laatste gedeelte van de kolommenbalans: de verlies &amp; winstrekening en de eind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1320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914400"/>
                <a:gridCol w="914400"/>
                <a:gridCol w="863640"/>
                <a:gridCol w="838080"/>
                <a:gridCol w="863640"/>
                <a:gridCol w="838080"/>
                <a:gridCol w="8636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/w 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d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.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d.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06"/>
          <p:cNvSpPr/>
          <p:nvPr/>
        </p:nvSpPr>
        <p:spPr>
          <a:xfrm>
            <a:off x="673200" y="51577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iedere grootboekrekening geldt dat het saldo of naar de v/w rekening gaat of naar de eindbalans (behalve privé, die komt niet terug op v/w rek of eindbalans maar op de rekening Eigen Vermo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slot van de kolommenbal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lies &amp; winstrekening wordt in evenwicht gebracht door het saldo aan de kleinste kant te vermelden. Dit saldo is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inst/verliessaldo wordt ingevuld op de grootboekrekening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indbalans is, als het goed is, automatisch in evenw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samenvatting van le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anderingen in het Eigen Vermogen worden geboekt op hulprekeningen van het Eigen Vermogen zodat de oorzaken van de veranderingen duidelijk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le feiten worden verwerkt in het journ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boek wordt geopend met de gegevens van de balans en bijgewerkt a.h.v. de journaalpo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wicht is belangrijk. De balans heeft debet en credit dezelfde telling, iedere journaalpost is in evenwicht en het journaal in zijn geheel heeft ook gelijke tell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erste stap op weg naar het afronden van de boekhoudcyclus is het maken van een proef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44640"/>
          <a:ext cx="8229600" cy="3151080"/>
        </p:xfrm>
        <a:graphic>
          <a:graphicData uri="http://schemas.openxmlformats.org/drawingml/2006/table">
            <a:tbl>
              <a:tblPr/>
              <a:tblGrid>
                <a:gridCol w="5724360"/>
                <a:gridCol w="1285920"/>
                <a:gridCol w="121932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00"/>
          <p:cNvSpPr/>
          <p:nvPr/>
        </p:nvSpPr>
        <p:spPr>
          <a:xfrm>
            <a:off x="673200" y="4941720"/>
            <a:ext cx="82296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grootboekrekeningen worden op een rijtje gezet. Zowel de debettelling als de credittelling worden vermel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totaaltelling van de proefbalans is gelijk aan die van het journaal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roefbalans is in evenw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stap is het maken van een saldiba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2960640"/>
        </p:xfrm>
        <a:graphic>
          <a:graphicData uri="http://schemas.openxmlformats.org/drawingml/2006/table">
            <a:tbl>
              <a:tblPr/>
              <a:tblGrid>
                <a:gridCol w="4402080"/>
                <a:gridCol w="957240"/>
                <a:gridCol w="954000"/>
                <a:gridCol w="952560"/>
                <a:gridCol w="9637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63"/>
          <p:cNvSpPr/>
          <p:nvPr/>
        </p:nvSpPr>
        <p:spPr>
          <a:xfrm>
            <a:off x="673200" y="4508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7"/>
          <p:cNvSpPr/>
          <p:nvPr/>
        </p:nvSpPr>
        <p:spPr>
          <a:xfrm>
            <a:off x="673200" y="486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saldibalans komt van iedere grootboekrekening het saldo: het verschil tussen debet en credit. Het saldo komt aan de kant die het groots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boekrekeningen worden af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dat alle grootboekrekeningen zijn geopend en bijgewerkt a.h.v. het journaal worden eerst de proef- en saldibalans gemaa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s worden de grootboekrekeningen afgesloten: er wordt evenwicht gecreëerd door aan de kant waar het totaalbedrag het kleinst is het saldo te vermel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boekrekening Eigen Vermogen wordt nog niet afgesloten, daar moet het saldo van Privé nog bij en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grootboekrekeningen van bezit en schuld, en op de rekening Eigen Vermogen, komt bij het saldo te staan: naar Ba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hulprekeningen van het Eigen Vermogen komt te staan: naar verlies/winstrekening. Behalve op de rekening privé, daar komt te staan: naar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8242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hecaire l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lo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derhoudsko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k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 rek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v/w-r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52:59Z</dcterms:created>
  <dc:creator>Jeannet Hommel-Rozendaal</dc:creator>
  <dc:description/>
  <dc:language>en-US</dc:language>
  <cp:lastModifiedBy>Gert Jan De Boer</cp:lastModifiedBy>
  <dcterms:modified xsi:type="dcterms:W3CDTF">2015-05-05T17:04:51Z</dcterms:modified>
  <cp:revision>7</cp:revision>
  <dc:subject/>
  <dc:title>Elementair Boekhouden</dc:title>
</cp:coreProperties>
</file>