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697-5A53-42E8-BA3C-00BBDCA4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2DD-43D6-421D-AB79-27DF6F07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C9-3F54-4B8B-B6D3-716E0304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02A-2FBD-4E93-8F6B-E131705D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DD4-FDB7-404D-968C-BC91E785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CD2-10D0-4BA0-871B-8BBC932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BFE-516F-4FC8-9ACA-05E9F7A7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B68-52FD-4D33-959C-8526861A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43E-2A7C-498D-BD84-0166F3B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778-8FF5-4A46-BB36-2F3C53A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9FC-FF2A-4D8D-87B5-9498693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A3B-1DCF-4D25-A9FF-7D10BA7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502-48D1-48E8-BB06-ADABFACCCD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ekhoud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stof bij Taak 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 2015 GJ de Boer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k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laatste gedeelte van de kolommenbalans: de verlies &amp; winstrekening en de eind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132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914400"/>
                <a:gridCol w="914400"/>
                <a:gridCol w="863640"/>
                <a:gridCol w="838080"/>
                <a:gridCol w="863640"/>
                <a:gridCol w="838080"/>
                <a:gridCol w="86364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/w r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d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.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d.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06"/>
          <p:cNvSpPr/>
          <p:nvPr/>
        </p:nvSpPr>
        <p:spPr>
          <a:xfrm>
            <a:off x="673200" y="5157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iedere grootboekrekening geldt dat het saldo of naar de v/w rekening gaat of naar de eindbalans (behalve privé, die komt niet terug op v/w rek of eindbalans maar op de rekening Eigen Vermo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slot van de kolommenbal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lies &amp; winstrekening wordt in evenwicht gebracht door het saldo aan de kleinste kant te vermelden. Dit saldo is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inst/verliessaldo wordt ingevuld op de grootboekrekening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indbalans is, als het goed is, automatisch in evenw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samenvatting van le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anderingen in het Eigen Vermogen worden geboekt op hulprekeningen van het Eigen Vermogen zodat de oorzaken van de veranderingen duidelijk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anciële feiten worden verwerkt in het journ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boek wordt geopend met de gegevens van de balans en bijgewerkt a.h.v. de journaalpo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enwicht is belangrijk. De balans heeft debet en credit dezelfde telling, iedere journaalpost is in evenwicht en het journaal in zijn geheel heeft ook gelijke tell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erste stap op weg naar het afronden van de boekhoudcyclus is het maken van een proefba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44640"/>
          <a:ext cx="8229600" cy="3151080"/>
        </p:xfrm>
        <a:graphic>
          <a:graphicData uri="http://schemas.openxmlformats.org/drawingml/2006/table">
            <a:tbl>
              <a:tblPr/>
              <a:tblGrid>
                <a:gridCol w="5724360"/>
                <a:gridCol w="1285920"/>
                <a:gridCol w="121932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00"/>
          <p:cNvSpPr/>
          <p:nvPr/>
        </p:nvSpPr>
        <p:spPr>
          <a:xfrm>
            <a:off x="673200" y="4941720"/>
            <a:ext cx="8229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grootboekrekeningen worden op een rijtje gezet. Zowel de debettelling als de credittelling worden vermel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totaaltelling van de proefbalans is gelijk aan die van het journaal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roefbalans is in evenw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stap is het maken van een saldiba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2960640"/>
        </p:xfrm>
        <a:graphic>
          <a:graphicData uri="http://schemas.openxmlformats.org/drawingml/2006/table">
            <a:tbl>
              <a:tblPr/>
              <a:tblGrid>
                <a:gridCol w="4402080"/>
                <a:gridCol w="957240"/>
                <a:gridCol w="954000"/>
                <a:gridCol w="952560"/>
                <a:gridCol w="9637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ef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diba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m grootboekrek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bouw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orra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thecaire l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163"/>
          <p:cNvSpPr/>
          <p:nvPr/>
        </p:nvSpPr>
        <p:spPr>
          <a:xfrm>
            <a:off x="673200" y="450864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7"/>
          <p:cNvSpPr/>
          <p:nvPr/>
        </p:nvSpPr>
        <p:spPr>
          <a:xfrm>
            <a:off x="673200" y="4869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de saldibalans komt van iedere grootboekrekening het saldo: het verschil tussen debet en credit. Het saldo komt aan de kant die het groots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boekrekeningen worden af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dat alle grootboekrekeningen zijn geopend en bijgewerkt a.h.v. het journaal worden eerst de proef- en saldibalans gemaa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s worden de grootboekrekeningen afgesloten: er wordt evenwicht gecreëerd door aan de kant waar het totaalbedrag het kleinst is het saldo te verme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boekrekening Eigen Vermogen wordt nog niet afgesloten, daar moet het saldo van Privé nog bij en de winst of het verlies van deze per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grootboekrekeningen van bezit en schuld, en op de rekening Eigen Vermogen, komt bij het saldo te staan: naar Ba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hulprekeningen van het Eigen Vermogen komt te staan: naar verlies/winstrekening. Behalve op de rekening privé, daar komt te staan: naar Eigen Verm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orra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ko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koo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382428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hecaire l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lo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 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boekrekening af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129200"/>
        </p:xfrm>
        <a:graphic>
          <a:graphicData uri="http://schemas.openxmlformats.org/drawingml/2006/table">
            <a:tbl>
              <a:tblPr/>
              <a:tblGrid>
                <a:gridCol w="1046160"/>
                <a:gridCol w="1857240"/>
                <a:gridCol w="1238400"/>
                <a:gridCol w="1236600"/>
                <a:gridCol w="1841400"/>
                <a:gridCol w="1009800"/>
              </a:tblGrid>
              <a:tr h="509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b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derhoudsko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k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 rek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mschrij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ar v/w-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==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83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52:59Z</dcterms:created>
  <dc:creator>Jeannet Hommel-Rozendaal</dc:creator>
  <dc:description/>
  <dc:language>en-US</dc:language>
  <cp:lastModifiedBy>Gert Jan De Boer</cp:lastModifiedBy>
  <dcterms:modified xsi:type="dcterms:W3CDTF">2015-05-05T17:04:51Z</dcterms:modified>
  <cp:revision>7</cp:revision>
  <dc:subject/>
  <dc:title>Elementair Boekhouden</dc:title>
</cp:coreProperties>
</file>