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F28-3B47-4E3E-9548-CD5CDCC0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0B5-4324-4398-9623-4C565F5F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8FF-0075-4696-AF20-E61B33CA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148-6FEE-4823-8688-91EC5D28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8C9-E19E-482C-8282-A6EADE48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3B4-A22F-4E19-A8BE-928324D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EA5-CE1D-4661-A0F1-AAF2E48D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CD1-E8AC-4D83-96D6-2478610E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D57-188A-48E4-9244-416B551E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69E-6687-43EE-9551-D371617D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F44-118E-4718-94D4-B03A419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8F8-B80A-47C2-8FBD-35F3601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7CAF-8604-43FB-942E-18F651EDBF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voudig 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van les 1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geet je huiswerk ni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Itslear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47720" y="1125360"/>
          <a:ext cx="5848560" cy="522288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… van 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 of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heeft men met het geld ge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a of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 komt het geld vandaan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47720" y="1125360"/>
          <a:ext cx="5848560" cy="5884920"/>
        </p:xfrm>
        <a:graphic>
          <a:graphicData uri="http://schemas.openxmlformats.org/drawingml/2006/table">
            <a:tbl>
              <a:tblPr/>
              <a:tblGrid>
                <a:gridCol w="1462320"/>
                <a:gridCol w="1461960"/>
                <a:gridCol w="1461960"/>
                <a:gridCol w="1462320"/>
              </a:tblGrid>
              <a:tr h="467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2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ttende Activ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e Middel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La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K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nanciële f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een goede administratie worden alle financiële gegevens systematisch vastgele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leggen vindt plaats op basis van boekingsstukken. Bijv. rekeningen, kassabonnen en overzichten van d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ekingsstukken worden opgenomen in een dagb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groot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rootboek bestaat uit een grote hoeveelheid grootboekreken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zijn overzichten per bezitting, schuld,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financiële feiten worden (via het dagboek) op de grootboekrekeningen verwer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ings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bijwerken van grootboekrekeningen gebeurt aan de hand van reg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ro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zelfde kant als op de ba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ets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klein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rdt komt het aan de andere kant (want in de boekhouding wordt alleen opgeteld nooit afgetrokk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16000" y="1125360"/>
          <a:ext cx="6769080" cy="6334200"/>
        </p:xfrm>
        <a:graphic>
          <a:graphicData uri="http://schemas.openxmlformats.org/drawingml/2006/table">
            <a:tbl>
              <a:tblPr/>
              <a:tblGrid>
                <a:gridCol w="1692360"/>
                <a:gridCol w="1693800"/>
                <a:gridCol w="1690560"/>
                <a:gridCol w="1692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be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ans per.. van.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ittin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en Vermoge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emd Vermogen (schulden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 +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op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530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bij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52624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9:43Z</dcterms:created>
  <dc:creator>Jeannet Hommel-Rozendaal</dc:creator>
  <dc:description/>
  <dc:language>en-US</dc:language>
  <cp:lastModifiedBy>Gert Jan De Boer</cp:lastModifiedBy>
  <dcterms:modified xsi:type="dcterms:W3CDTF">2015-05-05T15:05:33Z</dcterms:modified>
  <cp:revision>6</cp:revision>
  <dc:subject/>
  <dc:title>Elementair Boekhouden</dc:title>
</cp:coreProperties>
</file>