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gif" ContentType="image/gif"/>
  <Override PartName="/ppt/media/image6.gif" ContentType="image/gif"/>
  <Override PartName="/ppt/media/image9.png" ContentType="image/png"/>
  <Override PartName="/ppt/media/image5.gif" ContentType="image/gif"/>
  <Override PartName="/ppt/media/book%20turning%20pages.wav" ContentType="audio/x-wav"/>
  <Override PartName="/ppt/media/amazed.wav" ContentType="audio/x-wav"/>
  <Override PartName="/ppt/media/image4.gif" ContentType="image/gif"/>
  <Override PartName="/ppt/media/image7.gif" ContentType="image/gif"/>
  <Override PartName="/ppt/media/train.wav" ContentType="audio/x-wav"/>
  <Override PartName="/ppt/media/drumroll.wav" ContentType="audio/x-wav"/>
  <Override PartName="/ppt/media/image12.gif" ContentType="image/gif"/>
  <Override PartName="/ppt/media/image3.png" ContentType="image/png"/>
  <Override PartName="/ppt/media/whoosh.wav" ContentType="audio/x-wav"/>
  <Override PartName="/ppt/media/carhorn.wav" ContentType="audio/x-wav"/>
  <Override PartName="/ppt/media/image20.gif" ContentType="image/gif"/>
  <Override PartName="/ppt/media/image18.gif" ContentType="image/gif"/>
  <Override PartName="/ppt/media/image17.gif" ContentType="image/gif"/>
  <Override PartName="/ppt/media/explode.wav" ContentType="audio/x-wav"/>
  <Override PartName="/ppt/media/image15.gif" ContentType="image/gif"/>
  <Override PartName="/ppt/media/image19.gif" ContentType="image/gif"/>
  <Override PartName="/ppt/media/image1.png" ContentType="image/png"/>
  <Override PartName="/ppt/media/kids%20cheer.wav" ContentType="audio/x-wav"/>
  <Override PartName="/ppt/media/image14.gif" ContentType="image/gif"/>
  <Override PartName="/ppt/media/image16.png" ContentType="image/png"/>
  <Override PartName="/ppt/media/image13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4600-789F-44BE-88A2-6AE1569E656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0452-F3CC-4ED5-BFD9-E67D14F3353F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12E9-0092-447D-BD4E-4F56CD1DD6AE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9731-4695-49C1-8833-6642396C5151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3E13-646F-4275-A363-1C04BFF70ECC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BF86-062E-42CD-8EE8-562D6AA22770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B4D8-2E5C-4FFA-BF1B-F22C58B842FC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BFA0-0792-4603-9110-F7DA2CE49C91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98FE-CB6B-41BD-BEA7-DC8EB986311C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92F5-7271-4FDB-A580-5FBCF0CE5331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B5B1-9FE1-422D-A81C-43240DE5BD49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EF5D-D805-4227-9758-9ABB1CF84E07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D653-22C3-4DFD-A3F8-E63C7F3C87B8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140F-82DB-4FDD-83D5-E9241A5DDAC4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6653-C466-42B8-A45A-8333808BDF50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7CC2-7DAF-4B4E-8656-21086E0A9D11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5EF5-72FA-4319-845F-E96407937AE3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4469-E038-44D0-B3E8-BE7D690EEE2E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6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57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55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6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57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6360" y="62136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6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7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6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7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56360" y="62136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ebff"/>
            </a:gs>
            <a:gs pos="100000">
              <a:srgbClr val="f0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457200" y="0"/>
              <a:ext cx="2743200" cy="1166760"/>
            </a:xfrm>
            <a:prstGeom prst="pie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Group 6"/>
          <p:cNvGrpSpPr/>
          <p:nvPr/>
        </p:nvGrpSpPr>
        <p:grpSpPr>
          <a:xfrm>
            <a:off x="250560" y="1700280"/>
            <a:ext cx="7391160" cy="318960"/>
            <a:chOff x="250560" y="1700280"/>
            <a:chExt cx="7391160" cy="318960"/>
          </a:xfrm>
        </p:grpSpPr>
        <p:sp>
          <p:nvSpPr>
            <p:cNvPr id="4" name="AutoShape 7"/>
            <p:cNvSpPr/>
            <p:nvPr/>
          </p:nvSpPr>
          <p:spPr>
            <a:xfrm>
              <a:off x="631440" y="170028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AutoShape 8"/>
            <p:cNvSpPr/>
            <p:nvPr/>
          </p:nvSpPr>
          <p:spPr>
            <a:xfrm flipH="1">
              <a:off x="250200" y="170028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0" y="6382800"/>
            <a:ext cx="10620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007-</a:t>
            </a:r>
            <a:fld id="{EC452AC5-F4CA-4B74-8BBB-6ACA8673683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jm-z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ebff"/>
            </a:gs>
            <a:gs pos="100000">
              <a:srgbClr val="f0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drumroll.wav"/><Relationship Id="rId5" Type="http://schemas.openxmlformats.org/officeDocument/2006/relationships/audio" Target="../media/whoosh.wav"/><Relationship Id="rId6" Type="http://schemas.openxmlformats.org/officeDocument/2006/relationships/audio" Target="../media/train.wav"/><Relationship Id="rId7" Type="http://schemas.openxmlformats.org/officeDocument/2006/relationships/audio" Target="../media/train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3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audio" Target="../media/carhorn.wav"/><Relationship Id="rId6" Type="http://schemas.openxmlformats.org/officeDocument/2006/relationships/audio" Target="../media/book%20turning%20pag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book%20turning%20pag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file:///tmp/home/.config/libreoffice/4/user/gallery/book%20turning%20pages.wav" TargetMode="External"/><Relationship Id="rId3" Type="http://schemas.microsoft.com/office/2007/relationships/media" Target="file:///tmp/home/.config/libreoffice/4/user/gallery/book%20turning%20pages.wav" TargetMode="External"/><Relationship Id="rId4" Type="http://schemas.openxmlformats.org/officeDocument/2006/relationships/image" Target="../media/image9.png"/><Relationship Id="rId5" Type="http://schemas.openxmlformats.org/officeDocument/2006/relationships/audio" Target="../media/amaze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file:///tmp/home/.config/libreoffice/4/user/gallery/kids%20cheer.wav" TargetMode="External"/><Relationship Id="rId7" Type="http://schemas.microsoft.com/office/2007/relationships/media" Target="file:///tmp/home/.config/libreoffice/4/user/gallery/kids%20cheer.wav" TargetMode="Externa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audio" Target="../media/train.wav"/><Relationship Id="rId6" Type="http://schemas.openxmlformats.org/officeDocument/2006/relationships/audio" Target="../media/kids%20che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book%20turning%20page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audio" Target="file:///tmp/home/.config/libreoffice/4/user/gallery/explode.wav" TargetMode="External"/><Relationship Id="rId13" Type="http://schemas.microsoft.com/office/2007/relationships/media" Target="file:///tmp/home/.config/libreoffice/4/user/gallery/explode.wav" TargetMode="External"/><Relationship Id="rId14" Type="http://schemas.openxmlformats.org/officeDocument/2006/relationships/image" Target="../media/image9.png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321120" y="1166040"/>
            <a:ext cx="73418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present continuo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03280" y="1917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tegenwoordige tijd (o.t.t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6186600" y="1711440"/>
            <a:ext cx="1915920" cy="1190520"/>
          </a:xfrm>
          <a:prstGeom prst="cloudCallout">
            <a:avLst>
              <a:gd name="adj1" fmla="val -22578"/>
              <a:gd name="adj2" fmla="val 73601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hat no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6286680" y="639720"/>
            <a:ext cx="2584440" cy="2103480"/>
          </a:xfrm>
          <a:prstGeom prst="cloudCallout">
            <a:avLst>
              <a:gd name="adj1" fmla="val 12995"/>
              <a:gd name="adj2" fmla="val 67435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Some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ew ?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001880" y="4746600"/>
            <a:ext cx="59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et’s go……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15" descr="jongens die praten"/>
          <p:cNvPicPr/>
          <p:nvPr/>
        </p:nvPicPr>
        <p:blipFill>
          <a:blip r:embed="rId3"/>
          <a:stretch/>
        </p:blipFill>
        <p:spPr>
          <a:xfrm>
            <a:off x="6084720" y="3141720"/>
            <a:ext cx="2598840" cy="345600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rain.wav"/>
                                        </p:tgtEl>
                                      </p:cMediaNode>
                                    </p:audio>
                                    <p:animMotion origin="layout" path="M 0.07013 0.00209 L -0.96893 -3.7037E-006 E">
                                      <p:cBhvr>
                                        <p:cTn id="4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907F2C4D-26DD-4E1C-A316-1603AD4182EB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28800" y="2000160"/>
            <a:ext cx="77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ze tijd wordt gevormd met het werkwoord to BE en er staat dus een hulpwerkwoord in d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vestigen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zin, dan gebruik je die in j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raa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146240" y="416232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wem i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948200" y="416232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m I swimm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160640" y="5842080"/>
            <a:ext cx="331128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est hij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976640" y="584208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s he read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1133640" y="3360600"/>
            <a:ext cx="331128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4950000" y="3360600"/>
            <a:ext cx="33112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116208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497844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E5EACF58-DAB9-4BC5-8648-EBB79839DA6C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968400" y="289548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Fiets ik naar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844880" y="2895480"/>
            <a:ext cx="373392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m I cycling to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969840" y="373860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Gaan jullie we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862520" y="3738600"/>
            <a:ext cx="376092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you going awa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981000" y="45417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ten wij fr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4865760" y="4541760"/>
            <a:ext cx="3774960" cy="687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we eating fr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968400" y="548784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eest u een boe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4844880" y="5487840"/>
            <a:ext cx="41403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you reading a boo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11" descr="MMj03035000000[1]"/>
          <p:cNvPicPr/>
          <p:nvPr/>
        </p:nvPicPr>
        <p:blipFill>
          <a:blip r:embed="rId1"/>
          <a:stretch/>
        </p:blipFill>
        <p:spPr>
          <a:xfrm>
            <a:off x="3975120" y="2851200"/>
            <a:ext cx="961920" cy="733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MMAG00327_0000[1]"/>
          <p:cNvPicPr/>
          <p:nvPr/>
        </p:nvPicPr>
        <p:blipFill>
          <a:blip r:embed="rId2"/>
          <a:stretch/>
        </p:blipFill>
        <p:spPr>
          <a:xfrm>
            <a:off x="4303800" y="4678200"/>
            <a:ext cx="533160" cy="400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MMj02840840000[1]"/>
          <p:cNvPicPr/>
          <p:nvPr/>
        </p:nvPicPr>
        <p:blipFill>
          <a:blip r:embed="rId3"/>
          <a:stretch/>
        </p:blipFill>
        <p:spPr>
          <a:xfrm>
            <a:off x="4116240" y="3817800"/>
            <a:ext cx="1038240" cy="447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MMj03369140000[1]"/>
          <p:cNvPicPr/>
          <p:nvPr/>
        </p:nvPicPr>
        <p:blipFill>
          <a:blip r:embed="rId4"/>
          <a:stretch/>
        </p:blipFill>
        <p:spPr>
          <a:xfrm>
            <a:off x="4430880" y="5545080"/>
            <a:ext cx="34272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7"/>
          <p:cNvSpPr/>
          <p:nvPr/>
        </p:nvSpPr>
        <p:spPr>
          <a:xfrm>
            <a:off x="1119240" y="2160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g een paar voorbeeld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DB5A2735-1A68-49C5-BFF2-4F0F94327A6A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840" y="357840"/>
            <a:ext cx="8499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928800" y="2265480"/>
            <a:ext cx="7723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kenning in het Enge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tijd een hulpwerkwoord hebb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tekenen ni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kun je weglaten en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betekenis van de zin blij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, have, can, w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0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8" dur="1" fill="hold"/>
                                  <p:tgtEl>
                                    <p:spTgt spid="2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8CE58DE6-0F8D-4104-BC2F-8B10DFA800C6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28800" y="2265480"/>
            <a:ext cx="77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t hulpwerkwoord 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t weer gebruikt, want die staat ook in de bevestigende zi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925560" y="414648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 niet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948200" y="414648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not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39960" y="5842080"/>
            <a:ext cx="372096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 ni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976640" y="584208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not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912960" y="334476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4950000" y="3344760"/>
            <a:ext cx="33112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941400" y="502596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497844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0641A696-5E4C-44B8-A1C0-E72343B13C1B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824040" y="289548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 niet naar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844880" y="2895480"/>
            <a:ext cx="40784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not cycling to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824040" y="461160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ullie gaan niet we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844880" y="4611600"/>
            <a:ext cx="41086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You are not going aw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92000" y="3755880"/>
            <a:ext cx="378468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ij eten geen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813200" y="3755880"/>
            <a:ext cx="4124520" cy="6811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y are not eating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824040" y="548784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 leest g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844880" y="5487840"/>
            <a:ext cx="41403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You are not reading a boo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1119240" y="2160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g een paar voorbeeld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5CA9BC71-1ECE-4D05-BA79-10653B1BD06B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285840" y="289548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I cycle to school every da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572000" y="2895480"/>
            <a:ext cx="435132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 am walking to school 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285840" y="461160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 swims every wee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572000" y="4611600"/>
            <a:ext cx="43815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 is playing hockey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285840" y="375588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They always eat app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4572000" y="3755880"/>
            <a:ext cx="4365720" cy="6811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hey are eating a banana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285840" y="548784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You read book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572000" y="5500800"/>
            <a:ext cx="435780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You are reading a magazin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erschil present simple e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Tekstvak 14"/>
          <p:cNvSpPr/>
          <p:nvPr/>
        </p:nvSpPr>
        <p:spPr>
          <a:xfrm>
            <a:off x="928800" y="2214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6040"/>
                <a:tab algn="ctr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simp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38CB9E33-2538-45AC-B8C3-EEE85DDF1C36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 continous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eer maar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26920" y="213336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Picture 4" descr="MMj02135130000[1]"/>
          <p:cNvPicPr/>
          <p:nvPr/>
        </p:nvPicPr>
        <p:blipFill>
          <a:blip r:embed="rId1"/>
          <a:stretch/>
        </p:blipFill>
        <p:spPr>
          <a:xfrm>
            <a:off x="1325520" y="27399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MMj02952530000[1]"/>
          <p:cNvPicPr/>
          <p:nvPr/>
        </p:nvPicPr>
        <p:blipFill>
          <a:blip r:embed="rId2"/>
          <a:stretch/>
        </p:blipFill>
        <p:spPr>
          <a:xfrm>
            <a:off x="3792600" y="2913120"/>
            <a:ext cx="1218960" cy="714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MMj03653050000[1]"/>
          <p:cNvPicPr/>
          <p:nvPr/>
        </p:nvPicPr>
        <p:blipFill>
          <a:blip r:embed="rId3"/>
          <a:stretch/>
        </p:blipFill>
        <p:spPr>
          <a:xfrm>
            <a:off x="6783480" y="2619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MMj01892150000[1]"/>
          <p:cNvPicPr/>
          <p:nvPr/>
        </p:nvPicPr>
        <p:blipFill>
          <a:blip r:embed="rId4"/>
          <a:stretch/>
        </p:blipFill>
        <p:spPr>
          <a:xfrm>
            <a:off x="1357200" y="4429080"/>
            <a:ext cx="1428840" cy="819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3" descr="MMj02836550000[1]"/>
          <p:cNvPicPr/>
          <p:nvPr/>
        </p:nvPicPr>
        <p:blipFill>
          <a:blip r:embed="rId5"/>
          <a:stretch/>
        </p:blipFill>
        <p:spPr>
          <a:xfrm>
            <a:off x="7015320" y="4489560"/>
            <a:ext cx="533160" cy="8571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4"/>
          <p:cNvSpPr/>
          <p:nvPr/>
        </p:nvSpPr>
        <p:spPr>
          <a:xfrm>
            <a:off x="813600" y="373680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cks are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2049480" y="229248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are playing hoc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517320" y="52149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playing ch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5734080" y="373536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slee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4479480" y="5445000"/>
            <a:ext cx="43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is eating an ice-crea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92E54AD9-67F3-4EDA-A5E5-80E297F6090E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 continuous? – Vrag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MMj02835510000[1]"/>
          <p:cNvPicPr/>
          <p:nvPr/>
        </p:nvPicPr>
        <p:blipFill>
          <a:blip r:embed="rId1"/>
          <a:stretch/>
        </p:blipFill>
        <p:spPr>
          <a:xfrm>
            <a:off x="3743280" y="3005280"/>
            <a:ext cx="1728720" cy="1643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73272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circl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maz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859F59C1-2100-4C0C-861C-520EA10EC193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nhou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oorten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t is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nneer gebruik ik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oe maak ik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ragen in de 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tkenningen in de 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8" descr="MMj02135130000[1]"/>
          <p:cNvPicPr/>
          <p:nvPr/>
        </p:nvPicPr>
        <p:blipFill>
          <a:blip r:embed="rId1"/>
          <a:stretch/>
        </p:blipFill>
        <p:spPr>
          <a:xfrm>
            <a:off x="1403280" y="23493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MMj03034660000[1]"/>
          <p:cNvPicPr/>
          <p:nvPr/>
        </p:nvPicPr>
        <p:blipFill>
          <a:blip r:embed="rId2"/>
          <a:stretch/>
        </p:blipFill>
        <p:spPr>
          <a:xfrm>
            <a:off x="1403280" y="4797360"/>
            <a:ext cx="857160" cy="561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MMj02952530000[1]"/>
          <p:cNvPicPr/>
          <p:nvPr/>
        </p:nvPicPr>
        <p:blipFill>
          <a:blip r:embed="rId3"/>
          <a:stretch/>
        </p:blipFill>
        <p:spPr>
          <a:xfrm>
            <a:off x="5003640" y="333360"/>
            <a:ext cx="1219320" cy="714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MMj03653050000[1]"/>
          <p:cNvPicPr/>
          <p:nvPr/>
        </p:nvPicPr>
        <p:blipFill>
          <a:blip r:embed="rId4"/>
          <a:stretch/>
        </p:blipFill>
        <p:spPr>
          <a:xfrm>
            <a:off x="7451640" y="2637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MMj01892150000[1]"/>
          <p:cNvPicPr/>
          <p:nvPr/>
        </p:nvPicPr>
        <p:blipFill>
          <a:blip r:embed="rId5"/>
          <a:stretch/>
        </p:blipFill>
        <p:spPr>
          <a:xfrm>
            <a:off x="3851280" y="4221000"/>
            <a:ext cx="1428840" cy="819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4"/>
          <p:cNvSpPr/>
          <p:nvPr/>
        </p:nvSpPr>
        <p:spPr>
          <a:xfrm>
            <a:off x="1062720" y="342900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cks are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38240" y="5446800"/>
            <a:ext cx="27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is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3716280" y="112536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are playing hoc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4302000" y="49417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playing ch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5685120" y="373536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slee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 repeatCount="100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6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67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7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1" dur="1" fill="hold"/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2" dur="1" fill="hold"/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3" dur="1" fill="hold"/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4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D56EFA2F-ADDE-4E2D-B20F-89396F0675C5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orten zinn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vestig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ag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tkenn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t is zo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k lees 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aa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es ik een boe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, ni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k lees g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MCj00787110000[1]"/>
          <p:cNvPicPr/>
          <p:nvPr/>
        </p:nvPicPr>
        <p:blipFill>
          <a:blip r:embed="rId1"/>
          <a:stretch/>
        </p:blipFill>
        <p:spPr>
          <a:xfrm>
            <a:off x="7451640" y="3789360"/>
            <a:ext cx="871560" cy="211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837 -0.00764 C -0.53542 -0.03287 -0.40747 -0.08912 -0.39948 -0.08912 C -0.39045 -0.08912 -0.3599 -0.00833 -0.35694 0.0169 C -0.35295 0.04491 -0.25399 -0.0743 -0.24392 -0.0743 C -0.2349 -0.0743 -0.21285 0.16852 -0.20885 0.14051 C -0.20694 0.11528 -0.1283 -0.05949 -0.11927 -0.05949 C -0.11128 -0.05949 -0.10729 -0.03542 -0.10417 -0.01018 C -0.10122 0.01783 -0.09722 0.04583 -0.08819 0.04583 C -0.07917 0.04583 -0.07222 -0.01018 -0.07222 -0.00995 C -0.06927 -0.03542 -0.06615 -0.05949 -0.05729 -0.05949 C -0.04826 -0.05949 -0.04514 -0.03542 -0.04219 -0.01018 C -0.03819 0.01783 -0.03524 0.04583 -0.02517 0.04583 C -0.01615 0.04583 -0.01319 0.01783 -0.01024 -0.01018 C -0.00625 -0.03542 -0.0033 -0.05949 0.00573 -0.05949 C 0.01372 -0.05949 0.01771 -0.03542 0.02083 -0.01018 C 0.02378 0.01783 0.02778 0.04583 0.03681 0.04583 C 0.04583 0.04583 0.04878 0.01783 0.05278 -0.01018 E">
                                      <p:cBhvr>
                                        <p:cTn id="14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E3045C6C-8936-4B4B-872B-5367C60B3051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is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187280" y="227664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003640" y="227664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cycl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187280" y="314172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trein vertrek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5003640" y="314172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 train is leav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187280" y="400536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ij eten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003640" y="400536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e are eating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187280" y="486900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ij spe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003640" y="486900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y are play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12" descr="MMj03035000000[1]"/>
          <p:cNvPicPr/>
          <p:nvPr/>
        </p:nvPicPr>
        <p:blipFill>
          <a:blip r:embed="rId1"/>
          <a:stretch/>
        </p:blipFill>
        <p:spPr>
          <a:xfrm>
            <a:off x="4133880" y="2232000"/>
            <a:ext cx="961920" cy="733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4" descr="MMj03544800000[1]"/>
          <p:cNvPicPr/>
          <p:nvPr/>
        </p:nvPicPr>
        <p:blipFill>
          <a:blip r:embed="rId2"/>
          <a:stretch/>
        </p:blipFill>
        <p:spPr>
          <a:xfrm>
            <a:off x="4262400" y="3152880"/>
            <a:ext cx="619200" cy="552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MMAG00327_0000[1]"/>
          <p:cNvPicPr/>
          <p:nvPr/>
        </p:nvPicPr>
        <p:blipFill>
          <a:blip r:embed="rId3"/>
          <a:stretch/>
        </p:blipFill>
        <p:spPr>
          <a:xfrm>
            <a:off x="4432320" y="415620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2" descr="MMj03034880000[1]"/>
          <p:cNvPicPr/>
          <p:nvPr/>
        </p:nvPicPr>
        <p:blipFill>
          <a:blip r:embed="rId4"/>
          <a:stretch/>
        </p:blipFill>
        <p:spPr>
          <a:xfrm>
            <a:off x="4284720" y="4869000"/>
            <a:ext cx="799920" cy="666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ids%20che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66DDB44F-DFDB-42C4-8857-1750A290482B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ijdelijke aanduiding voor voettekst 4"/>
          <p:cNvSpPr/>
          <p:nvPr/>
        </p:nvSpPr>
        <p:spPr>
          <a:xfrm>
            <a:off x="5500800" y="6383160"/>
            <a:ext cx="289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64520" y="415080"/>
            <a:ext cx="8713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Wanneer gebruik ik de present continuou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818640" y="2071800"/>
            <a:ext cx="63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m aan te geven dat </a:t>
            </a:r>
            <a:r>
              <a:rPr b="1" lang="nl-NL" sz="2800" spc="-1" strike="noStrike">
                <a:solidFill>
                  <a:srgbClr val="003366"/>
                </a:solidFill>
                <a:latin typeface="Arial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 iets gebeu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1116000" y="28605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 naar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4932360" y="2860560"/>
            <a:ext cx="371160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cycling to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1112760" y="4994280"/>
            <a:ext cx="3341880" cy="866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trein vertrek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4929120" y="4994280"/>
            <a:ext cx="3500640" cy="8809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 train is leav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1114560" y="3848040"/>
            <a:ext cx="3311280" cy="771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ij leren Enge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24"/>
          <p:cNvSpPr/>
          <p:nvPr/>
        </p:nvSpPr>
        <p:spPr>
          <a:xfrm>
            <a:off x="4944960" y="3848040"/>
            <a:ext cx="3484800" cy="784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e ar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nglis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AB0928A0-4F45-4594-A07F-B4C9454DD383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6880" y="286200"/>
            <a:ext cx="8427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on + vorm van werkwoord BE + hele werkwoord 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ersoon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857840" y="3797280"/>
            <a:ext cx="3311280" cy="2703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 (‘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(‘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143000" y="3797280"/>
            <a:ext cx="3311640" cy="27748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/ she /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37CAD84E-E014-4E1B-8C53-83EBD83BB4DE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1120" y="286200"/>
            <a:ext cx="8356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on + vorm van werkwoord BE + hele werkwoord 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ele werkwoord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857840" y="3797280"/>
            <a:ext cx="3311280" cy="2703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143000" y="3797280"/>
            <a:ext cx="3311640" cy="27748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c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kstvak 8"/>
          <p:cNvSpPr/>
          <p:nvPr/>
        </p:nvSpPr>
        <p:spPr>
          <a:xfrm>
            <a:off x="3070440" y="4714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kstvak 9"/>
          <p:cNvSpPr/>
          <p:nvPr/>
        </p:nvSpPr>
        <p:spPr>
          <a:xfrm>
            <a:off x="2953080" y="5556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kstvak 10"/>
          <p:cNvSpPr/>
          <p:nvPr/>
        </p:nvSpPr>
        <p:spPr>
          <a:xfrm>
            <a:off x="5715000" y="60721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ar let op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12" descr="MMj02837400000[1]"/>
          <p:cNvPicPr/>
          <p:nvPr/>
        </p:nvPicPr>
        <p:blipFill>
          <a:blip r:embed="rId1"/>
          <a:stretch/>
        </p:blipFill>
        <p:spPr>
          <a:xfrm>
            <a:off x="3929040" y="5418000"/>
            <a:ext cx="1339920" cy="1440000"/>
          </a:xfrm>
          <a:prstGeom prst="rect">
            <a:avLst/>
          </a:prstGeom>
          <a:ln w="0">
            <a:noFill/>
          </a:ln>
        </p:spPr>
      </p:pic>
      <p:sp>
        <p:nvSpPr>
          <p:cNvPr id="161" name="Tekstvak 13"/>
          <p:cNvSpPr/>
          <p:nvPr/>
        </p:nvSpPr>
        <p:spPr>
          <a:xfrm>
            <a:off x="3128040" y="42861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5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4"/>
                                      </p:cond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5" dur="1" fill="hold"/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5146AB8C-7A7C-452D-BC50-8D37778D641C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5440" y="286200"/>
            <a:ext cx="8284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 am eating (I’m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You are eating (You’re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e / she / it is eating (He’s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Geldt ook voor John, mother, cat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You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They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6" name="Group 15"/>
          <p:cNvGrpSpPr/>
          <p:nvPr/>
        </p:nvGrpSpPr>
        <p:grpSpPr>
          <a:xfrm>
            <a:off x="5459400" y="4336920"/>
            <a:ext cx="2657520" cy="1187640"/>
            <a:chOff x="5459400" y="4336920"/>
            <a:chExt cx="2657520" cy="1187640"/>
          </a:xfrm>
        </p:grpSpPr>
        <p:pic>
          <p:nvPicPr>
            <p:cNvPr id="167" name="Picture 5" descr="MMAG00327_0000[1]"/>
            <p:cNvPicPr/>
            <p:nvPr/>
          </p:nvPicPr>
          <p:blipFill>
            <a:blip r:embed="rId1"/>
            <a:stretch/>
          </p:blipFill>
          <p:spPr>
            <a:xfrm>
              <a:off x="6669000" y="5097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6" descr="MMAG00327_0000[1]"/>
            <p:cNvPicPr/>
            <p:nvPr/>
          </p:nvPicPr>
          <p:blipFill>
            <a:blip r:embed="rId2"/>
            <a:stretch/>
          </p:blipFill>
          <p:spPr>
            <a:xfrm>
              <a:off x="5459400" y="5124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7" descr="MMAG00327_0000[1]"/>
            <p:cNvPicPr/>
            <p:nvPr/>
          </p:nvPicPr>
          <p:blipFill>
            <a:blip r:embed="rId3"/>
            <a:stretch/>
          </p:blipFill>
          <p:spPr>
            <a:xfrm>
              <a:off x="6021360" y="4336920"/>
              <a:ext cx="5335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9" descr="MMAG00327_0000[1]"/>
            <p:cNvPicPr/>
            <p:nvPr/>
          </p:nvPicPr>
          <p:blipFill>
            <a:blip r:embed="rId4"/>
            <a:stretch/>
          </p:blipFill>
          <p:spPr>
            <a:xfrm>
              <a:off x="7583400" y="457524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16"/>
          <p:cNvGrpSpPr/>
          <p:nvPr/>
        </p:nvGrpSpPr>
        <p:grpSpPr>
          <a:xfrm>
            <a:off x="5675400" y="4552920"/>
            <a:ext cx="2657520" cy="1187640"/>
            <a:chOff x="5675400" y="4552920"/>
            <a:chExt cx="2657520" cy="1187640"/>
          </a:xfrm>
        </p:grpSpPr>
        <p:pic>
          <p:nvPicPr>
            <p:cNvPr id="172" name="Picture 17" descr="MMAG00327_0000[1]"/>
            <p:cNvPicPr/>
            <p:nvPr/>
          </p:nvPicPr>
          <p:blipFill>
            <a:blip r:embed="rId5"/>
            <a:stretch/>
          </p:blipFill>
          <p:spPr>
            <a:xfrm>
              <a:off x="6885000" y="5313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8" descr="MMAG00327_0000[1]"/>
            <p:cNvPicPr/>
            <p:nvPr/>
          </p:nvPicPr>
          <p:blipFill>
            <a:blip r:embed="rId6"/>
            <a:stretch/>
          </p:blipFill>
          <p:spPr>
            <a:xfrm>
              <a:off x="5675400" y="5340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9" descr="MMAG00327_0000[1]"/>
            <p:cNvPicPr/>
            <p:nvPr/>
          </p:nvPicPr>
          <p:blipFill>
            <a:blip r:embed="rId7"/>
            <a:stretch/>
          </p:blipFill>
          <p:spPr>
            <a:xfrm>
              <a:off x="6237360" y="4552920"/>
              <a:ext cx="5335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0" descr="MMAG00327_0000[1]"/>
            <p:cNvPicPr/>
            <p:nvPr/>
          </p:nvPicPr>
          <p:blipFill>
            <a:blip r:embed="rId8"/>
            <a:stretch/>
          </p:blipFill>
          <p:spPr>
            <a:xfrm>
              <a:off x="7799400" y="479124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AutoShape 22"/>
          <p:cNvSpPr/>
          <p:nvPr/>
        </p:nvSpPr>
        <p:spPr>
          <a:xfrm>
            <a:off x="6470640" y="3727440"/>
            <a:ext cx="1562040" cy="83016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’re eating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AutoShape 25"/>
          <p:cNvSpPr/>
          <p:nvPr/>
        </p:nvSpPr>
        <p:spPr>
          <a:xfrm>
            <a:off x="7075440" y="5726160"/>
            <a:ext cx="1562040" cy="830160"/>
          </a:xfrm>
          <a:prstGeom prst="cloudCallout">
            <a:avLst>
              <a:gd name="adj1" fmla="val -58944"/>
              <a:gd name="adj2" fmla="val -102962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am eating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3657600" y="3924360"/>
            <a:ext cx="1562040" cy="830160"/>
          </a:xfrm>
          <a:prstGeom prst="cloudCallout">
            <a:avLst>
              <a:gd name="adj1" fmla="val 72458"/>
              <a:gd name="adj2" fmla="val 109083"/>
            </a:avLst>
          </a:prstGeom>
          <a:blipFill rotWithShape="0">
            <a:blip r:embed="rId11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e’s ea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>
            <a:hlinkClick r:id="" action="ppaction://media"/>
          </p:cNvPr>
          <p:cNvPicPr/>
          <p:nvPr>
            <a:audi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7885080" y="4005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Rot by="21600000">
                                      <p:cBhvr>
                                        <p:cTn id="32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2356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9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0B857EB3-558F-404D-A056-090063D5AA95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28800" y="2265480"/>
            <a:ext cx="7723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vraag in het Enge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tijd een hulpwerkwoord hebb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tekenen ni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kun je weglaten en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betekenis van de zin blij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, have, can, w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7:21:46Z</dcterms:created>
  <dc:creator>Els  van der Zande</dc:creator>
  <dc:description/>
  <dc:language>en-US</dc:language>
  <cp:lastModifiedBy>Els van der Zande</cp:lastModifiedBy>
  <dcterms:modified xsi:type="dcterms:W3CDTF">2007-07-24T16:34:21Z</dcterms:modified>
  <cp:revision>119</cp:revision>
  <dc:subject/>
  <dc:title>The present simple</dc:title>
</cp:coreProperties>
</file>