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8.gif" ContentType="image/gif"/>
  <Override PartName="/ppt/media/image6.gif" ContentType="image/gif"/>
  <Override PartName="/ppt/media/image9.png" ContentType="image/png"/>
  <Override PartName="/ppt/media/image5.gif" ContentType="image/gif"/>
  <Override PartName="/ppt/media/book%20turning%20pages.wav" ContentType="audio/x-wav"/>
  <Override PartName="/ppt/media/amazed.wav" ContentType="audio/x-wav"/>
  <Override PartName="/ppt/media/image4.gif" ContentType="image/gif"/>
  <Override PartName="/ppt/media/image7.gif" ContentType="image/gif"/>
  <Override PartName="/ppt/media/train.wav" ContentType="audio/x-wav"/>
  <Override PartName="/ppt/media/drumroll.wav" ContentType="audio/x-wav"/>
  <Override PartName="/ppt/media/image12.gif" ContentType="image/gif"/>
  <Override PartName="/ppt/media/image3.png" ContentType="image/png"/>
  <Override PartName="/ppt/media/whoosh.wav" ContentType="audio/x-wav"/>
  <Override PartName="/ppt/media/carhorn.wav" ContentType="audio/x-wav"/>
  <Override PartName="/ppt/media/image20.gif" ContentType="image/gif"/>
  <Override PartName="/ppt/media/image18.gif" ContentType="image/gif"/>
  <Override PartName="/ppt/media/image17.gif" ContentType="image/gif"/>
  <Override PartName="/ppt/media/explode.wav" ContentType="audio/x-wav"/>
  <Override PartName="/ppt/media/image15.gif" ContentType="image/gif"/>
  <Override PartName="/ppt/media/image19.gif" ContentType="image/gif"/>
  <Override PartName="/ppt/media/image1.png" ContentType="image/png"/>
  <Override PartName="/ppt/media/kids%20cheer.wav" ContentType="audio/x-wav"/>
  <Override PartName="/ppt/media/image14.gif" ContentType="image/gif"/>
  <Override PartName="/ppt/media/image16.png" ContentType="image/png"/>
  <Override PartName="/ppt/media/image13.gif" ContentType="image/gif"/>
  <Override PartName="/ppt/media/image1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BCF4-8683-4CA3-8A5A-ED5F9F8F8EE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C548-3F83-4164-B7FC-467F3E0AA25C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205D-D899-45A2-8E91-61A8E9E196BE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D64C-B42A-40AB-AC71-3C60043AE145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EF9A-8FEB-47D5-93CB-ACB60E86CEEA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03BB-7F59-457C-8AB2-220D253A9B5D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D1F7-2407-483F-9806-E74BDF5943E6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5729-BF7E-40FA-B83C-583B79753908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F269-9302-41CA-B8B6-C927519832A8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00A3-6607-465F-B453-54A9D0604B1A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E4EB-5258-4762-9575-4F51766D5ACF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4276-55E7-4D54-9B40-152477B00D1A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634C-A01B-4697-914E-30A6A8BCB7AC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0137-6902-429B-A2FD-B5528EF23BA9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A75C-60B0-4C49-81DA-06E1BDE5163D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1A7A-2F42-4E15-ACE9-B3536EB045EE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1998-B2C7-46B4-94BD-DA9B91D6E2A1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5799-CD1C-4ADC-ABAE-708D493EEA42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693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55640" y="4204800"/>
            <a:ext cx="7693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55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97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6640" y="206028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57640" y="206028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55640" y="420480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6640" y="420480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57640" y="420480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56360" y="62136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5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97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5640" y="4204800"/>
            <a:ext cx="7693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693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55640" y="4204800"/>
            <a:ext cx="7693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5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97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56640" y="206028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57640" y="206028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55640" y="420480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56640" y="420480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57640" y="420480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56360" y="62136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55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97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55640" y="4204800"/>
            <a:ext cx="7693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ebff"/>
            </a:gs>
            <a:gs pos="100000">
              <a:srgbClr val="f0e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4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Freeform 5"/>
            <p:cNvSpPr/>
            <p:nvPr/>
          </p:nvSpPr>
          <p:spPr>
            <a:xfrm>
              <a:off x="457200" y="0"/>
              <a:ext cx="2743200" cy="1166760"/>
            </a:xfrm>
            <a:prstGeom prst="pie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" name="Group 6"/>
          <p:cNvGrpSpPr/>
          <p:nvPr/>
        </p:nvGrpSpPr>
        <p:grpSpPr>
          <a:xfrm>
            <a:off x="250560" y="1700280"/>
            <a:ext cx="7391160" cy="318960"/>
            <a:chOff x="250560" y="1700280"/>
            <a:chExt cx="7391160" cy="318960"/>
          </a:xfrm>
        </p:grpSpPr>
        <p:sp>
          <p:nvSpPr>
            <p:cNvPr id="4" name="AutoShape 7"/>
            <p:cNvSpPr/>
            <p:nvPr/>
          </p:nvSpPr>
          <p:spPr>
            <a:xfrm>
              <a:off x="631440" y="1700280"/>
              <a:ext cx="701028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" name="AutoShape 8"/>
            <p:cNvSpPr/>
            <p:nvPr/>
          </p:nvSpPr>
          <p:spPr>
            <a:xfrm flipH="1">
              <a:off x="250200" y="1700280"/>
              <a:ext cx="3934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0" y="6382800"/>
            <a:ext cx="106200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007-</a:t>
            </a:r>
            <a:fld id="{9AB7EF5A-ED03-45E8-8683-86866F337FC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jm-z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ebff"/>
            </a:gs>
            <a:gs pos="100000">
              <a:srgbClr val="f0e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7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drumroll.wav"/><Relationship Id="rId5" Type="http://schemas.openxmlformats.org/officeDocument/2006/relationships/audio" Target="../media/whoosh.wav"/><Relationship Id="rId6" Type="http://schemas.openxmlformats.org/officeDocument/2006/relationships/audio" Target="../media/train.wav"/><Relationship Id="rId7" Type="http://schemas.openxmlformats.org/officeDocument/2006/relationships/audio" Target="../media/train.wav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3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audio" Target="../media/carhorn.wav"/><Relationship Id="rId6" Type="http://schemas.openxmlformats.org/officeDocument/2006/relationships/audio" Target="../media/book%20turning%20pag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book%20turning%20pag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audio" Target="file:///tmp/home/.config/libreoffice/4/user/gallery/book%20turning%20pages.wav" TargetMode="External"/><Relationship Id="rId3" Type="http://schemas.microsoft.com/office/2007/relationships/media" Target="file:///tmp/home/.config/libreoffice/4/user/gallery/book%20turning%20pages.wav" TargetMode="External"/><Relationship Id="rId4" Type="http://schemas.openxmlformats.org/officeDocument/2006/relationships/image" Target="../media/image9.png"/><Relationship Id="rId5" Type="http://schemas.openxmlformats.org/officeDocument/2006/relationships/audio" Target="../media/amazed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audio" Target="file:///tmp/home/.config/libreoffice/4/user/gallery/kids%20cheer.wav" TargetMode="External"/><Relationship Id="rId7" Type="http://schemas.microsoft.com/office/2007/relationships/media" Target="file:///tmp/home/.config/libreoffice/4/user/gallery/kids%20cheer.wav" TargetMode="External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audio" Target="../media/train.wav"/><Relationship Id="rId6" Type="http://schemas.openxmlformats.org/officeDocument/2006/relationships/audio" Target="../media/kids%20chee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book%20turning%20pages.wav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audio" Target="file:///tmp/home/.config/libreoffice/4/user/gallery/explode.wav" TargetMode="External"/><Relationship Id="rId13" Type="http://schemas.microsoft.com/office/2007/relationships/media" Target="file:///tmp/home/.config/libreoffice/4/user/gallery/explode.wav" TargetMode="External"/><Relationship Id="rId14" Type="http://schemas.openxmlformats.org/officeDocument/2006/relationships/image" Target="../media/image9.png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-321120" y="1166040"/>
            <a:ext cx="734184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Arial"/>
              </a:rPr>
              <a:t>present continuou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403280" y="191736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6666"/>
                </a:solidFill>
                <a:latin typeface="Arial"/>
              </a:rPr>
              <a:t>tegenwoordige tijd (o.t.t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6186600" y="1711440"/>
            <a:ext cx="1915920" cy="1190520"/>
          </a:xfrm>
          <a:prstGeom prst="cloudCallout">
            <a:avLst>
              <a:gd name="adj1" fmla="val -22578"/>
              <a:gd name="adj2" fmla="val 73601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What now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6286680" y="639720"/>
            <a:ext cx="2584440" cy="2103480"/>
          </a:xfrm>
          <a:prstGeom prst="cloudCallout">
            <a:avLst>
              <a:gd name="adj1" fmla="val 12995"/>
              <a:gd name="adj2" fmla="val 67435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Someth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ew ?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1001880" y="4746600"/>
            <a:ext cx="59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Let’s go……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Picture 15" descr="jongens die praten"/>
          <p:cNvPicPr/>
          <p:nvPr/>
        </p:nvPicPr>
        <p:blipFill>
          <a:blip r:embed="rId3"/>
          <a:stretch/>
        </p:blipFill>
        <p:spPr>
          <a:xfrm>
            <a:off x="6084720" y="3141720"/>
            <a:ext cx="2598840" cy="3456000"/>
          </a:xfrm>
          <a:prstGeom prst="rect">
            <a:avLst/>
          </a:prstGeom>
          <a:ln w="0">
            <a:noFill/>
          </a:ln>
        </p:spPr>
      </p:pic>
    </p:spTree>
  </p:cSld>
  <p:transition advTm="15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500"/>
                            </p:stCondLst>
                            <p:childTnLst>
                              <p:par>
                                <p:cTn id="28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9500"/>
                            </p:stCondLst>
                            <p:childTnLst>
                              <p:par>
                                <p:cTn id="32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ra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500"/>
                            </p:stCondLst>
                            <p:childTnLst>
                              <p:par>
                                <p:cTn id="37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rain.wav"/>
                                        </p:tgtEl>
                                      </p:cMediaNode>
                                    </p:audio>
                                    <p:animMotion origin="layout" path="M 0.07013 0.00209 L -0.96893 -3.7037E-006 E">
                                      <p:cBhvr>
                                        <p:cTn id="42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11622F49-CFFF-4A49-8C46-D784F9496105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Vragen in de present continuou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928800" y="2000160"/>
            <a:ext cx="772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ze tijd wordt gevormd met het werkwoord to BE en er staat dus een hulpwerkwoord in de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evestigend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zin, dan gebruik je die in je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vraag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1146240" y="4162320"/>
            <a:ext cx="331164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Zwem i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4948200" y="4162320"/>
            <a:ext cx="331164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m I swimming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1160640" y="5842080"/>
            <a:ext cx="3311280" cy="64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est hij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4976640" y="5842080"/>
            <a:ext cx="331164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s he reading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>
            <a:off x="1133640" y="3360600"/>
            <a:ext cx="331128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k zwe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>
            <a:off x="4950000" y="3360600"/>
            <a:ext cx="331128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 am swimm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Rectangle 15"/>
          <p:cNvSpPr/>
          <p:nvPr/>
        </p:nvSpPr>
        <p:spPr>
          <a:xfrm>
            <a:off x="1162080" y="5025960"/>
            <a:ext cx="331164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lee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4978440" y="5025960"/>
            <a:ext cx="331164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e is read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jdelijke aanduiding voor datum 2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A1BD2FF6-FA11-431D-8DAE-534E172696C7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Tijdelijke aanduiding voor voettekst 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Vragen in de present continuou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968400" y="2895480"/>
            <a:ext cx="331164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Fiets ik naar school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4844880" y="2895480"/>
            <a:ext cx="373392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m I cycling to school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969840" y="3738600"/>
            <a:ext cx="3311640" cy="64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Gaan jullie weg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4862520" y="3738600"/>
            <a:ext cx="376092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re you going awa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981000" y="4541760"/>
            <a:ext cx="331164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ten wij frui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4865760" y="4541760"/>
            <a:ext cx="3774960" cy="68760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re we eating frui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968400" y="5487840"/>
            <a:ext cx="331164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Leest u een boe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4844880" y="5487840"/>
            <a:ext cx="414036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re you reading a boo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7" name="Picture 11" descr="MMj03035000000[1]"/>
          <p:cNvPicPr/>
          <p:nvPr/>
        </p:nvPicPr>
        <p:blipFill>
          <a:blip r:embed="rId1"/>
          <a:stretch/>
        </p:blipFill>
        <p:spPr>
          <a:xfrm>
            <a:off x="3975120" y="2851200"/>
            <a:ext cx="961920" cy="7333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3" descr="MMAG00327_0000[1]"/>
          <p:cNvPicPr/>
          <p:nvPr/>
        </p:nvPicPr>
        <p:blipFill>
          <a:blip r:embed="rId2"/>
          <a:stretch/>
        </p:blipFill>
        <p:spPr>
          <a:xfrm>
            <a:off x="4303800" y="4678200"/>
            <a:ext cx="533160" cy="4003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5" descr="MMj02840840000[1]"/>
          <p:cNvPicPr/>
          <p:nvPr/>
        </p:nvPicPr>
        <p:blipFill>
          <a:blip r:embed="rId3"/>
          <a:stretch/>
        </p:blipFill>
        <p:spPr>
          <a:xfrm>
            <a:off x="4116240" y="3817800"/>
            <a:ext cx="1038240" cy="447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6" descr="MMj03369140000[1]"/>
          <p:cNvPicPr/>
          <p:nvPr/>
        </p:nvPicPr>
        <p:blipFill>
          <a:blip r:embed="rId4"/>
          <a:stretch/>
        </p:blipFill>
        <p:spPr>
          <a:xfrm>
            <a:off x="4430880" y="5545080"/>
            <a:ext cx="342720" cy="47628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17"/>
          <p:cNvSpPr/>
          <p:nvPr/>
        </p:nvSpPr>
        <p:spPr>
          <a:xfrm>
            <a:off x="1119240" y="216072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g een paar voorbeelden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ok%20turning%20pag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12B4A466-AA77-446F-BD9B-E8A3CD1E180A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7840" y="357840"/>
            <a:ext cx="84992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Ontkenning in de present continuou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928800" y="2265480"/>
            <a:ext cx="77230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n ontkenning in het Engel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OE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ltijd een hulpwerkwoord hebb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ulpwerkwoorden – betekenen nie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ulpwerkwoorden – kun je weglaten en d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betekenis van de zin blijf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ulpwerkwoorden – be, have, can, wi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7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300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1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600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8" dur="1" fill="hold"/>
                                  <p:tgtEl>
                                    <p:spTgt spid="2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4B9B5122-B519-4F85-94AD-03702EB59750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928800" y="2265480"/>
            <a:ext cx="772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t hulpwerkwoord to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dt weer gebruikt, want die staat ook in de bevestigende zi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925560" y="4146480"/>
            <a:ext cx="372096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k zwem niet 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4948200" y="4146480"/>
            <a:ext cx="331164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 am not swimm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939960" y="5842080"/>
            <a:ext cx="3720960" cy="64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leest nie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4976640" y="5842080"/>
            <a:ext cx="331164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e is not read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912960" y="3344760"/>
            <a:ext cx="372096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k zwe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4950000" y="3344760"/>
            <a:ext cx="331128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 am swimm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941400" y="5025960"/>
            <a:ext cx="372096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lee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4978440" y="5025960"/>
            <a:ext cx="331164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e is read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AutoShape 2"/>
          <p:cNvSpPr/>
          <p:nvPr/>
        </p:nvSpPr>
        <p:spPr>
          <a:xfrm>
            <a:off x="285840" y="285840"/>
            <a:ext cx="864396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Ontkenning in de present continuous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ook%20turning%20pag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ijdelijke aanduiding voor datum 2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09E9A626-25FC-4268-9D99-8B0771094DF3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Tijdelijke aanduiding voor voettekst 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824040" y="2895480"/>
            <a:ext cx="378432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k fiets niet naar schoo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4844880" y="2895480"/>
            <a:ext cx="407844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 am not cycling to schoo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824040" y="4611600"/>
            <a:ext cx="378432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Jullie gaan niet we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4844880" y="4611600"/>
            <a:ext cx="410868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You are not going awa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792000" y="3755880"/>
            <a:ext cx="378468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Zij eten geen frui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4813200" y="3755880"/>
            <a:ext cx="4124520" cy="68112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hey are not eating frui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824040" y="5487840"/>
            <a:ext cx="378432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U leest geen boe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4844880" y="5487840"/>
            <a:ext cx="414036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You are not reading a boo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Text Box 15"/>
          <p:cNvSpPr/>
          <p:nvPr/>
        </p:nvSpPr>
        <p:spPr>
          <a:xfrm>
            <a:off x="1119240" y="216072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g een paar voorbeelden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AutoShape 2"/>
          <p:cNvSpPr/>
          <p:nvPr/>
        </p:nvSpPr>
        <p:spPr>
          <a:xfrm>
            <a:off x="285840" y="285840"/>
            <a:ext cx="864396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Ontkenning in de present continuous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ijdelijke aanduiding voor datum 2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660F52CE-9A39-4600-93A8-5E69ED84C236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Tijdelijke aanduiding voor voettekst 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285840" y="2895480"/>
            <a:ext cx="407196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I cycle to school every da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4572000" y="2895480"/>
            <a:ext cx="435132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 am walking to school  now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285840" y="4611600"/>
            <a:ext cx="407196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He swims every week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4572000" y="4611600"/>
            <a:ext cx="438156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 is playing hockey now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285840" y="3755880"/>
            <a:ext cx="407196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They always eat appl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4572000" y="3755880"/>
            <a:ext cx="4365720" cy="68112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hey are eating a banana now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285840" y="5487840"/>
            <a:ext cx="407196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You read book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4572000" y="5500800"/>
            <a:ext cx="435780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You are reading a magazine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AutoShape 2"/>
          <p:cNvSpPr/>
          <p:nvPr/>
        </p:nvSpPr>
        <p:spPr>
          <a:xfrm>
            <a:off x="285840" y="285840"/>
            <a:ext cx="864396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Verschil present simple en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present continuous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Tekstvak 14"/>
          <p:cNvSpPr/>
          <p:nvPr/>
        </p:nvSpPr>
        <p:spPr>
          <a:xfrm>
            <a:off x="928800" y="22147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16040"/>
                <a:tab algn="ctr" pos="5837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ent simp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ent continuo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B4647A66-809A-4CA0-A4E7-6FBAE9095DB2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sent continous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eer maar…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826920" y="213336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6" name="Picture 4" descr="MMj02135130000[1]"/>
          <p:cNvPicPr/>
          <p:nvPr/>
        </p:nvPicPr>
        <p:blipFill>
          <a:blip r:embed="rId1"/>
          <a:stretch/>
        </p:blipFill>
        <p:spPr>
          <a:xfrm>
            <a:off x="1325520" y="2739960"/>
            <a:ext cx="1247760" cy="9050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MMj02952530000[1]"/>
          <p:cNvPicPr/>
          <p:nvPr/>
        </p:nvPicPr>
        <p:blipFill>
          <a:blip r:embed="rId2"/>
          <a:stretch/>
        </p:blipFill>
        <p:spPr>
          <a:xfrm>
            <a:off x="3792600" y="2913120"/>
            <a:ext cx="1218960" cy="7142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MMj03653050000[1]"/>
          <p:cNvPicPr/>
          <p:nvPr/>
        </p:nvPicPr>
        <p:blipFill>
          <a:blip r:embed="rId3"/>
          <a:stretch/>
        </p:blipFill>
        <p:spPr>
          <a:xfrm>
            <a:off x="6783480" y="261936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1" descr="MMj01892150000[1]"/>
          <p:cNvPicPr/>
          <p:nvPr/>
        </p:nvPicPr>
        <p:blipFill>
          <a:blip r:embed="rId4"/>
          <a:stretch/>
        </p:blipFill>
        <p:spPr>
          <a:xfrm>
            <a:off x="1357200" y="4429080"/>
            <a:ext cx="1428840" cy="819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3" descr="MMj02836550000[1]"/>
          <p:cNvPicPr/>
          <p:nvPr/>
        </p:nvPicPr>
        <p:blipFill>
          <a:blip r:embed="rId5"/>
          <a:stretch/>
        </p:blipFill>
        <p:spPr>
          <a:xfrm>
            <a:off x="7015320" y="4489560"/>
            <a:ext cx="533160" cy="85716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14"/>
          <p:cNvSpPr/>
          <p:nvPr/>
        </p:nvSpPr>
        <p:spPr>
          <a:xfrm>
            <a:off x="813600" y="3736800"/>
            <a:ext cx="35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ucks are swimm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Rectangle 17"/>
          <p:cNvSpPr/>
          <p:nvPr/>
        </p:nvSpPr>
        <p:spPr>
          <a:xfrm>
            <a:off x="2049480" y="2292480"/>
            <a:ext cx="41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y are playing hocke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517320" y="521496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e is playing che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Rectangle 19"/>
          <p:cNvSpPr/>
          <p:nvPr/>
        </p:nvSpPr>
        <p:spPr>
          <a:xfrm>
            <a:off x="5734080" y="3735360"/>
            <a:ext cx="26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e is sleep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Rectangle 20"/>
          <p:cNvSpPr/>
          <p:nvPr/>
        </p:nvSpPr>
        <p:spPr>
          <a:xfrm>
            <a:off x="4479480" y="5445000"/>
            <a:ext cx="43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 is eating an ice-crea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92F1AC0C-19DE-418F-AF03-1CA174A757B4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sent continuous? – Vrage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0" name="Picture 5" descr="MMj02835510000[1]"/>
          <p:cNvPicPr/>
          <p:nvPr/>
        </p:nvPicPr>
        <p:blipFill>
          <a:blip r:embed="rId1"/>
          <a:stretch/>
        </p:blipFill>
        <p:spPr>
          <a:xfrm>
            <a:off x="3743280" y="3005280"/>
            <a:ext cx="1728720" cy="16430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6732720" y="724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5000">
    <p:circle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maze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71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C7E0A583-F6F0-4A81-B2C7-48E02402A420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Inhou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oorten zinn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at is de present continuou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anneer gebruik ik de present continuou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Hoe maak ik de present continuou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Vragen in de present continuo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ntkenningen in de present continuo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Picture 8" descr="MMj02135130000[1]"/>
          <p:cNvPicPr/>
          <p:nvPr/>
        </p:nvPicPr>
        <p:blipFill>
          <a:blip r:embed="rId1"/>
          <a:stretch/>
        </p:blipFill>
        <p:spPr>
          <a:xfrm>
            <a:off x="1403280" y="2349360"/>
            <a:ext cx="1247760" cy="905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MMj03034660000[1]"/>
          <p:cNvPicPr/>
          <p:nvPr/>
        </p:nvPicPr>
        <p:blipFill>
          <a:blip r:embed="rId2"/>
          <a:stretch/>
        </p:blipFill>
        <p:spPr>
          <a:xfrm>
            <a:off x="1403280" y="4797360"/>
            <a:ext cx="857160" cy="561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MMj02952530000[1]"/>
          <p:cNvPicPr/>
          <p:nvPr/>
        </p:nvPicPr>
        <p:blipFill>
          <a:blip r:embed="rId3"/>
          <a:stretch/>
        </p:blipFill>
        <p:spPr>
          <a:xfrm>
            <a:off x="5003640" y="333360"/>
            <a:ext cx="1219320" cy="714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MMj03653050000[1]"/>
          <p:cNvPicPr/>
          <p:nvPr/>
        </p:nvPicPr>
        <p:blipFill>
          <a:blip r:embed="rId4"/>
          <a:stretch/>
        </p:blipFill>
        <p:spPr>
          <a:xfrm>
            <a:off x="7451640" y="263700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MMj01892150000[1]"/>
          <p:cNvPicPr/>
          <p:nvPr/>
        </p:nvPicPr>
        <p:blipFill>
          <a:blip r:embed="rId5"/>
          <a:stretch/>
        </p:blipFill>
        <p:spPr>
          <a:xfrm>
            <a:off x="3851280" y="4221000"/>
            <a:ext cx="1428840" cy="8193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4"/>
          <p:cNvSpPr/>
          <p:nvPr/>
        </p:nvSpPr>
        <p:spPr>
          <a:xfrm>
            <a:off x="1062720" y="3429000"/>
            <a:ext cx="35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ucks are swimm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138240" y="5446800"/>
            <a:ext cx="27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 is swimm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16"/>
          <p:cNvSpPr/>
          <p:nvPr/>
        </p:nvSpPr>
        <p:spPr>
          <a:xfrm>
            <a:off x="3716280" y="1125360"/>
            <a:ext cx="41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y are playing hocke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Rectangle 17"/>
          <p:cNvSpPr/>
          <p:nvPr/>
        </p:nvSpPr>
        <p:spPr>
          <a:xfrm>
            <a:off x="4302000" y="494172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e is playing che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Rectangle 18"/>
          <p:cNvSpPr/>
          <p:nvPr/>
        </p:nvSpPr>
        <p:spPr>
          <a:xfrm>
            <a:off x="5685120" y="3735360"/>
            <a:ext cx="26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e is sleep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media"/>
          </p:cNvPr>
          <p:cNvPicPr/>
          <p:nvPr>
            <a:audi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15000">
    <p:circl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 repeatCount="100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 repeatCount="100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0">
                                  <p:stCondLst>
                                    <p:cond delay="3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0">
                                  <p:stCondLst>
                                    <p:cond delay="3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0">
                                  <p:stCondLst>
                                    <p:cond delay="3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0">
                                  <p:stCondLst>
                                    <p:cond delay="3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0">
                                  <p:stCondLst>
                                    <p:cond delay="3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0">
                                  <p:stCondLst>
                                    <p:cond delay="3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8" presetSubtype="16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8" presetSubtype="16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63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16">
                                  <p:stCondLst>
                                    <p:cond delay="67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7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9" dur="1" fill="hold"/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  <p:animClr clrSpc="rgb">
                                <p:cBhvr>
                                  <p:cTn id="110" dur="1" fill="hold"/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  <p:animClr clrSpc="rgb">
                                <p:cBhvr>
                                  <p:cTn id="111" dur="1" fill="hold"/>
                                  <p:tgtEl>
                                    <p:spTgt spid="1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  <p:animClr clrSpc="rgb">
                                <p:cBhvr>
                                  <p:cTn id="112" dur="1" fill="hold"/>
                                  <p:tgtEl>
                                    <p:spTgt spid="1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  <p:animClr clrSpc="rgb">
                                <p:cBhvr>
                                  <p:cTn id="113" dur="1" fill="hold"/>
                                  <p:tgtEl>
                                    <p:spTgt spid="1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  <p:animClr clrSpc="rgb">
                                <p:cBhvr>
                                  <p:cTn id="114" dur="1" fill="hold"/>
                                  <p:tgtEl>
                                    <p:spTgt spid="10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4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39EFDEA8-66E1-4127-8BCE-E24FC9FD1D89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orten zinn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vestigende zinn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ragende zinn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tkennende zinn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t is zo.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k lees een boe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raa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es ik een boe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e, nie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k lees geen boe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Picture 4" descr="MCj00787110000[1]"/>
          <p:cNvPicPr/>
          <p:nvPr/>
        </p:nvPicPr>
        <p:blipFill>
          <a:blip r:embed="rId1"/>
          <a:stretch/>
        </p:blipFill>
        <p:spPr>
          <a:xfrm>
            <a:off x="7451640" y="3789360"/>
            <a:ext cx="871560" cy="21114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50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75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5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3837 -0.00764 C -0.53542 -0.03287 -0.40747 -0.08912 -0.39948 -0.08912 C -0.39045 -0.08912 -0.3599 -0.00833 -0.35694 0.0169 C -0.35295 0.04491 -0.25399 -0.0743 -0.24392 -0.0743 C -0.2349 -0.0743 -0.21285 0.16852 -0.20885 0.14051 C -0.20694 0.11528 -0.1283 -0.05949 -0.11927 -0.05949 C -0.11128 -0.05949 -0.10729 -0.03542 -0.10417 -0.01018 C -0.10122 0.01783 -0.09722 0.04583 -0.08819 0.04583 C -0.07917 0.04583 -0.07222 -0.01018 -0.07222 -0.00995 C -0.06927 -0.03542 -0.06615 -0.05949 -0.05729 -0.05949 C -0.04826 -0.05949 -0.04514 -0.03542 -0.04219 -0.01018 C -0.03819 0.01783 -0.03524 0.04583 -0.02517 0.04583 C -0.01615 0.04583 -0.01319 0.01783 -0.01024 -0.01018 C -0.00625 -0.03542 -0.0033 -0.05949 0.00573 -0.05949 C 0.01372 -0.05949 0.01771 -0.03542 0.02083 -0.01018 C 0.02378 0.01783 0.02778 0.04583 0.03681 0.04583 C 0.04583 0.04583 0.04878 0.01783 0.05278 -0.01018 E">
                                      <p:cBhvr>
                                        <p:cTn id="146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ijdelijke aanduiding voor datum 2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D36205E2-BFB9-4FA4-A962-D133C426D2AE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Tijdelijke aanduiding voor voettekst 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Wat is de present continuou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1187280" y="2276640"/>
            <a:ext cx="3311640" cy="64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k fie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5003640" y="2276640"/>
            <a:ext cx="331164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 am cycl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1187280" y="3141720"/>
            <a:ext cx="3311640" cy="64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trein vertrek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5003640" y="3141720"/>
            <a:ext cx="331164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he train is leav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1187280" y="4005360"/>
            <a:ext cx="3311640" cy="64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ij eten frui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5003640" y="4005360"/>
            <a:ext cx="331164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We are eating frui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1187280" y="4869000"/>
            <a:ext cx="3311640" cy="64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Zij spel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5003640" y="4869000"/>
            <a:ext cx="331164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hey are play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Picture 12" descr="MMj03035000000[1]"/>
          <p:cNvPicPr/>
          <p:nvPr/>
        </p:nvPicPr>
        <p:blipFill>
          <a:blip r:embed="rId1"/>
          <a:stretch/>
        </p:blipFill>
        <p:spPr>
          <a:xfrm>
            <a:off x="4133880" y="2232000"/>
            <a:ext cx="961920" cy="733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4" descr="MMj03544800000[1]"/>
          <p:cNvPicPr/>
          <p:nvPr/>
        </p:nvPicPr>
        <p:blipFill>
          <a:blip r:embed="rId2"/>
          <a:stretch/>
        </p:blipFill>
        <p:spPr>
          <a:xfrm>
            <a:off x="4262400" y="3152880"/>
            <a:ext cx="619200" cy="552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6" descr="MMAG00327_0000[1]"/>
          <p:cNvPicPr/>
          <p:nvPr/>
        </p:nvPicPr>
        <p:blipFill>
          <a:blip r:embed="rId3"/>
          <a:stretch/>
        </p:blipFill>
        <p:spPr>
          <a:xfrm>
            <a:off x="4432320" y="4156200"/>
            <a:ext cx="533520" cy="399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2" descr="MMj03034880000[1]"/>
          <p:cNvPicPr/>
          <p:nvPr/>
        </p:nvPicPr>
        <p:blipFill>
          <a:blip r:embed="rId4"/>
          <a:stretch/>
        </p:blipFill>
        <p:spPr>
          <a:xfrm>
            <a:off x="4284720" y="4869000"/>
            <a:ext cx="799920" cy="6667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ra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kids%20che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0CF5535D-5ACD-497C-AFA3-AEEE36896529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Tijdelijke aanduiding voor voettekst 4"/>
          <p:cNvSpPr/>
          <p:nvPr/>
        </p:nvSpPr>
        <p:spPr>
          <a:xfrm>
            <a:off x="5500800" y="6383160"/>
            <a:ext cx="289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64520" y="415080"/>
            <a:ext cx="87134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Wanneer gebruik ik de present continuous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818640" y="2071800"/>
            <a:ext cx="63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m aan te geven dat </a:t>
            </a:r>
            <a:r>
              <a:rPr b="1" lang="nl-NL" sz="2800" spc="-1" strike="noStrike">
                <a:solidFill>
                  <a:srgbClr val="003366"/>
                </a:solidFill>
                <a:latin typeface="Arial"/>
              </a:rPr>
              <a:t>NU</a:t>
            </a: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 iets gebeur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Rectangle 17"/>
          <p:cNvSpPr/>
          <p:nvPr/>
        </p:nvSpPr>
        <p:spPr>
          <a:xfrm>
            <a:off x="1116000" y="2860560"/>
            <a:ext cx="331164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k fiets naar schoo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Rectangle 18"/>
          <p:cNvSpPr/>
          <p:nvPr/>
        </p:nvSpPr>
        <p:spPr>
          <a:xfrm>
            <a:off x="4932360" y="2860560"/>
            <a:ext cx="371160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 am cycling to schoo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Rectangle 19"/>
          <p:cNvSpPr/>
          <p:nvPr/>
        </p:nvSpPr>
        <p:spPr>
          <a:xfrm>
            <a:off x="1112760" y="4994280"/>
            <a:ext cx="3341880" cy="8668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trein vertrek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Rectangle 20"/>
          <p:cNvSpPr/>
          <p:nvPr/>
        </p:nvSpPr>
        <p:spPr>
          <a:xfrm>
            <a:off x="4929120" y="4994280"/>
            <a:ext cx="3500640" cy="88092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he train is leav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Rectangle 23"/>
          <p:cNvSpPr/>
          <p:nvPr/>
        </p:nvSpPr>
        <p:spPr>
          <a:xfrm>
            <a:off x="1114560" y="3848040"/>
            <a:ext cx="3311280" cy="7714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ij leren Engel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Rectangle 24"/>
          <p:cNvSpPr/>
          <p:nvPr/>
        </p:nvSpPr>
        <p:spPr>
          <a:xfrm>
            <a:off x="4944960" y="3848040"/>
            <a:ext cx="3484800" cy="784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We are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nglish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7710896E-1AF6-4BE7-8728-BEB4B431FAB6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06880" y="286200"/>
            <a:ext cx="8427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Hoe maak ik de present continuou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6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soon + vorm van werkwoord BE + hele werkwoord + 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ersoon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o B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4857840" y="3797280"/>
            <a:ext cx="3311280" cy="270360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 (‘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(‘r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(‘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(‘r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(‘r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(‘r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1143000" y="3797280"/>
            <a:ext cx="3311640" cy="27748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/ she / 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9D3BC3DD-EE5C-4F08-B46E-0029DA6868A7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01120" y="286200"/>
            <a:ext cx="8356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Hoe maak ik de present continuou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6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soon + vorm van werkwoord BE + hele werkwoord + 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hele werkwoord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+ 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4857840" y="3797280"/>
            <a:ext cx="3311280" cy="270360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}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143000" y="3797280"/>
            <a:ext cx="3311640" cy="27748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la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i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nc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Tekstvak 8"/>
          <p:cNvSpPr/>
          <p:nvPr/>
        </p:nvSpPr>
        <p:spPr>
          <a:xfrm>
            <a:off x="3070440" y="47149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Tekstvak 9"/>
          <p:cNvSpPr/>
          <p:nvPr/>
        </p:nvSpPr>
        <p:spPr>
          <a:xfrm>
            <a:off x="2953080" y="5556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Tekstvak 10"/>
          <p:cNvSpPr/>
          <p:nvPr/>
        </p:nvSpPr>
        <p:spPr>
          <a:xfrm>
            <a:off x="5715000" y="607212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ar let op…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0" name="Picture 12" descr="MMj02837400000[1]"/>
          <p:cNvPicPr/>
          <p:nvPr/>
        </p:nvPicPr>
        <p:blipFill>
          <a:blip r:embed="rId1"/>
          <a:stretch/>
        </p:blipFill>
        <p:spPr>
          <a:xfrm>
            <a:off x="3929040" y="5418000"/>
            <a:ext cx="1339920" cy="1440000"/>
          </a:xfrm>
          <a:prstGeom prst="rect">
            <a:avLst/>
          </a:prstGeom>
          <a:ln w="0">
            <a:noFill/>
          </a:ln>
        </p:spPr>
      </p:pic>
      <p:sp>
        <p:nvSpPr>
          <p:cNvPr id="161" name="Tekstvak 13"/>
          <p:cNvSpPr/>
          <p:nvPr/>
        </p:nvSpPr>
        <p:spPr>
          <a:xfrm>
            <a:off x="3128040" y="428616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0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6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9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2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ok%20turning%20pag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0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301" dur="1" fill="hold">
                                    <p:stCondLst>
                                      <p:cond evt="end">
                                        <p:tn val="299"/>
                                      </p:cond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5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306" dur="1" fill="hold">
                                    <p:stCondLst>
                                      <p:cond evt="end">
                                        <p:tn val="304"/>
                                      </p:cond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5" dur="1" fill="hold"/>
                                  <p:tgtEl>
                                    <p:spTgt spid="1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AF8E3323-6F29-42E2-B3C4-7A645E41883C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05440" y="286200"/>
            <a:ext cx="82846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Hoe maak ik de present continuou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 am eating (I’m eati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You are eating (You’re eati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He / she / it is eating (He’s eati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Geldt ook voor John, mother, cat enz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e are ea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You are ea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They are ea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66" name="Group 15"/>
          <p:cNvGrpSpPr/>
          <p:nvPr/>
        </p:nvGrpSpPr>
        <p:grpSpPr>
          <a:xfrm>
            <a:off x="5459400" y="4336920"/>
            <a:ext cx="2657520" cy="1187640"/>
            <a:chOff x="5459400" y="4336920"/>
            <a:chExt cx="2657520" cy="1187640"/>
          </a:xfrm>
        </p:grpSpPr>
        <p:pic>
          <p:nvPicPr>
            <p:cNvPr id="167" name="Picture 5" descr="MMAG00327_0000[1]"/>
            <p:cNvPicPr/>
            <p:nvPr/>
          </p:nvPicPr>
          <p:blipFill>
            <a:blip r:embed="rId1"/>
            <a:stretch/>
          </p:blipFill>
          <p:spPr>
            <a:xfrm>
              <a:off x="6669000" y="50976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6" descr="MMAG00327_0000[1]"/>
            <p:cNvPicPr/>
            <p:nvPr/>
          </p:nvPicPr>
          <p:blipFill>
            <a:blip r:embed="rId2"/>
            <a:stretch/>
          </p:blipFill>
          <p:spPr>
            <a:xfrm>
              <a:off x="5459400" y="51246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7" descr="MMAG00327_0000[1]"/>
            <p:cNvPicPr/>
            <p:nvPr/>
          </p:nvPicPr>
          <p:blipFill>
            <a:blip r:embed="rId3"/>
            <a:stretch/>
          </p:blipFill>
          <p:spPr>
            <a:xfrm>
              <a:off x="6021360" y="4336920"/>
              <a:ext cx="53352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9" descr="MMAG00327_0000[1]"/>
            <p:cNvPicPr/>
            <p:nvPr/>
          </p:nvPicPr>
          <p:blipFill>
            <a:blip r:embed="rId4"/>
            <a:stretch/>
          </p:blipFill>
          <p:spPr>
            <a:xfrm>
              <a:off x="7583400" y="4575240"/>
              <a:ext cx="533520" cy="39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Group 16"/>
          <p:cNvGrpSpPr/>
          <p:nvPr/>
        </p:nvGrpSpPr>
        <p:grpSpPr>
          <a:xfrm>
            <a:off x="5675400" y="4552920"/>
            <a:ext cx="2657520" cy="1187640"/>
            <a:chOff x="5675400" y="4552920"/>
            <a:chExt cx="2657520" cy="1187640"/>
          </a:xfrm>
        </p:grpSpPr>
        <p:pic>
          <p:nvPicPr>
            <p:cNvPr id="172" name="Picture 17" descr="MMAG00327_0000[1]"/>
            <p:cNvPicPr/>
            <p:nvPr/>
          </p:nvPicPr>
          <p:blipFill>
            <a:blip r:embed="rId5"/>
            <a:stretch/>
          </p:blipFill>
          <p:spPr>
            <a:xfrm>
              <a:off x="6885000" y="53136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18" descr="MMAG00327_0000[1]"/>
            <p:cNvPicPr/>
            <p:nvPr/>
          </p:nvPicPr>
          <p:blipFill>
            <a:blip r:embed="rId6"/>
            <a:stretch/>
          </p:blipFill>
          <p:spPr>
            <a:xfrm>
              <a:off x="5675400" y="53406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19" descr="MMAG00327_0000[1]"/>
            <p:cNvPicPr/>
            <p:nvPr/>
          </p:nvPicPr>
          <p:blipFill>
            <a:blip r:embed="rId7"/>
            <a:stretch/>
          </p:blipFill>
          <p:spPr>
            <a:xfrm>
              <a:off x="6237360" y="4552920"/>
              <a:ext cx="53352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20" descr="MMAG00327_0000[1]"/>
            <p:cNvPicPr/>
            <p:nvPr/>
          </p:nvPicPr>
          <p:blipFill>
            <a:blip r:embed="rId8"/>
            <a:stretch/>
          </p:blipFill>
          <p:spPr>
            <a:xfrm>
              <a:off x="7799400" y="4791240"/>
              <a:ext cx="533520" cy="39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AutoShape 22"/>
          <p:cNvSpPr/>
          <p:nvPr/>
        </p:nvSpPr>
        <p:spPr>
          <a:xfrm>
            <a:off x="6470640" y="3727440"/>
            <a:ext cx="1562040" cy="830160"/>
          </a:xfrm>
          <a:prstGeom prst="cloudCallout">
            <a:avLst>
              <a:gd name="adj1" fmla="val -43750"/>
              <a:gd name="adj2" fmla="val 70000"/>
            </a:avLst>
          </a:prstGeom>
          <a:blipFill rotWithShape="0">
            <a:blip r:embed="rId9"/>
            <a:srcRect/>
            <a:stretch/>
          </a:blip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’re eating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AutoShape 25"/>
          <p:cNvSpPr/>
          <p:nvPr/>
        </p:nvSpPr>
        <p:spPr>
          <a:xfrm>
            <a:off x="7075440" y="5726160"/>
            <a:ext cx="1562040" cy="830160"/>
          </a:xfrm>
          <a:prstGeom prst="cloudCallout">
            <a:avLst>
              <a:gd name="adj1" fmla="val -58944"/>
              <a:gd name="adj2" fmla="val -102962"/>
            </a:avLst>
          </a:prstGeom>
          <a:blipFill rotWithShape="0">
            <a:blip r:embed="rId10"/>
            <a:srcRect/>
            <a:stretch/>
          </a:blip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 am eating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AutoShape 27"/>
          <p:cNvSpPr/>
          <p:nvPr/>
        </p:nvSpPr>
        <p:spPr>
          <a:xfrm>
            <a:off x="3657600" y="3924360"/>
            <a:ext cx="1562040" cy="830160"/>
          </a:xfrm>
          <a:prstGeom prst="cloudCallout">
            <a:avLst>
              <a:gd name="adj1" fmla="val 72458"/>
              <a:gd name="adj2" fmla="val 109083"/>
            </a:avLst>
          </a:prstGeom>
          <a:blipFill rotWithShape="0">
            <a:blip r:embed="rId11"/>
            <a:srcRect/>
            <a:stretch/>
          </a:blip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e’s eat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9" name="" descr="">
            <a:hlinkClick r:id="" action="ppaction://media"/>
          </p:cNvPr>
          <p:cNvPicPr/>
          <p:nvPr>
            <a:audioFile r:link="rId12"/>
            <p:extLst>
              <p:ext uri="{DAA4B4D4-6D71-4841-9C94-3DE7FCFB9230}">
                <p14:media r:link="rId13"/>
              </p:ext>
            </p:extLst>
          </p:nvPr>
        </p:nvPicPr>
        <p:blipFill>
          <a:blip r:embed="rId14"/>
          <a:stretch>
            <a:fillRect/>
          </a:stretch>
        </p:blipFill>
        <p:spPr>
          <a:xfrm>
            <a:off x="7885080" y="4005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Rot by="21600000">
                                      <p:cBhvr>
                                        <p:cTn id="324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60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70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8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9" dur="2356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79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7B15B24B-6E1A-41E5-804D-A6099835609F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Vragen in de present continuou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928800" y="2265480"/>
            <a:ext cx="77230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n vraag in het Engel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OE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ltijd een hulpwerkwoord hebb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ulpwerkwoorden – betekenen nie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ulpwerkwoorden – kun je weglaten en d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betekenis van de zin blijf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ulpwerkwoorden – be, have, can, wi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9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30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3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60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7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0" dur="1" fill="hold"/>
                                  <p:tgtEl>
                                    <p:spTgt spid="18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7:21:46Z</dcterms:created>
  <dc:creator>Els  van der Zande</dc:creator>
  <dc:description/>
  <dc:language>en-US</dc:language>
  <cp:lastModifiedBy>Els van der Zande</cp:lastModifiedBy>
  <dcterms:modified xsi:type="dcterms:W3CDTF">2007-07-24T16:34:21Z</dcterms:modified>
  <cp:revision>119</cp:revision>
  <dc:subject/>
  <dc:title>The present simple</dc:title>
</cp:coreProperties>
</file>