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gif" ContentType="image/gif"/>
  <Override PartName="/ppt/media/image6.gif" ContentType="image/gif"/>
  <Override PartName="/ppt/media/image9.png" ContentType="image/png"/>
  <Override PartName="/ppt/media/image5.gif" ContentType="image/gif"/>
  <Override PartName="/ppt/media/book%20turning%20pages.wav" ContentType="audio/x-wav"/>
  <Override PartName="/ppt/media/amazed.wav" ContentType="audio/x-wav"/>
  <Override PartName="/ppt/media/image4.gif" ContentType="image/gif"/>
  <Override PartName="/ppt/media/image7.gif" ContentType="image/gif"/>
  <Override PartName="/ppt/media/train.wav" ContentType="audio/x-wav"/>
  <Override PartName="/ppt/media/drumroll.wav" ContentType="audio/x-wav"/>
  <Override PartName="/ppt/media/image12.gif" ContentType="image/gif"/>
  <Override PartName="/ppt/media/image3.png" ContentType="image/png"/>
  <Override PartName="/ppt/media/whoosh.wav" ContentType="audio/x-wav"/>
  <Override PartName="/ppt/media/carhorn.wav" ContentType="audio/x-wav"/>
  <Override PartName="/ppt/media/image20.gif" ContentType="image/gif"/>
  <Override PartName="/ppt/media/image18.gif" ContentType="image/gif"/>
  <Override PartName="/ppt/media/image17.gif" ContentType="image/gif"/>
  <Override PartName="/ppt/media/explode.wav" ContentType="audio/x-wav"/>
  <Override PartName="/ppt/media/image15.gif" ContentType="image/gif"/>
  <Override PartName="/ppt/media/image19.gif" ContentType="image/gif"/>
  <Override PartName="/ppt/media/image1.png" ContentType="image/png"/>
  <Override PartName="/ppt/media/kids%20cheer.wav" ContentType="audio/x-wav"/>
  <Override PartName="/ppt/media/image14.gif" ContentType="image/gif"/>
  <Override PartName="/ppt/media/image16.png" ContentType="image/png"/>
  <Override PartName="/ppt/media/image13.gif" ContentType="image/gi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92B8-CBF9-4AB7-BAC9-BFCF92C0E48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01FA-7740-47F6-AED5-FF2F7CDC99F6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FFEC-F0ED-42C1-9970-8EC10277C84D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4F66-9AA6-4606-B41B-C07A80F68A38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AD28-D6D8-4606-B63D-ECAB027E40F0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96C8-D255-444F-A237-FDF00A4A9385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D535-41E8-44EB-8DD4-9B2C58FC5A8C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9D89-B9CB-4A10-B993-E9F0FD16DA30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864A-45AD-4043-8BAC-30B1B42D7943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9595-D0EF-4A4C-AC82-B2FF9EDAC4BF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DC50-0CB0-4CA9-BD75-47A2FAB6AB52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7FA5-C7E2-4EC4-9805-F4D110BD7D99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90EC-25E4-4880-B7A9-1F8270617496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D4B1-3FF2-4FB2-9293-6BFBF784716A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2C5B-73CC-4983-8124-3F370A2D3218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78BF-DC1D-4904-AAA9-BB5239F6F15C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2DA5-549A-4D25-A340-69CCE00D9D7E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A21B-753D-4F3C-AFB9-0E61E196543F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6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57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55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6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57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56360" y="62136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6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57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6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57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56360" y="62136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ebff"/>
            </a:gs>
            <a:gs pos="100000">
              <a:srgbClr val="f0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457200" y="0"/>
              <a:ext cx="2743200" cy="1166760"/>
            </a:xfrm>
            <a:prstGeom prst="pie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Group 6"/>
          <p:cNvGrpSpPr/>
          <p:nvPr/>
        </p:nvGrpSpPr>
        <p:grpSpPr>
          <a:xfrm>
            <a:off x="250560" y="1700280"/>
            <a:ext cx="7391160" cy="318960"/>
            <a:chOff x="250560" y="1700280"/>
            <a:chExt cx="7391160" cy="318960"/>
          </a:xfrm>
        </p:grpSpPr>
        <p:sp>
          <p:nvSpPr>
            <p:cNvPr id="4" name="AutoShape 7"/>
            <p:cNvSpPr/>
            <p:nvPr/>
          </p:nvSpPr>
          <p:spPr>
            <a:xfrm>
              <a:off x="631440" y="170028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AutoShape 8"/>
            <p:cNvSpPr/>
            <p:nvPr/>
          </p:nvSpPr>
          <p:spPr>
            <a:xfrm flipH="1">
              <a:off x="250200" y="170028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0" y="6382800"/>
            <a:ext cx="10620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007-</a:t>
            </a:r>
            <a:fld id="{D076C172-D8E9-471B-A3CC-6A6C5EC4A6F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jm-z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ebff"/>
            </a:gs>
            <a:gs pos="100000">
              <a:srgbClr val="f0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drumroll.wav"/><Relationship Id="rId5" Type="http://schemas.openxmlformats.org/officeDocument/2006/relationships/audio" Target="../media/whoosh.wav"/><Relationship Id="rId6" Type="http://schemas.openxmlformats.org/officeDocument/2006/relationships/audio" Target="../media/train.wav"/><Relationship Id="rId7" Type="http://schemas.openxmlformats.org/officeDocument/2006/relationships/audio" Target="../media/train.wav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3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audio" Target="../media/carhorn.wav"/><Relationship Id="rId6" Type="http://schemas.openxmlformats.org/officeDocument/2006/relationships/audio" Target="../media/book%20turning%20pag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book%20turning%20pag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file:///tmp/home/.config/libreoffice/4/user/gallery/book%20turning%20pages.wav" TargetMode="External"/><Relationship Id="rId3" Type="http://schemas.microsoft.com/office/2007/relationships/media" Target="file:///tmp/home/.config/libreoffice/4/user/gallery/book%20turning%20pages.wav" TargetMode="External"/><Relationship Id="rId4" Type="http://schemas.openxmlformats.org/officeDocument/2006/relationships/image" Target="../media/image9.png"/><Relationship Id="rId5" Type="http://schemas.openxmlformats.org/officeDocument/2006/relationships/audio" Target="../media/amaze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file:///tmp/home/.config/libreoffice/4/user/gallery/kids%20cheer.wav" TargetMode="External"/><Relationship Id="rId7" Type="http://schemas.microsoft.com/office/2007/relationships/media" Target="file:///tmp/home/.config/libreoffice/4/user/gallery/kids%20cheer.wav" TargetMode="Externa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audio" Target="../media/train.wav"/><Relationship Id="rId6" Type="http://schemas.openxmlformats.org/officeDocument/2006/relationships/audio" Target="../media/kids%20che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book%20turning%20pages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audio" Target="file:///tmp/home/.config/libreoffice/4/user/gallery/explode.wav" TargetMode="External"/><Relationship Id="rId13" Type="http://schemas.microsoft.com/office/2007/relationships/media" Target="file:///tmp/home/.config/libreoffice/4/user/gallery/explode.wav" TargetMode="External"/><Relationship Id="rId14" Type="http://schemas.openxmlformats.org/officeDocument/2006/relationships/image" Target="../media/image9.png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-321120" y="1166040"/>
            <a:ext cx="734184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"/>
              </a:rPr>
              <a:t>present continuo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03280" y="19173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tegenwoordige tijd (o.t.t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6186600" y="1711440"/>
            <a:ext cx="1915920" cy="1190520"/>
          </a:xfrm>
          <a:prstGeom prst="cloudCallout">
            <a:avLst>
              <a:gd name="adj1" fmla="val -22578"/>
              <a:gd name="adj2" fmla="val 73601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hat now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6286680" y="639720"/>
            <a:ext cx="2584440" cy="2103480"/>
          </a:xfrm>
          <a:prstGeom prst="cloudCallout">
            <a:avLst>
              <a:gd name="adj1" fmla="val 12995"/>
              <a:gd name="adj2" fmla="val 67435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Somet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ew ?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001880" y="4746600"/>
            <a:ext cx="59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et’s go……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15" descr="jongens die praten"/>
          <p:cNvPicPr/>
          <p:nvPr/>
        </p:nvPicPr>
        <p:blipFill>
          <a:blip r:embed="rId3"/>
          <a:stretch/>
        </p:blipFill>
        <p:spPr>
          <a:xfrm>
            <a:off x="6084720" y="3141720"/>
            <a:ext cx="2598840" cy="345600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rain.wav"/>
                                        </p:tgtEl>
                                      </p:cMediaNode>
                                    </p:audio>
                                    <p:animMotion origin="layout" path="M 0.07013 0.00209 L -0.96893 -3.7037E-006 E">
                                      <p:cBhvr>
                                        <p:cTn id="4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CC444772-7132-4CFD-8CB5-347203E3E4AB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28800" y="2000160"/>
            <a:ext cx="77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ze tijd wordt gevormd met het werkwoord to BE en er staat dus een hulpwerkwoord in d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evestigen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zin, dan gebruik je die in j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raa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146240" y="416232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wem i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948200" y="416232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m I swimm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160640" y="5842080"/>
            <a:ext cx="331128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est hij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976640" y="584208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s he read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1133640" y="3360600"/>
            <a:ext cx="331128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4950000" y="3360600"/>
            <a:ext cx="33112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116208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497844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A12DEBC1-CD1C-4BDD-808C-F45AAB3D8F66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968400" y="289548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Fiets ik naar schoo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844880" y="2895480"/>
            <a:ext cx="373392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m I cycling to schoo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969840" y="373860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Gaan jullie we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862520" y="3738600"/>
            <a:ext cx="376092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you going awa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981000" y="45417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ten wij fr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4865760" y="4541760"/>
            <a:ext cx="3774960" cy="687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we eating fr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968400" y="548784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eest u een boe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4844880" y="5487840"/>
            <a:ext cx="41403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you reading a boo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Picture 11" descr="MMj03035000000[1]"/>
          <p:cNvPicPr/>
          <p:nvPr/>
        </p:nvPicPr>
        <p:blipFill>
          <a:blip r:embed="rId1"/>
          <a:stretch/>
        </p:blipFill>
        <p:spPr>
          <a:xfrm>
            <a:off x="3975120" y="2851200"/>
            <a:ext cx="961920" cy="733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MMAG00327_0000[1]"/>
          <p:cNvPicPr/>
          <p:nvPr/>
        </p:nvPicPr>
        <p:blipFill>
          <a:blip r:embed="rId2"/>
          <a:stretch/>
        </p:blipFill>
        <p:spPr>
          <a:xfrm>
            <a:off x="4303800" y="4678200"/>
            <a:ext cx="533160" cy="400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MMj02840840000[1]"/>
          <p:cNvPicPr/>
          <p:nvPr/>
        </p:nvPicPr>
        <p:blipFill>
          <a:blip r:embed="rId3"/>
          <a:stretch/>
        </p:blipFill>
        <p:spPr>
          <a:xfrm>
            <a:off x="4116240" y="3817800"/>
            <a:ext cx="1038240" cy="447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MMj03369140000[1]"/>
          <p:cNvPicPr/>
          <p:nvPr/>
        </p:nvPicPr>
        <p:blipFill>
          <a:blip r:embed="rId4"/>
          <a:stretch/>
        </p:blipFill>
        <p:spPr>
          <a:xfrm>
            <a:off x="4430880" y="5545080"/>
            <a:ext cx="34272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7"/>
          <p:cNvSpPr/>
          <p:nvPr/>
        </p:nvSpPr>
        <p:spPr>
          <a:xfrm>
            <a:off x="1119240" y="2160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g een paar voorbeeld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BC90C6C9-523B-43A1-AE33-15EB0DD46F8B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840" y="357840"/>
            <a:ext cx="84992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928800" y="2265480"/>
            <a:ext cx="7723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kenning in het Engel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tijd een hulpwerkwoord hebb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tekenen ni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kun je weglaten en d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betekenis van de zin blij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, have, can, w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60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8" dur="1" fill="hold"/>
                                  <p:tgtEl>
                                    <p:spTgt spid="2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B03CBA8F-D134-494F-A0D6-2508E055A2C3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28800" y="2265480"/>
            <a:ext cx="77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t hulpwerkwoord t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t weer gebruikt, want die staat ook in de bevestigende zi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925560" y="414648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 niet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948200" y="414648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not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39960" y="5842080"/>
            <a:ext cx="372096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 ni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976640" y="584208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not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912960" y="334476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4950000" y="3344760"/>
            <a:ext cx="33112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941400" y="502596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497844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8EE08BD9-36F1-4907-9A6D-A3AAE8AC2257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824040" y="289548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 niet naar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4844880" y="2895480"/>
            <a:ext cx="40784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not cycling to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824040" y="461160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ullie gaan niet we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844880" y="4611600"/>
            <a:ext cx="41086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You are not going aw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92000" y="3755880"/>
            <a:ext cx="378468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ij eten geen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813200" y="3755880"/>
            <a:ext cx="4124520" cy="6811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y are not eating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824040" y="548784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 leest g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844880" y="5487840"/>
            <a:ext cx="41403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You are not reading a boo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1119240" y="2160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g een paar voorbeeld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88225CAE-FB9A-41C7-ACD9-95AAECA6E26B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285840" y="289548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I cycle to school every da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572000" y="2895480"/>
            <a:ext cx="435132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 am walking to school 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285840" y="461160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 swims every wee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572000" y="4611600"/>
            <a:ext cx="43815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 is playing hockey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285840" y="375588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They always eat app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4572000" y="3755880"/>
            <a:ext cx="4365720" cy="6811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hey are eating a banana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285840" y="548784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You read book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572000" y="5500800"/>
            <a:ext cx="435780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You are reading a magazin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erschil present simple e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Tekstvak 14"/>
          <p:cNvSpPr/>
          <p:nvPr/>
        </p:nvSpPr>
        <p:spPr>
          <a:xfrm>
            <a:off x="928800" y="2214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6040"/>
                <a:tab algn="ctr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simp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234E1548-BF75-4A17-956E-01ED22C5C1F7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sent continous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eer maar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26920" y="213336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6" name="Picture 4" descr="MMj02135130000[1]"/>
          <p:cNvPicPr/>
          <p:nvPr/>
        </p:nvPicPr>
        <p:blipFill>
          <a:blip r:embed="rId1"/>
          <a:stretch/>
        </p:blipFill>
        <p:spPr>
          <a:xfrm>
            <a:off x="1325520" y="2739960"/>
            <a:ext cx="1247760" cy="9050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MMj02952530000[1]"/>
          <p:cNvPicPr/>
          <p:nvPr/>
        </p:nvPicPr>
        <p:blipFill>
          <a:blip r:embed="rId2"/>
          <a:stretch/>
        </p:blipFill>
        <p:spPr>
          <a:xfrm>
            <a:off x="3792600" y="2913120"/>
            <a:ext cx="1218960" cy="714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MMj03653050000[1]"/>
          <p:cNvPicPr/>
          <p:nvPr/>
        </p:nvPicPr>
        <p:blipFill>
          <a:blip r:embed="rId3"/>
          <a:stretch/>
        </p:blipFill>
        <p:spPr>
          <a:xfrm>
            <a:off x="6783480" y="26193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MMj01892150000[1]"/>
          <p:cNvPicPr/>
          <p:nvPr/>
        </p:nvPicPr>
        <p:blipFill>
          <a:blip r:embed="rId4"/>
          <a:stretch/>
        </p:blipFill>
        <p:spPr>
          <a:xfrm>
            <a:off x="1357200" y="4429080"/>
            <a:ext cx="1428840" cy="819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3" descr="MMj02836550000[1]"/>
          <p:cNvPicPr/>
          <p:nvPr/>
        </p:nvPicPr>
        <p:blipFill>
          <a:blip r:embed="rId5"/>
          <a:stretch/>
        </p:blipFill>
        <p:spPr>
          <a:xfrm>
            <a:off x="7015320" y="4489560"/>
            <a:ext cx="533160" cy="8571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4"/>
          <p:cNvSpPr/>
          <p:nvPr/>
        </p:nvSpPr>
        <p:spPr>
          <a:xfrm>
            <a:off x="813600" y="373680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cks are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2049480" y="2292480"/>
            <a:ext cx="41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are playing hocke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517320" y="521496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playing ch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5734080" y="373536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slee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4479480" y="5445000"/>
            <a:ext cx="43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is eating an ice-crea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4CCD1FF6-F346-4A69-BD14-93A93C3D84DF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sent continuous? – Vrag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5" descr="MMj02835510000[1]"/>
          <p:cNvPicPr/>
          <p:nvPr/>
        </p:nvPicPr>
        <p:blipFill>
          <a:blip r:embed="rId1"/>
          <a:stretch/>
        </p:blipFill>
        <p:spPr>
          <a:xfrm>
            <a:off x="3743280" y="3005280"/>
            <a:ext cx="1728720" cy="16430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73272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circl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maz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71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19896F33-6E6E-4746-A012-17789533350F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nhou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oorten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t is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nneer gebruik ik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oe maak ik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ragen in de 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tkenningen in de 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8" descr="MMj02135130000[1]"/>
          <p:cNvPicPr/>
          <p:nvPr/>
        </p:nvPicPr>
        <p:blipFill>
          <a:blip r:embed="rId1"/>
          <a:stretch/>
        </p:blipFill>
        <p:spPr>
          <a:xfrm>
            <a:off x="1403280" y="2349360"/>
            <a:ext cx="1247760" cy="905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MMj03034660000[1]"/>
          <p:cNvPicPr/>
          <p:nvPr/>
        </p:nvPicPr>
        <p:blipFill>
          <a:blip r:embed="rId2"/>
          <a:stretch/>
        </p:blipFill>
        <p:spPr>
          <a:xfrm>
            <a:off x="1403280" y="4797360"/>
            <a:ext cx="857160" cy="561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MMj02952530000[1]"/>
          <p:cNvPicPr/>
          <p:nvPr/>
        </p:nvPicPr>
        <p:blipFill>
          <a:blip r:embed="rId3"/>
          <a:stretch/>
        </p:blipFill>
        <p:spPr>
          <a:xfrm>
            <a:off x="5003640" y="333360"/>
            <a:ext cx="1219320" cy="714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MMj03653050000[1]"/>
          <p:cNvPicPr/>
          <p:nvPr/>
        </p:nvPicPr>
        <p:blipFill>
          <a:blip r:embed="rId4"/>
          <a:stretch/>
        </p:blipFill>
        <p:spPr>
          <a:xfrm>
            <a:off x="7451640" y="263700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MMj01892150000[1]"/>
          <p:cNvPicPr/>
          <p:nvPr/>
        </p:nvPicPr>
        <p:blipFill>
          <a:blip r:embed="rId5"/>
          <a:stretch/>
        </p:blipFill>
        <p:spPr>
          <a:xfrm>
            <a:off x="3851280" y="4221000"/>
            <a:ext cx="1428840" cy="819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4"/>
          <p:cNvSpPr/>
          <p:nvPr/>
        </p:nvSpPr>
        <p:spPr>
          <a:xfrm>
            <a:off x="1062720" y="342900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cks are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38240" y="5446800"/>
            <a:ext cx="27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is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3716280" y="1125360"/>
            <a:ext cx="41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are playing hocke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4302000" y="494172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playing ch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5685120" y="373536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slee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 repeatCount="100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6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67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7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1" dur="1" fill="hold"/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2" dur="1" fill="hold"/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3" dur="1" fill="hold"/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4" dur="1" fill="hold"/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4BA03425-4266-426E-9BD7-A42A07447A79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orten zinn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vestig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rag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tkenn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t is zo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k lees 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raa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es ik een boe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, ni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k lees g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MCj00787110000[1]"/>
          <p:cNvPicPr/>
          <p:nvPr/>
        </p:nvPicPr>
        <p:blipFill>
          <a:blip r:embed="rId1"/>
          <a:stretch/>
        </p:blipFill>
        <p:spPr>
          <a:xfrm>
            <a:off x="7451640" y="3789360"/>
            <a:ext cx="871560" cy="2111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837 -0.00764 C -0.53542 -0.03287 -0.40747 -0.08912 -0.39948 -0.08912 C -0.39045 -0.08912 -0.3599 -0.00833 -0.35694 0.0169 C -0.35295 0.04491 -0.25399 -0.0743 -0.24392 -0.0743 C -0.2349 -0.0743 -0.21285 0.16852 -0.20885 0.14051 C -0.20694 0.11528 -0.1283 -0.05949 -0.11927 -0.05949 C -0.11128 -0.05949 -0.10729 -0.03542 -0.10417 -0.01018 C -0.10122 0.01783 -0.09722 0.04583 -0.08819 0.04583 C -0.07917 0.04583 -0.07222 -0.01018 -0.07222 -0.00995 C -0.06927 -0.03542 -0.06615 -0.05949 -0.05729 -0.05949 C -0.04826 -0.05949 -0.04514 -0.03542 -0.04219 -0.01018 C -0.03819 0.01783 -0.03524 0.04583 -0.02517 0.04583 C -0.01615 0.04583 -0.01319 0.01783 -0.01024 -0.01018 C -0.00625 -0.03542 -0.0033 -0.05949 0.00573 -0.05949 C 0.01372 -0.05949 0.01771 -0.03542 0.02083 -0.01018 C 0.02378 0.01783 0.02778 0.04583 0.03681 0.04583 C 0.04583 0.04583 0.04878 0.01783 0.05278 -0.01018 E">
                                      <p:cBhvr>
                                        <p:cTn id="14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DCF64ED4-B30A-4071-BC42-2B48A485C5DA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is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187280" y="227664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003640" y="227664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cycl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187280" y="314172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trein vertrek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5003640" y="314172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 train is leav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187280" y="400536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ij eten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003640" y="400536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e are eating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187280" y="486900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ij spe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003640" y="486900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y are play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12" descr="MMj03035000000[1]"/>
          <p:cNvPicPr/>
          <p:nvPr/>
        </p:nvPicPr>
        <p:blipFill>
          <a:blip r:embed="rId1"/>
          <a:stretch/>
        </p:blipFill>
        <p:spPr>
          <a:xfrm>
            <a:off x="4133880" y="2232000"/>
            <a:ext cx="961920" cy="733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4" descr="MMj03544800000[1]"/>
          <p:cNvPicPr/>
          <p:nvPr/>
        </p:nvPicPr>
        <p:blipFill>
          <a:blip r:embed="rId2"/>
          <a:stretch/>
        </p:blipFill>
        <p:spPr>
          <a:xfrm>
            <a:off x="4262400" y="3152880"/>
            <a:ext cx="619200" cy="552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MMAG00327_0000[1]"/>
          <p:cNvPicPr/>
          <p:nvPr/>
        </p:nvPicPr>
        <p:blipFill>
          <a:blip r:embed="rId3"/>
          <a:stretch/>
        </p:blipFill>
        <p:spPr>
          <a:xfrm>
            <a:off x="4432320" y="415620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2" descr="MMj03034880000[1]"/>
          <p:cNvPicPr/>
          <p:nvPr/>
        </p:nvPicPr>
        <p:blipFill>
          <a:blip r:embed="rId4"/>
          <a:stretch/>
        </p:blipFill>
        <p:spPr>
          <a:xfrm>
            <a:off x="4284720" y="4869000"/>
            <a:ext cx="799920" cy="6667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kids%20che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73D04E33-356A-462B-A0C7-19162B3CFA9B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ijdelijke aanduiding voor voettekst 4"/>
          <p:cNvSpPr/>
          <p:nvPr/>
        </p:nvSpPr>
        <p:spPr>
          <a:xfrm>
            <a:off x="5500800" y="6383160"/>
            <a:ext cx="289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64520" y="415080"/>
            <a:ext cx="8713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Wanneer gebruik ik de present continuou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818640" y="2071800"/>
            <a:ext cx="63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m aan te geven dat </a:t>
            </a:r>
            <a:r>
              <a:rPr b="1" lang="nl-NL" sz="2800" spc="-1" strike="noStrike">
                <a:solidFill>
                  <a:srgbClr val="003366"/>
                </a:solidFill>
                <a:latin typeface="Arial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 iets gebeu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1116000" y="28605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 naar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4932360" y="2860560"/>
            <a:ext cx="371160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cycling to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1112760" y="4994280"/>
            <a:ext cx="3341880" cy="866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trein vertrek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4929120" y="4994280"/>
            <a:ext cx="3500640" cy="8809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 train is leav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1114560" y="3848040"/>
            <a:ext cx="3311280" cy="771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ij leren Enge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24"/>
          <p:cNvSpPr/>
          <p:nvPr/>
        </p:nvSpPr>
        <p:spPr>
          <a:xfrm>
            <a:off x="4944960" y="3848040"/>
            <a:ext cx="3484800" cy="784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e ar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nglis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841B64D5-03CE-464C-BD4B-7107898B8573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06880" y="286200"/>
            <a:ext cx="8427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oon + vorm van werkwoord BE + hele werkwoord 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ersoon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 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857840" y="3797280"/>
            <a:ext cx="3311280" cy="2703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 (‘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(‘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143000" y="3797280"/>
            <a:ext cx="3311640" cy="27748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/ she /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02F12D11-E84E-485E-8317-496A601F79EB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1120" y="286200"/>
            <a:ext cx="8356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oon + vorm van werkwoord BE + hele werkwoord 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ele werkwoord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857840" y="3797280"/>
            <a:ext cx="3311280" cy="2703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143000" y="3797280"/>
            <a:ext cx="3311640" cy="27748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c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kstvak 8"/>
          <p:cNvSpPr/>
          <p:nvPr/>
        </p:nvSpPr>
        <p:spPr>
          <a:xfrm>
            <a:off x="3070440" y="4714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kstvak 9"/>
          <p:cNvSpPr/>
          <p:nvPr/>
        </p:nvSpPr>
        <p:spPr>
          <a:xfrm>
            <a:off x="2953080" y="5556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kstvak 10"/>
          <p:cNvSpPr/>
          <p:nvPr/>
        </p:nvSpPr>
        <p:spPr>
          <a:xfrm>
            <a:off x="5715000" y="60721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ar let op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12" descr="MMj02837400000[1]"/>
          <p:cNvPicPr/>
          <p:nvPr/>
        </p:nvPicPr>
        <p:blipFill>
          <a:blip r:embed="rId1"/>
          <a:stretch/>
        </p:blipFill>
        <p:spPr>
          <a:xfrm>
            <a:off x="3929040" y="5418000"/>
            <a:ext cx="1339920" cy="1440000"/>
          </a:xfrm>
          <a:prstGeom prst="rect">
            <a:avLst/>
          </a:prstGeom>
          <a:ln w="0">
            <a:noFill/>
          </a:ln>
        </p:spPr>
      </p:pic>
      <p:sp>
        <p:nvSpPr>
          <p:cNvPr id="161" name="Tekstvak 13"/>
          <p:cNvSpPr/>
          <p:nvPr/>
        </p:nvSpPr>
        <p:spPr>
          <a:xfrm>
            <a:off x="3128040" y="428616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evt="end">
                                        <p:tn val="299"/>
                                      </p:cond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5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4"/>
                                      </p:cond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5" dur="1" fill="hold"/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C4804718-B8E3-4073-99D2-CFF8CED7DEA3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05440" y="286200"/>
            <a:ext cx="8284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 am eating (I’m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You are eating (You’re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e / she / it is eating (He’s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Geldt ook voor John, mother, cat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You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They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6" name="Group 15"/>
          <p:cNvGrpSpPr/>
          <p:nvPr/>
        </p:nvGrpSpPr>
        <p:grpSpPr>
          <a:xfrm>
            <a:off x="5459400" y="4336920"/>
            <a:ext cx="2657520" cy="1187640"/>
            <a:chOff x="5459400" y="4336920"/>
            <a:chExt cx="2657520" cy="1187640"/>
          </a:xfrm>
        </p:grpSpPr>
        <p:pic>
          <p:nvPicPr>
            <p:cNvPr id="167" name="Picture 5" descr="MMAG00327_0000[1]"/>
            <p:cNvPicPr/>
            <p:nvPr/>
          </p:nvPicPr>
          <p:blipFill>
            <a:blip r:embed="rId1"/>
            <a:stretch/>
          </p:blipFill>
          <p:spPr>
            <a:xfrm>
              <a:off x="6669000" y="5097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6" descr="MMAG00327_0000[1]"/>
            <p:cNvPicPr/>
            <p:nvPr/>
          </p:nvPicPr>
          <p:blipFill>
            <a:blip r:embed="rId2"/>
            <a:stretch/>
          </p:blipFill>
          <p:spPr>
            <a:xfrm>
              <a:off x="5459400" y="5124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7" descr="MMAG00327_0000[1]"/>
            <p:cNvPicPr/>
            <p:nvPr/>
          </p:nvPicPr>
          <p:blipFill>
            <a:blip r:embed="rId3"/>
            <a:stretch/>
          </p:blipFill>
          <p:spPr>
            <a:xfrm>
              <a:off x="6021360" y="4336920"/>
              <a:ext cx="5335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9" descr="MMAG00327_0000[1]"/>
            <p:cNvPicPr/>
            <p:nvPr/>
          </p:nvPicPr>
          <p:blipFill>
            <a:blip r:embed="rId4"/>
            <a:stretch/>
          </p:blipFill>
          <p:spPr>
            <a:xfrm>
              <a:off x="7583400" y="457524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16"/>
          <p:cNvGrpSpPr/>
          <p:nvPr/>
        </p:nvGrpSpPr>
        <p:grpSpPr>
          <a:xfrm>
            <a:off x="5675400" y="4552920"/>
            <a:ext cx="2657520" cy="1187640"/>
            <a:chOff x="5675400" y="4552920"/>
            <a:chExt cx="2657520" cy="1187640"/>
          </a:xfrm>
        </p:grpSpPr>
        <p:pic>
          <p:nvPicPr>
            <p:cNvPr id="172" name="Picture 17" descr="MMAG00327_0000[1]"/>
            <p:cNvPicPr/>
            <p:nvPr/>
          </p:nvPicPr>
          <p:blipFill>
            <a:blip r:embed="rId5"/>
            <a:stretch/>
          </p:blipFill>
          <p:spPr>
            <a:xfrm>
              <a:off x="6885000" y="5313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8" descr="MMAG00327_0000[1]"/>
            <p:cNvPicPr/>
            <p:nvPr/>
          </p:nvPicPr>
          <p:blipFill>
            <a:blip r:embed="rId6"/>
            <a:stretch/>
          </p:blipFill>
          <p:spPr>
            <a:xfrm>
              <a:off x="5675400" y="5340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9" descr="MMAG00327_0000[1]"/>
            <p:cNvPicPr/>
            <p:nvPr/>
          </p:nvPicPr>
          <p:blipFill>
            <a:blip r:embed="rId7"/>
            <a:stretch/>
          </p:blipFill>
          <p:spPr>
            <a:xfrm>
              <a:off x="6237360" y="4552920"/>
              <a:ext cx="5335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0" descr="MMAG00327_0000[1]"/>
            <p:cNvPicPr/>
            <p:nvPr/>
          </p:nvPicPr>
          <p:blipFill>
            <a:blip r:embed="rId8"/>
            <a:stretch/>
          </p:blipFill>
          <p:spPr>
            <a:xfrm>
              <a:off x="7799400" y="479124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AutoShape 22"/>
          <p:cNvSpPr/>
          <p:nvPr/>
        </p:nvSpPr>
        <p:spPr>
          <a:xfrm>
            <a:off x="6470640" y="3727440"/>
            <a:ext cx="1562040" cy="83016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9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’re eating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AutoShape 25"/>
          <p:cNvSpPr/>
          <p:nvPr/>
        </p:nvSpPr>
        <p:spPr>
          <a:xfrm>
            <a:off x="7075440" y="5726160"/>
            <a:ext cx="1562040" cy="830160"/>
          </a:xfrm>
          <a:prstGeom prst="cloudCallout">
            <a:avLst>
              <a:gd name="adj1" fmla="val -58944"/>
              <a:gd name="adj2" fmla="val -102962"/>
            </a:avLst>
          </a:prstGeom>
          <a:blipFill rotWithShape="0">
            <a:blip r:embed="rId10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am eating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AutoShape 27"/>
          <p:cNvSpPr/>
          <p:nvPr/>
        </p:nvSpPr>
        <p:spPr>
          <a:xfrm>
            <a:off x="3657600" y="3924360"/>
            <a:ext cx="1562040" cy="830160"/>
          </a:xfrm>
          <a:prstGeom prst="cloudCallout">
            <a:avLst>
              <a:gd name="adj1" fmla="val 72458"/>
              <a:gd name="adj2" fmla="val 109083"/>
            </a:avLst>
          </a:prstGeom>
          <a:blipFill rotWithShape="0">
            <a:blip r:embed="rId11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e’s ea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" descr="">
            <a:hlinkClick r:id="" action="ppaction://media"/>
          </p:cNvPr>
          <p:cNvPicPr/>
          <p:nvPr>
            <a:audioFile r:link="rId12"/>
            <p:extLst>
              <p:ext uri="{DAA4B4D4-6D71-4841-9C94-3DE7FCFB9230}">
                <p14:media r:link="rId13"/>
              </p:ext>
            </p:extLst>
          </p:nvPr>
        </p:nvPicPr>
        <p:blipFill>
          <a:blip r:embed="rId14"/>
          <a:stretch>
            <a:fillRect/>
          </a:stretch>
        </p:blipFill>
        <p:spPr>
          <a:xfrm>
            <a:off x="7885080" y="4005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Rot by="21600000">
                                      <p:cBhvr>
                                        <p:cTn id="32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2356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9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2402F9BB-06D6-4803-A7E3-8524122A9F1C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928800" y="2265480"/>
            <a:ext cx="7723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vraag in het Engel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tijd een hulpwerkwoord hebb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tekenen ni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kun je weglaten en d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betekenis van de zin blij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, have, can, w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7:21:46Z</dcterms:created>
  <dc:creator>Els  van der Zande</dc:creator>
  <dc:description/>
  <dc:language>en-US</dc:language>
  <cp:lastModifiedBy>Els van der Zande</cp:lastModifiedBy>
  <dcterms:modified xsi:type="dcterms:W3CDTF">2007-07-24T16:34:21Z</dcterms:modified>
  <cp:revision>119</cp:revision>
  <dc:subject/>
  <dc:title>The present simple</dc:title>
</cp:coreProperties>
</file>