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BE40-47A6-4245-832F-151AC4E0FA1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483F-8E25-4708-89B5-9CD0FAFD678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EEDD-3E3C-4B29-A028-AB4A7DEA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91C8-630A-4F95-93BD-4607E6CF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087D-669A-4680-BF52-1624E427E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6312-D5BC-407A-ADB3-397361476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D803-894A-422A-94C0-476AED7D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A4D7-3461-434B-B726-8742A116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11B8-F943-49BC-93F5-DA51DADA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D9F5-B106-491F-80EE-ADD7CD78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83EC-FE57-4DF4-B492-4083DD1A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0EC0-B51F-4688-8BF4-FDB19CBC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5F5D-A14A-418F-A106-F118BE25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9A16-7728-4187-8167-C9E762B7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FA51-520B-458E-8C75-44DEF0D7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4A70-9B52-4A2D-AC96-E2DA9A4E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78BC-9791-4EF9-926B-8CCC7D34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5538-5786-467C-8CE7-29AD93F20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60AA-F870-41CB-9D9B-33ADCCBD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BD77-C1CC-4076-A762-FC09F050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59D7-9B89-4591-B2F8-72027761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E9B8-FF5E-4BB0-B65C-8565B4D4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FDB2-C54E-400E-B0CE-78506F3A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2822-47F6-46F7-9717-F0AB83A3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2031-C3CF-421B-AF95-D2D36804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E159-4809-494F-B274-D298ACEE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DE10-DF5E-4396-BBA8-DE3EE20BBC01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E8BE-EAD4-4031-B830-C2E58AAF2B26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80880" y="24382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pt-BR" sz="6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betalingsbala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447920" y="46483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systematisch overzicht van alle economische transacties met het buitenland gedurende een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228600" y="6858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uit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304920" y="152388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aan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304920" y="2743200"/>
            <a:ext cx="236196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primaire         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     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228600" y="43434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uitenlandse investeringen      en beleggingen in Neder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0" y="5943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2971800" y="685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in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2895480" y="16002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oor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2895480" y="2743200"/>
            <a:ext cx="3124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primaire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2895480" y="4343400"/>
            <a:ext cx="27432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Verleende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Nederlandse investeringen en belegging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3"/>
          <p:cNvSpPr/>
          <p:nvPr/>
        </p:nvSpPr>
        <p:spPr>
          <a:xfrm>
            <a:off x="5867280" y="304920"/>
            <a:ext cx="838440" cy="3657600"/>
          </a:xfrm>
          <a:custGeom>
            <a:avLst/>
            <a:gdLst>
              <a:gd name="textAreaLeft" fmla="*/ 0 w 838440"/>
              <a:gd name="textAreaRight" fmla="*/ 302760 w 83844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4"/>
          <p:cNvSpPr/>
          <p:nvPr/>
        </p:nvSpPr>
        <p:spPr>
          <a:xfrm>
            <a:off x="6781680" y="16765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80880" y="228600"/>
            <a:ext cx="784872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ijvoorbeeld: welke plaats nemen onderstaande transacties in op de betalingsbal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ab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strekte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6"/>
          <p:cNvSpPr/>
          <p:nvPr/>
        </p:nvSpPr>
        <p:spPr>
          <a:xfrm>
            <a:off x="2895480" y="6094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7"/>
          <p:cNvSpPr/>
          <p:nvPr/>
        </p:nvSpPr>
        <p:spPr>
          <a:xfrm>
            <a:off x="304920" y="1600200"/>
            <a:ext cx="24382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Arab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8"/>
          <p:cNvSpPr/>
          <p:nvPr/>
        </p:nvSpPr>
        <p:spPr>
          <a:xfrm>
            <a:off x="304920" y="2819520"/>
            <a:ext cx="236196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V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9"/>
          <p:cNvSpPr/>
          <p:nvPr/>
        </p:nvSpPr>
        <p:spPr>
          <a:xfrm>
            <a:off x="2895480" y="449568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0"/>
          <p:cNvSpPr/>
          <p:nvPr/>
        </p:nvSpPr>
        <p:spPr>
          <a:xfrm>
            <a:off x="228600" y="4495680"/>
            <a:ext cx="2514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 verstrekte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1"/>
          <p:cNvSpPr/>
          <p:nvPr/>
        </p:nvSpPr>
        <p:spPr>
          <a:xfrm>
            <a:off x="2971800" y="2819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2"/>
          <p:cNvSpPr/>
          <p:nvPr/>
        </p:nvSpPr>
        <p:spPr>
          <a:xfrm>
            <a:off x="2895480" y="160020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3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4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533520" y="0"/>
            <a:ext cx="70866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ge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vraag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het saldo op de 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de verandering in de officiele re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0492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04920" y="281952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6781680" y="16002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297180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228600" y="167652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7"/>
          <p:cNvSpPr/>
          <p:nvPr/>
        </p:nvSpPr>
        <p:spPr>
          <a:xfrm>
            <a:off x="228600" y="44956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8"/>
          <p:cNvSpPr/>
          <p:nvPr/>
        </p:nvSpPr>
        <p:spPr>
          <a:xfrm>
            <a:off x="2971800" y="4495680"/>
            <a:ext cx="22096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0"/>
          <p:cNvSpPr/>
          <p:nvPr/>
        </p:nvSpPr>
        <p:spPr>
          <a:xfrm>
            <a:off x="2971800" y="281952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1"/>
          <p:cNvSpPr/>
          <p:nvPr/>
        </p:nvSpPr>
        <p:spPr>
          <a:xfrm>
            <a:off x="2971800" y="1676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2"/>
          <p:cNvSpPr/>
          <p:nvPr/>
        </p:nvSpPr>
        <p:spPr>
          <a:xfrm>
            <a:off x="5791320" y="380880"/>
            <a:ext cx="914400" cy="3353040"/>
          </a:xfrm>
          <a:custGeom>
            <a:avLst/>
            <a:gdLst>
              <a:gd name="textAreaLeft" fmla="*/ 0 w 914400"/>
              <a:gd name="textAreaRight" fmla="*/ 330120 w 91440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3"/>
          <p:cNvSpPr/>
          <p:nvPr/>
        </p:nvSpPr>
        <p:spPr>
          <a:xfrm>
            <a:off x="7010280" y="914400"/>
            <a:ext cx="1905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ldo lopende reke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4"/>
          <p:cNvSpPr/>
          <p:nvPr/>
        </p:nvSpPr>
        <p:spPr>
          <a:xfrm>
            <a:off x="2971800" y="6019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oename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hthoek 1"/>
          <p:cNvSpPr/>
          <p:nvPr/>
        </p:nvSpPr>
        <p:spPr>
          <a:xfrm>
            <a:off x="468360" y="333360"/>
            <a:ext cx="638964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r wordt voor 20 miljoen euro aan bloembollen geexportee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en Duits bedrijf bouwt in Nederland winkelpanden voor 50 miljoen e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ederland verstrekt Zuid Afrika een lening van 2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hilips ontvangt 50 miljoen aan inkomen in de 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Japanse toeristen geven voor 15 miljoen euro uit in Ned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Ontvangen kredieten van de VS naar Nederland zijn .. miljo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import van tv’s bedraagt 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Zweedse bedrijf Ikea ontvangt vanuit Nederland 3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Saldo op de salderingsrekening is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3T18:17:28Z</dcterms:created>
  <dc:creator>J. de Jong</dc:creator>
  <dc:description/>
  <dc:language>en-US</dc:language>
  <cp:lastModifiedBy>Alberts, Johan</cp:lastModifiedBy>
  <dcterms:modified xsi:type="dcterms:W3CDTF">2014-09-22T07:20:54Z</dcterms:modified>
  <cp:revision>12</cp:revision>
  <dc:subject/>
  <dc:title>PowerPoint-presentatie</dc:title>
</cp:coreProperties>
</file>