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A59C-066F-4268-AB3E-1F07C4B7F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B313-1D57-45A0-B840-2E2B2A98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E7AA-42A3-4082-A21A-BBDF2B9B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2ADA-7421-4644-9892-18E93B22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5FAB-3B5E-49FD-8B7A-0AB6B5B5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3A1D-4959-4541-BB9E-7DA76B5D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954E-9C03-4C98-A51A-9463F012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A8E9-2397-4B8A-B368-BE1EF48A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62A6-D27E-4E75-8DC7-670B1C7E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5EFD-853D-43D1-91D8-58DE9ED5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977E-52DB-414B-83EF-B40BEB33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DEC-EA78-4BB6-8EF7-9D9DCF9B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67D2-A47D-4BC5-BBC3-FE2B9A0B219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Prijselasticiteit van de vraa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514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komenselasticite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5"/>
          <p:cNvSpPr/>
          <p:nvPr/>
        </p:nvSpPr>
        <p:spPr>
          <a:xfrm>
            <a:off x="5715000" y="2971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ls het inkomen toeneemt, wordt er meer gekocht van dit produ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7"/>
          <p:cNvSpPr/>
          <p:nvPr/>
        </p:nvSpPr>
        <p:spPr>
          <a:xfrm>
            <a:off x="13716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562720" y="5257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9,09% / 16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/3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% = 0,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38680" y="5791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Wat zegt deze uitkom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Object 41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Object 42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6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0,5 naar 1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47"/>
          <p:cNvSpPr/>
          <p:nvPr/>
        </p:nvSpPr>
        <p:spPr>
          <a:xfrm>
            <a:off x="4648320" y="502920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8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20% / 100% = -0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2 naar 2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2"/>
          <p:cNvSpPr/>
          <p:nvPr/>
        </p:nvSpPr>
        <p:spPr>
          <a:xfrm>
            <a:off x="4648320" y="327672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50% / 25% = 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2,5 naar 2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100% / -20% =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44"/>
          <p:cNvSpPr/>
          <p:nvPr/>
        </p:nvSpPr>
        <p:spPr>
          <a:xfrm>
            <a:off x="4800600" y="32767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41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1 naar 0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25% / -50% = -0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4724280" y="502920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an</dc:creator>
  <dc:description/>
  <dc:language>en-US</dc:language>
  <cp:lastModifiedBy>Alberts, Johan</cp:lastModifiedBy>
  <dcterms:modified xsi:type="dcterms:W3CDTF">2014-10-01T13:37:5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