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0A1-2B0F-4E12-8A2E-0E6FA7A0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8F4-F442-4DE3-A042-364B567E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E00-7077-4301-8921-73633C36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BCF-09AA-429D-8859-8E791846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AD6-475A-4D16-A27C-FABE9B24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F6F-AB8E-472A-B641-3DAC00C8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0B2-AEAF-4570-8466-12EC0682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5D5-52B5-46A9-98F7-87D5338A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128-27C4-4A1C-94E1-88553429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14E-C927-4018-9B79-7A670389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F7C-8AE6-455C-A498-FCBFC9D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156-B030-48F0-9198-D323B437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47BB-E0F6-4D71-9609-EFE1F99C52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oofdblad_algem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peciaal voor docenten</a:t>
            </a:r>
            <a:r>
              <a:rPr b="1" lang="nl-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Een Plaza inrichten naar eigen wen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4000" y="1989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l deelnemer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duur van een Plaza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euze uit: de stad, soorten winkel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en producttyp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mogelijkheid om bepaalde spelelementen (tijdelijk) uit te zett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empo bepal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zicht van de vorderingen en prestaties van de leerling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(een activiteitenra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sec4"/>
          <p:cNvPicPr/>
          <p:nvPr/>
        </p:nvPicPr>
        <p:blipFill>
          <a:blip r:embed="rId2"/>
          <a:stretch/>
        </p:blipFill>
        <p:spPr>
          <a:xfrm>
            <a:off x="6948360" y="2708280"/>
            <a:ext cx="1791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arom Plaza Challenge School Edit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2205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ngt economie dichterbij de belevingswereld van de leerling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 ler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vat kennis over economie en marktwerki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et kan door de docent worden ingericht naar eigen wens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voorbl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ankt voor uw aandac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oor meer informa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t i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Plaza Challe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2205000"/>
            <a:ext cx="8435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conomisch geor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eerd interactief spel (15.000 deelnemers)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erwijs kennis maken met het runnen van een ondernem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4797360"/>
            <a:ext cx="843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Oorsp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opdracht van ABN-AMRO ontwikkeld ter stimulering van ondernemend gedrag bij jon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076720" y="393372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Plaza = winkelc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Deelnemer = ondern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Doelen van het 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2565360"/>
            <a:ext cx="8435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otste marktaandeel verkrijg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st succesvolle ondernemer word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 zorgen voor een goed bezochte plaza, middels project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Leen een startkapitaal bij de ban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ening"/>
          <p:cNvPicPr/>
          <p:nvPr/>
        </p:nvPicPr>
        <p:blipFill>
          <a:blip r:embed="rId2"/>
          <a:stretch/>
        </p:blipFill>
        <p:spPr>
          <a:xfrm>
            <a:off x="1763640" y="2276640"/>
            <a:ext cx="5113440" cy="4027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26920" y="1557360"/>
            <a:ext cx="5915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2</a:t>
            </a: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Huur één of meerdere winkel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lattegrond"/>
          <p:cNvPicPr/>
          <p:nvPr/>
        </p:nvPicPr>
        <p:blipFill>
          <a:blip r:embed="rId2"/>
          <a:stretch/>
        </p:blipFill>
        <p:spPr>
          <a:xfrm>
            <a:off x="395280" y="2276640"/>
            <a:ext cx="2376360" cy="1596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2" name="Picture 9" descr="plattegrond2"/>
          <p:cNvPicPr/>
          <p:nvPr/>
        </p:nvPicPr>
        <p:blipFill>
          <a:blip r:embed="rId3"/>
          <a:stretch/>
        </p:blipFill>
        <p:spPr>
          <a:xfrm>
            <a:off x="395280" y="4076640"/>
            <a:ext cx="8424720" cy="203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10"/>
          <p:cNvSpPr/>
          <p:nvPr/>
        </p:nvSpPr>
        <p:spPr>
          <a:xfrm>
            <a:off x="3203640" y="2637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re of goedkopere winkel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schillende winkel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3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k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de groothandel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lever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nkopen"/>
          <p:cNvPicPr/>
          <p:nvPr/>
        </p:nvPicPr>
        <p:blipFill>
          <a:blip r:embed="rId2"/>
          <a:stretch/>
        </p:blipFill>
        <p:spPr>
          <a:xfrm>
            <a:off x="611280" y="2781360"/>
            <a:ext cx="5688000" cy="3692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Picture 8" descr="grafiek"/>
          <p:cNvPicPr/>
          <p:nvPr/>
        </p:nvPicPr>
        <p:blipFill>
          <a:blip r:embed="rId3"/>
          <a:stretch/>
        </p:blipFill>
        <p:spPr>
          <a:xfrm>
            <a:off x="5148360" y="2997360"/>
            <a:ext cx="3166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grafiek2"/>
          <p:cNvPicPr/>
          <p:nvPr/>
        </p:nvPicPr>
        <p:blipFill>
          <a:blip r:embed="rId4"/>
          <a:stretch/>
        </p:blipFill>
        <p:spPr>
          <a:xfrm>
            <a:off x="5148360" y="4869000"/>
            <a:ext cx="3166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84360" y="2205000"/>
            <a:ext cx="814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js bepalen                                   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eveelheden bep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happenleggen"/>
          <p:cNvPicPr/>
          <p:nvPr/>
        </p:nvPicPr>
        <p:blipFill>
          <a:blip r:embed="rId2"/>
          <a:stretch/>
        </p:blipFill>
        <p:spPr>
          <a:xfrm>
            <a:off x="755640" y="3284640"/>
            <a:ext cx="3002040" cy="3287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3" name="Picture 8" descr="mrktaandeel"/>
          <p:cNvPicPr/>
          <p:nvPr/>
        </p:nvPicPr>
        <p:blipFill>
          <a:blip r:embed="rId3"/>
          <a:stretch/>
        </p:blipFill>
        <p:spPr>
          <a:xfrm>
            <a:off x="4932360" y="3284640"/>
            <a:ext cx="3600360" cy="3300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4" name="Rectangle 9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 de winkel(s) legg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68360" y="2205000"/>
            <a:ext cx="8136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en in- en verkopen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reclame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uur personeel (administratie, marketeers en verkoper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ersoneelscursuss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Upgrade je winkel(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r winkels hur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werken om meer klanten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5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Run je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Terugkoppeling naar de deel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5280" y="2205000"/>
            <a:ext cx="73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middel va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glij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etentieprofiel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58920" y="4005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ompetentie"/>
          <p:cNvPicPr/>
          <p:nvPr/>
        </p:nvPicPr>
        <p:blipFill>
          <a:blip r:embed="rId2"/>
          <a:stretch/>
        </p:blipFill>
        <p:spPr>
          <a:xfrm>
            <a:off x="4643280" y="3357720"/>
            <a:ext cx="3672000" cy="30304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9" descr="ranking"/>
          <p:cNvPicPr/>
          <p:nvPr/>
        </p:nvPicPr>
        <p:blipFill>
          <a:blip r:embed="rId3"/>
          <a:stretch/>
        </p:blipFill>
        <p:spPr>
          <a:xfrm>
            <a:off x="684360" y="3357720"/>
            <a:ext cx="2157120" cy="3024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13:55Z</dcterms:created>
  <dc:creator>Traceros</dc:creator>
  <dc:description/>
  <dc:language>en-US</dc:language>
  <cp:lastModifiedBy>Brigitte Kok - Luttikholt</cp:lastModifiedBy>
  <dcterms:modified xsi:type="dcterms:W3CDTF">2016-10-13T13:06:44Z</dcterms:modified>
  <cp:revision>20</cp:revision>
  <dc:subject/>
  <dc:title>Dia 1</dc:title>
</cp:coreProperties>
</file>