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5.gif" ContentType="image/gi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16DF-2CE1-42DE-B4D0-8A00B2477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6AAE-4AD8-4BEA-866A-C6FBF37B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1FD9-54B8-41AB-A441-487ACDA6F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F70C-7A01-4D8A-A5C2-97938F6DD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C501-81FD-45BD-8E7E-9B9086D6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F8B1-CCD4-45E4-995C-9C405630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C491-5ED9-447F-B75D-3CF00CA1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8896-B941-49B2-8A25-C92FC15D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3E6B-D0CD-44E0-BB16-7FBA8AC1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41B7-9597-40AD-BD8E-292BAC76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EECB-AF93-42DE-87DC-412D3665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5ADF-0007-4D97-AD12-9F9112D6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2A1A-BC9B-4BFF-8E61-7EADAF0F67F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3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Hoofdblad_algeme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4920" y="1557000"/>
            <a:ext cx="8435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Speciaal voor docenten</a:t>
            </a:r>
            <a:r>
              <a:rPr b="1" lang="nl-NL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333399"/>
                </a:solidFill>
                <a:latin typeface="Arial"/>
              </a:rPr>
              <a:t>Een Plaza inrichten naar eigen wen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324000" y="1989000"/>
            <a:ext cx="84358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tal deelnemers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De duur van een Plaza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Keuze uit: de stad, soorten winkels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 en producttypes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De mogelijkheid om bepaalde spelelementen (tijdelijk) uit te zetten. 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Tempo bepalen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verzicht van de vorderingen en prestaties van de leerling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 (een activiteitenrapp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sec4"/>
          <p:cNvPicPr/>
          <p:nvPr/>
        </p:nvPicPr>
        <p:blipFill>
          <a:blip r:embed="rId2"/>
          <a:stretch/>
        </p:blipFill>
        <p:spPr>
          <a:xfrm>
            <a:off x="6948360" y="2708280"/>
            <a:ext cx="179100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oofdblad_plaz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1557000"/>
            <a:ext cx="8435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Waarom Plaza Challenge School Editi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95280" y="2205000"/>
            <a:ext cx="84358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rengt economie dichterbij de belevingswereld van de leerlingen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pelend leren. 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Bevat kennis over economie en marktwerking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Het kan door de docent worden ingericht naar eigen wens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voorbla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edankt voor uw aandac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0" y="5877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Voor meer informat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oofdblad_plaza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1557000"/>
            <a:ext cx="8435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Wat is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Plaza Challen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95280" y="2205000"/>
            <a:ext cx="84358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economisch geori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teerd interactief spel (15.000 deelnemers)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pelenderwijs kennis maken met het runnen van een onderneming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24000" y="4797360"/>
            <a:ext cx="8435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Oorspro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179280" y="5516640"/>
            <a:ext cx="84362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 fontScale="4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395280" y="566100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opdracht van ABN-AMRO ontwikkeld ter stimulering van ondernemend gedrag bij jonge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5076720" y="3933720"/>
            <a:ext cx="367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808080"/>
                </a:solidFill>
                <a:latin typeface="Lucida Sans"/>
              </a:rPr>
              <a:t>Plaza = winkelcen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808080"/>
                </a:solidFill>
                <a:latin typeface="Lucida Sans"/>
              </a:rPr>
              <a:t>Deelnemer = onderne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oofdblad_plaza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4920" y="1557000"/>
            <a:ext cx="8435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Doelen van het s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395280" y="2565360"/>
            <a:ext cx="843588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rootste marktaandeel verkrijgen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Meest succesvolle ondernemer worden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amen zorgen voor een goed bezochte plaza, middels project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179280" y="5516640"/>
            <a:ext cx="84362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 fontScale="4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Hoofdblad_plaz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1052640"/>
            <a:ext cx="84358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333399"/>
                </a:solidFill>
                <a:latin typeface="Arial"/>
              </a:rPr>
              <a:t>Spelver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900000" y="1557360"/>
            <a:ext cx="84362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Stap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333399"/>
                </a:solidFill>
                <a:latin typeface="Arial"/>
              </a:rPr>
              <a:t>Leen een startkapitaal bij de bank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lening"/>
          <p:cNvPicPr/>
          <p:nvPr/>
        </p:nvPicPr>
        <p:blipFill>
          <a:blip r:embed="rId2"/>
          <a:stretch/>
        </p:blipFill>
        <p:spPr>
          <a:xfrm>
            <a:off x="1763640" y="2276640"/>
            <a:ext cx="5113440" cy="40273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Hoofdblad_plaz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1052640"/>
            <a:ext cx="84358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333399"/>
                </a:solidFill>
                <a:latin typeface="Arial"/>
              </a:rPr>
              <a:t>Spelver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826920" y="1557360"/>
            <a:ext cx="5915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Stap 2</a:t>
            </a:r>
            <a:r>
              <a:rPr b="0" lang="nl-N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333399"/>
                </a:solidFill>
                <a:latin typeface="Arial"/>
              </a:rPr>
              <a:t>Huur één of meerdere winkels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plattegrond"/>
          <p:cNvPicPr/>
          <p:nvPr/>
        </p:nvPicPr>
        <p:blipFill>
          <a:blip r:embed="rId2"/>
          <a:stretch/>
        </p:blipFill>
        <p:spPr>
          <a:xfrm>
            <a:off x="395280" y="2276640"/>
            <a:ext cx="2376360" cy="15969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62" name="Picture 9" descr="plattegrond2"/>
          <p:cNvPicPr/>
          <p:nvPr/>
        </p:nvPicPr>
        <p:blipFill>
          <a:blip r:embed="rId3"/>
          <a:stretch/>
        </p:blipFill>
        <p:spPr>
          <a:xfrm>
            <a:off x="395280" y="4076640"/>
            <a:ext cx="8424720" cy="20383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63" name="Rectangle 10"/>
          <p:cNvSpPr/>
          <p:nvPr/>
        </p:nvSpPr>
        <p:spPr>
          <a:xfrm>
            <a:off x="3203640" y="263700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ure of goedkopere winkel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Verschillende winkel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Hoofdblad_plaza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1052640"/>
            <a:ext cx="84358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333399"/>
                </a:solidFill>
                <a:latin typeface="Arial"/>
              </a:rPr>
              <a:t>Spelver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24000" y="1557360"/>
            <a:ext cx="84358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Stap 3 </a:t>
            </a:r>
            <a:r>
              <a:rPr b="0" lang="nl-NL" sz="2000" spc="-1" strike="noStrike">
                <a:solidFill>
                  <a:srgbClr val="333399"/>
                </a:solidFill>
                <a:latin typeface="Arial"/>
              </a:rPr>
              <a:t>Producten inkop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Bij de groothandel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Bij leveranc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inkopen"/>
          <p:cNvPicPr/>
          <p:nvPr/>
        </p:nvPicPr>
        <p:blipFill>
          <a:blip r:embed="rId2"/>
          <a:stretch/>
        </p:blipFill>
        <p:spPr>
          <a:xfrm>
            <a:off x="611280" y="2781360"/>
            <a:ext cx="5688000" cy="36925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68" name="Picture 8" descr="grafiek"/>
          <p:cNvPicPr/>
          <p:nvPr/>
        </p:nvPicPr>
        <p:blipFill>
          <a:blip r:embed="rId3"/>
          <a:stretch/>
        </p:blipFill>
        <p:spPr>
          <a:xfrm>
            <a:off x="5148360" y="2997360"/>
            <a:ext cx="3166920" cy="1600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grafiek2"/>
          <p:cNvPicPr/>
          <p:nvPr/>
        </p:nvPicPr>
        <p:blipFill>
          <a:blip r:embed="rId4"/>
          <a:stretch/>
        </p:blipFill>
        <p:spPr>
          <a:xfrm>
            <a:off x="5148360" y="4869000"/>
            <a:ext cx="31669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Hoofdblad_plaz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684360" y="2205000"/>
            <a:ext cx="8146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ijs bepalen                                    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Hoeveelheden bepa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schappenleggen"/>
          <p:cNvPicPr/>
          <p:nvPr/>
        </p:nvPicPr>
        <p:blipFill>
          <a:blip r:embed="rId2"/>
          <a:stretch/>
        </p:blipFill>
        <p:spPr>
          <a:xfrm>
            <a:off x="755640" y="3284640"/>
            <a:ext cx="3002040" cy="32875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73" name="Picture 8" descr="mrktaandeel"/>
          <p:cNvPicPr/>
          <p:nvPr/>
        </p:nvPicPr>
        <p:blipFill>
          <a:blip r:embed="rId3"/>
          <a:stretch/>
        </p:blipFill>
        <p:spPr>
          <a:xfrm>
            <a:off x="4932360" y="3284640"/>
            <a:ext cx="3600360" cy="33004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74" name="Rectangle 9"/>
          <p:cNvSpPr/>
          <p:nvPr/>
        </p:nvSpPr>
        <p:spPr>
          <a:xfrm>
            <a:off x="250920" y="1052640"/>
            <a:ext cx="84358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333399"/>
                </a:solidFill>
                <a:latin typeface="Arial"/>
              </a:rPr>
              <a:t>Spelver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900000" y="1557360"/>
            <a:ext cx="84362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Stap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4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333399"/>
                </a:solidFill>
                <a:latin typeface="Arial"/>
              </a:rPr>
              <a:t>Producten in de winkel(s) legg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Hoofdblad_plaz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7"/>
          <p:cNvSpPr/>
          <p:nvPr/>
        </p:nvSpPr>
        <p:spPr>
          <a:xfrm>
            <a:off x="468360" y="2205000"/>
            <a:ext cx="813600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ducten in- en verkopen.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ak reclame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Huur personeel (administratie, marketeers en verkopers)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Personeelscursussen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Upgrade je winkel(s)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Meer winkels huren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amenwerken om meer klanten te trekk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250920" y="1052640"/>
            <a:ext cx="84358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333399"/>
                </a:solidFill>
                <a:latin typeface="Arial"/>
              </a:rPr>
              <a:t>Spelver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324000" y="1557360"/>
            <a:ext cx="84358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Stap 5 </a:t>
            </a:r>
            <a:r>
              <a:rPr b="0" lang="nl-NL" sz="2000" spc="-1" strike="noStrike">
                <a:solidFill>
                  <a:srgbClr val="333399"/>
                </a:solidFill>
                <a:latin typeface="Arial"/>
              </a:rPr>
              <a:t>Run je bedrij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oofdblad_plaz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4920" y="1557000"/>
            <a:ext cx="8435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Terugkoppeling naar de deelne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395280" y="2205000"/>
            <a:ext cx="7354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oor middel van: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anglijst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etentieprofiel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1258920" y="4005360"/>
            <a:ext cx="648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competentie"/>
          <p:cNvPicPr/>
          <p:nvPr/>
        </p:nvPicPr>
        <p:blipFill>
          <a:blip r:embed="rId2"/>
          <a:stretch/>
        </p:blipFill>
        <p:spPr>
          <a:xfrm>
            <a:off x="4643280" y="3357720"/>
            <a:ext cx="3672000" cy="303048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pic>
        <p:nvPicPr>
          <p:cNvPr id="85" name="Picture 9" descr="ranking"/>
          <p:cNvPicPr/>
          <p:nvPr/>
        </p:nvPicPr>
        <p:blipFill>
          <a:blip r:embed="rId3"/>
          <a:stretch/>
        </p:blipFill>
        <p:spPr>
          <a:xfrm>
            <a:off x="684360" y="3357720"/>
            <a:ext cx="2157120" cy="302400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3:13:55Z</dcterms:created>
  <dc:creator>Traceros</dc:creator>
  <dc:description/>
  <dc:language>en-US</dc:language>
  <cp:lastModifiedBy>Brigitte Kok - Luttikholt</cp:lastModifiedBy>
  <dcterms:modified xsi:type="dcterms:W3CDTF">2016-10-13T13:06:44Z</dcterms:modified>
  <cp:revision>20</cp:revision>
  <dc:subject/>
  <dc:title>Dia 1</dc:title>
</cp:coreProperties>
</file>