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A44-9C03-4BD7-B8F0-0F3E2DD0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B9B-2F27-48FA-9785-A29024B6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C15-B956-40F5-BC79-380B40B2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9F1-270D-4462-AAC6-32A97B55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78A-FDC8-4EA0-8E5E-CCE2E57D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A75-96E7-4F9B-858B-BCD8CD62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9AA-B846-4922-BD2E-550B9912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C5F-41A6-4D0B-8253-EF19B761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74F-B706-409A-AA3A-FCAC3E9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C53-0C0A-4EE1-988F-F476EE98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466-2D9A-4014-805B-2ED1371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97A-0104-45E7-A224-2DB2BEE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8C7E-8F33-4587-981D-A1D4DF734F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Hoofdblad_algeme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peciaal voor docenten</a:t>
            </a:r>
            <a:r>
              <a:rPr b="1" lang="nl-N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Een Plaza inrichten naar eigen wen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989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tal deelnemer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duur van een Plaza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Keuze uit: de stad, soorten winkel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en producttyp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De mogelijkheid om bepaalde spelelementen (tijdelijk) uit te zett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empo bepal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zicht van de vorderingen en prestaties van de leerling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(een activiteitenra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sec4"/>
          <p:cNvPicPr/>
          <p:nvPr/>
        </p:nvPicPr>
        <p:blipFill>
          <a:blip r:embed="rId2"/>
          <a:stretch/>
        </p:blipFill>
        <p:spPr>
          <a:xfrm>
            <a:off x="6948360" y="2708280"/>
            <a:ext cx="17910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arom Plaza Challenge School Edi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5280" y="220500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engt economie dichterbij de belevingswereld van de leerling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 leren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vat kennis over economie en marktwerki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et kan door de docent worden ingericht naar eigen wens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voorbl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edankt voor uw aandach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oor meer informat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Wat i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laza Challe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95280" y="2205000"/>
            <a:ext cx="8435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economisch geor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eerd interactief spel (15.000 deelnemers)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elenderwijs kennis maken met het runnen van een ondernem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24000" y="4797360"/>
            <a:ext cx="843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Oorspr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95280" y="5661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opdracht van ABN-AMRO ontwikkeld ter stimulering van ondernemend gedrag bij jong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5076720" y="393372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Plaza = winkelcen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8080"/>
                </a:solidFill>
                <a:latin typeface="Lucida Sans"/>
              </a:rPr>
              <a:t>Deelnemer = ondern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Doelen van het 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5280" y="2565360"/>
            <a:ext cx="84358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otste marktaandeel verkrijg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st succesvolle ondernemer word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 zorgen voor een goed bezochte plaza, middels project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79280" y="5516640"/>
            <a:ext cx="843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Leen een startkapitaal bij de ban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lening"/>
          <p:cNvPicPr/>
          <p:nvPr/>
        </p:nvPicPr>
        <p:blipFill>
          <a:blip r:embed="rId2"/>
          <a:stretch/>
        </p:blipFill>
        <p:spPr>
          <a:xfrm>
            <a:off x="1763640" y="2276640"/>
            <a:ext cx="5113440" cy="4027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826920" y="1557360"/>
            <a:ext cx="5915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2</a:t>
            </a: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Huur één of meerdere winkel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lattegrond"/>
          <p:cNvPicPr/>
          <p:nvPr/>
        </p:nvPicPr>
        <p:blipFill>
          <a:blip r:embed="rId2"/>
          <a:stretch/>
        </p:blipFill>
        <p:spPr>
          <a:xfrm>
            <a:off x="395280" y="2276640"/>
            <a:ext cx="2376360" cy="1596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2" name="Picture 9" descr="plattegrond2"/>
          <p:cNvPicPr/>
          <p:nvPr/>
        </p:nvPicPr>
        <p:blipFill>
          <a:blip r:embed="rId3"/>
          <a:stretch/>
        </p:blipFill>
        <p:spPr>
          <a:xfrm>
            <a:off x="395280" y="4076640"/>
            <a:ext cx="8424720" cy="2038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0"/>
          <p:cNvSpPr/>
          <p:nvPr/>
        </p:nvSpPr>
        <p:spPr>
          <a:xfrm>
            <a:off x="3203640" y="263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re of goedkopere winkel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Verschillende winkel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oofdblad_plaza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3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kop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de groothandel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ij leveranc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inkopen"/>
          <p:cNvPicPr/>
          <p:nvPr/>
        </p:nvPicPr>
        <p:blipFill>
          <a:blip r:embed="rId2"/>
          <a:stretch/>
        </p:blipFill>
        <p:spPr>
          <a:xfrm>
            <a:off x="611280" y="2781360"/>
            <a:ext cx="5688000" cy="3692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8" descr="grafiek"/>
          <p:cNvPicPr/>
          <p:nvPr/>
        </p:nvPicPr>
        <p:blipFill>
          <a:blip r:embed="rId3"/>
          <a:stretch/>
        </p:blipFill>
        <p:spPr>
          <a:xfrm>
            <a:off x="5148360" y="2997360"/>
            <a:ext cx="3166920" cy="160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grafiek2"/>
          <p:cNvPicPr/>
          <p:nvPr/>
        </p:nvPicPr>
        <p:blipFill>
          <a:blip r:embed="rId4"/>
          <a:stretch/>
        </p:blipFill>
        <p:spPr>
          <a:xfrm>
            <a:off x="5148360" y="4869000"/>
            <a:ext cx="3166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84360" y="2205000"/>
            <a:ext cx="8146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ijs bepalen                                   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eveelheden bepa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happenleggen"/>
          <p:cNvPicPr/>
          <p:nvPr/>
        </p:nvPicPr>
        <p:blipFill>
          <a:blip r:embed="rId2"/>
          <a:stretch/>
        </p:blipFill>
        <p:spPr>
          <a:xfrm>
            <a:off x="755640" y="3284640"/>
            <a:ext cx="3002040" cy="3287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3" name="Picture 8" descr="mrktaandeel"/>
          <p:cNvPicPr/>
          <p:nvPr/>
        </p:nvPicPr>
        <p:blipFill>
          <a:blip r:embed="rId3"/>
          <a:stretch/>
        </p:blipFill>
        <p:spPr>
          <a:xfrm>
            <a:off x="4932360" y="3284640"/>
            <a:ext cx="3600360" cy="3300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4" name="Rectangle 9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900000" y="1557360"/>
            <a:ext cx="8436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Producten in de winkel(s) legg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68360" y="2205000"/>
            <a:ext cx="8136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ducten in- en verkopen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reclame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uur personeel (administratie, marketeers en verkoper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ersoneelscursuss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Upgrade je winkel(s)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Meer winkels hur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amenwerken om meer klanten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50920" y="1052640"/>
            <a:ext cx="84358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333399"/>
                </a:solidFill>
                <a:latin typeface="Arial"/>
              </a:rPr>
              <a:t>Spelver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24000" y="1557360"/>
            <a:ext cx="8435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Stap 5 </a:t>
            </a:r>
            <a:r>
              <a:rPr b="0" lang="nl-NL" sz="2000" spc="-1" strike="noStrike">
                <a:solidFill>
                  <a:srgbClr val="333399"/>
                </a:solidFill>
                <a:latin typeface="Arial"/>
              </a:rPr>
              <a:t>Run je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oofdblad_plaz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4358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Terugkoppeling naar de deel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395280" y="2205000"/>
            <a:ext cx="735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middel va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nglij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etentieprofiel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4005360"/>
            <a:ext cx="648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competentie"/>
          <p:cNvPicPr/>
          <p:nvPr/>
        </p:nvPicPr>
        <p:blipFill>
          <a:blip r:embed="rId2"/>
          <a:stretch/>
        </p:blipFill>
        <p:spPr>
          <a:xfrm>
            <a:off x="4643280" y="3357720"/>
            <a:ext cx="3672000" cy="30304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9" descr="ranking"/>
          <p:cNvPicPr/>
          <p:nvPr/>
        </p:nvPicPr>
        <p:blipFill>
          <a:blip r:embed="rId3"/>
          <a:stretch/>
        </p:blipFill>
        <p:spPr>
          <a:xfrm>
            <a:off x="684360" y="3357720"/>
            <a:ext cx="2157120" cy="3024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3:13:55Z</dcterms:created>
  <dc:creator>Traceros</dc:creator>
  <dc:description/>
  <dc:language>en-US</dc:language>
  <cp:lastModifiedBy>Brigitte Kok - Luttikholt</cp:lastModifiedBy>
  <dcterms:modified xsi:type="dcterms:W3CDTF">2016-10-13T13:06:44Z</dcterms:modified>
  <cp:revision>20</cp:revision>
  <dc:subject/>
  <dc:title>Dia 1</dc:title>
</cp:coreProperties>
</file>