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5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E997-274A-4F57-91F9-188182E13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DF4C-F4E1-4B71-85FC-47840475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25C2-2A13-40E6-BB8D-F0A1875B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A828-EBC5-4393-B96F-751DB778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7238-BC71-4767-B038-CF575E16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8AB9-5DEA-44CC-87DF-88796B15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8026-61EF-488A-9663-0CAAFE6C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D6F5-EC0B-4507-8449-C0585C1D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D763-6CE3-48A3-BA95-F53B25D7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DFB9-CDD3-4BB6-89C8-83CA1E47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AF74-6271-40D6-B098-14E77D40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5673-F135-4D53-9530-E9620927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C724-FD31-4DAF-97CB-4E51AFCA696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3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Hoofdblad_algeme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8435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peciaal voor docenten</a:t>
            </a:r>
            <a:r>
              <a:rPr b="1" lang="nl-NL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Een Plaza inrichten naar eigen wen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24000" y="1989000"/>
            <a:ext cx="84358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tal deelnemers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De duur van een Plaza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Keuze uit: de stad, soorten winkels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en producttypes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De mogelijkheid om bepaalde spelelementen (tijdelijk) uit te zetten. 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Tempo bepal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verzicht van de vorderingen en prestaties van de leerling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(een activiteitenrap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sec4"/>
          <p:cNvPicPr/>
          <p:nvPr/>
        </p:nvPicPr>
        <p:blipFill>
          <a:blip r:embed="rId2"/>
          <a:stretch/>
        </p:blipFill>
        <p:spPr>
          <a:xfrm>
            <a:off x="6948360" y="2708280"/>
            <a:ext cx="179100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8435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Waarom Plaza Challenge School Editi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95280" y="2205000"/>
            <a:ext cx="84358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engt economie dichterbij de belevingswereld van de leerlingen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pelend leren. 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evat kennis over economie en marktwerking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et kan door de docent worden ingericht naar eigen wens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voorbl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edankt voor uw aandac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0" y="5877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Voor meer informat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oofdblad_plaza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8435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Wat is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Plaza Challen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95280" y="2205000"/>
            <a:ext cx="84358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economisch geori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teerd interactief spel (15.000 deelnemers)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pelenderwijs kennis maken met het runnen van een onderneming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24000" y="4797360"/>
            <a:ext cx="8435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Oorspro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179280" y="5516640"/>
            <a:ext cx="84362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 fontScale="4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95280" y="5661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opdracht van ABN-AMRO ontwikkeld ter stimulering van ondernemend gedrag bij jonge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5076720" y="3933720"/>
            <a:ext cx="367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808080"/>
                </a:solidFill>
                <a:latin typeface="Lucida Sans"/>
              </a:rPr>
              <a:t>Plaza = winkelcen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808080"/>
                </a:solidFill>
                <a:latin typeface="Lucida Sans"/>
              </a:rPr>
              <a:t>Deelnemer = onderne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oofdblad_plaza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8435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Doelen van het s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95280" y="2565360"/>
            <a:ext cx="84358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otste marktaandeel verkrijgen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Meest succesvolle ondernemer worden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amen zorgen voor een goed bezochte plaza, middels project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79280" y="5516640"/>
            <a:ext cx="84362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 fontScale="4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1052640"/>
            <a:ext cx="84358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333399"/>
                </a:solidFill>
                <a:latin typeface="Arial"/>
              </a:rPr>
              <a:t>Spelver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900000" y="1557360"/>
            <a:ext cx="84362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ta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Leen een startkapitaal bij de bank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lening"/>
          <p:cNvPicPr/>
          <p:nvPr/>
        </p:nvPicPr>
        <p:blipFill>
          <a:blip r:embed="rId2"/>
          <a:stretch/>
        </p:blipFill>
        <p:spPr>
          <a:xfrm>
            <a:off x="1763640" y="2276640"/>
            <a:ext cx="5113440" cy="4027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1052640"/>
            <a:ext cx="84358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333399"/>
                </a:solidFill>
                <a:latin typeface="Arial"/>
              </a:rPr>
              <a:t>Spelver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826920" y="1557360"/>
            <a:ext cx="5915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tap 2</a:t>
            </a:r>
            <a:r>
              <a:rPr b="0" lang="nl-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Huur één of meerdere winkels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plattegrond"/>
          <p:cNvPicPr/>
          <p:nvPr/>
        </p:nvPicPr>
        <p:blipFill>
          <a:blip r:embed="rId2"/>
          <a:stretch/>
        </p:blipFill>
        <p:spPr>
          <a:xfrm>
            <a:off x="395280" y="2276640"/>
            <a:ext cx="2376360" cy="15969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62" name="Picture 9" descr="plattegrond2"/>
          <p:cNvPicPr/>
          <p:nvPr/>
        </p:nvPicPr>
        <p:blipFill>
          <a:blip r:embed="rId3"/>
          <a:stretch/>
        </p:blipFill>
        <p:spPr>
          <a:xfrm>
            <a:off x="395280" y="4076640"/>
            <a:ext cx="8424720" cy="2038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63" name="Rectangle 10"/>
          <p:cNvSpPr/>
          <p:nvPr/>
        </p:nvSpPr>
        <p:spPr>
          <a:xfrm>
            <a:off x="3203640" y="263700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ure of goedkopere winkel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Verschillende winkel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Hoofdblad_plaza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1052640"/>
            <a:ext cx="84358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333399"/>
                </a:solidFill>
                <a:latin typeface="Arial"/>
              </a:rPr>
              <a:t>Spelver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24000" y="1557360"/>
            <a:ext cx="84358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tap 3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Producten inkop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ij de groothandel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ij leveranc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inkopen"/>
          <p:cNvPicPr/>
          <p:nvPr/>
        </p:nvPicPr>
        <p:blipFill>
          <a:blip r:embed="rId2"/>
          <a:stretch/>
        </p:blipFill>
        <p:spPr>
          <a:xfrm>
            <a:off x="611280" y="2781360"/>
            <a:ext cx="5688000" cy="36925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68" name="Picture 8" descr="grafiek"/>
          <p:cNvPicPr/>
          <p:nvPr/>
        </p:nvPicPr>
        <p:blipFill>
          <a:blip r:embed="rId3"/>
          <a:stretch/>
        </p:blipFill>
        <p:spPr>
          <a:xfrm>
            <a:off x="5148360" y="2997360"/>
            <a:ext cx="3166920" cy="1600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grafiek2"/>
          <p:cNvPicPr/>
          <p:nvPr/>
        </p:nvPicPr>
        <p:blipFill>
          <a:blip r:embed="rId4"/>
          <a:stretch/>
        </p:blipFill>
        <p:spPr>
          <a:xfrm>
            <a:off x="5148360" y="4869000"/>
            <a:ext cx="3166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684360" y="2205000"/>
            <a:ext cx="8146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ijs bepalen                                    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oeveelheden bepa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schappenleggen"/>
          <p:cNvPicPr/>
          <p:nvPr/>
        </p:nvPicPr>
        <p:blipFill>
          <a:blip r:embed="rId2"/>
          <a:stretch/>
        </p:blipFill>
        <p:spPr>
          <a:xfrm>
            <a:off x="755640" y="3284640"/>
            <a:ext cx="3002040" cy="32875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73" name="Picture 8" descr="mrktaandeel"/>
          <p:cNvPicPr/>
          <p:nvPr/>
        </p:nvPicPr>
        <p:blipFill>
          <a:blip r:embed="rId3"/>
          <a:stretch/>
        </p:blipFill>
        <p:spPr>
          <a:xfrm>
            <a:off x="4932360" y="3284640"/>
            <a:ext cx="3600360" cy="3300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74" name="Rectangle 9"/>
          <p:cNvSpPr/>
          <p:nvPr/>
        </p:nvSpPr>
        <p:spPr>
          <a:xfrm>
            <a:off x="250920" y="1052640"/>
            <a:ext cx="8435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333399"/>
                </a:solidFill>
                <a:latin typeface="Arial"/>
              </a:rPr>
              <a:t>Spelver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900000" y="1557360"/>
            <a:ext cx="84362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ta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4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Producten in de winkel(s) legg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7"/>
          <p:cNvSpPr/>
          <p:nvPr/>
        </p:nvSpPr>
        <p:spPr>
          <a:xfrm>
            <a:off x="468360" y="2205000"/>
            <a:ext cx="81360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ducten in- en verkopen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k reclame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uur personeel (administratie, marketeers en verkopers)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Personeelscursussen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Upgrade je winkel(s)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Meer winkels huren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amenwerken om meer klanten te trek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50920" y="1052640"/>
            <a:ext cx="8435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333399"/>
                </a:solidFill>
                <a:latin typeface="Arial"/>
              </a:rPr>
              <a:t>Spelver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324000" y="1557360"/>
            <a:ext cx="84358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tap 5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Run je bedrij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8435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Terugkoppeling naar de deelne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395280" y="2205000"/>
            <a:ext cx="735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or middel van: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anglijst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etentieprofiel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258920" y="4005360"/>
            <a:ext cx="648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competentie"/>
          <p:cNvPicPr/>
          <p:nvPr/>
        </p:nvPicPr>
        <p:blipFill>
          <a:blip r:embed="rId2"/>
          <a:stretch/>
        </p:blipFill>
        <p:spPr>
          <a:xfrm>
            <a:off x="4643280" y="3357720"/>
            <a:ext cx="3672000" cy="303048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pic>
        <p:nvPicPr>
          <p:cNvPr id="85" name="Picture 9" descr="ranking"/>
          <p:cNvPicPr/>
          <p:nvPr/>
        </p:nvPicPr>
        <p:blipFill>
          <a:blip r:embed="rId3"/>
          <a:stretch/>
        </p:blipFill>
        <p:spPr>
          <a:xfrm>
            <a:off x="684360" y="3357720"/>
            <a:ext cx="2157120" cy="30240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3:13:55Z</dcterms:created>
  <dc:creator>Traceros</dc:creator>
  <dc:description/>
  <dc:language>en-US</dc:language>
  <cp:lastModifiedBy>Brigitte Kok - Luttikholt</cp:lastModifiedBy>
  <dcterms:modified xsi:type="dcterms:W3CDTF">2016-10-13T13:06:44Z</dcterms:modified>
  <cp:revision>20</cp:revision>
  <dc:subject/>
  <dc:title>Dia 1</dc:title>
</cp:coreProperties>
</file>