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17A-F0D3-4BB9-9392-7C3ADCF7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F0C-A97D-4A36-9C83-916D8D9E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2D2-787E-4D14-B347-001D8373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7D7-F255-49A7-A540-75DEC4E9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881-9923-4CF6-861C-7906C533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E6CA-8D72-40B6-A66A-D8D8480A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074-4BF6-4468-ACCF-D6B18AD1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FBB-1229-4CC1-8632-884C1075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BA65-D497-4559-B4B3-B900822A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54F6-8F61-4A7E-8490-3E8D10C8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8D6-6D53-4E3B-BF31-9CABF5AE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F051-B045-4D2E-9945-E71C380F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57BD-4C09-472E-A37F-94EE2464501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Hoofdblad_algeme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peciaal voor docenten</a:t>
            </a:r>
            <a:r>
              <a:rPr b="1" lang="nl-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Een Plaza inrichten naar eigen wen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24000" y="198900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tal deelnemer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De duur van een Plaza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Keuze uit: de stad, soorten winkel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en producttype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De mogelijkheid om bepaalde spelelementen (tijdelijk) uit te zetten.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Tempo bepal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zicht van de vorderingen en prestaties van de leerling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(een activiteitenra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sec4"/>
          <p:cNvPicPr/>
          <p:nvPr/>
        </p:nvPicPr>
        <p:blipFill>
          <a:blip r:embed="rId2"/>
          <a:stretch/>
        </p:blipFill>
        <p:spPr>
          <a:xfrm>
            <a:off x="6948360" y="2708280"/>
            <a:ext cx="17910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Waarom Plaza Challenge School Edit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95280" y="220500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engt economie dichterbij de belevingswereld van de leerling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elend leren.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vat kennis over economie en marktwerking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et kan door de docent worden ingericht naar eigen wens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voorbl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dankt voor uw aandac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0" y="5877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oor meer informat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Wat i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Plaza Challe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95280" y="2205000"/>
            <a:ext cx="8435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economisch geori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teerd interactief spel (15.000 deelnemers)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elenderwijs kennis maken met het runnen van een ondernem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4797360"/>
            <a:ext cx="843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Oorspr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79280" y="5516640"/>
            <a:ext cx="8436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4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95280" y="5661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opdracht van ABN-AMRO ontwikkeld ter stimulering van ondernemend gedrag bij jong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5076720" y="3933720"/>
            <a:ext cx="36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808080"/>
                </a:solidFill>
                <a:latin typeface="Lucida Sans"/>
              </a:rPr>
              <a:t>Plaza = winkelcen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808080"/>
                </a:solidFill>
                <a:latin typeface="Lucida Sans"/>
              </a:rPr>
              <a:t>Deelnemer = ondern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Doelen van het s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5280" y="2565360"/>
            <a:ext cx="84358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otste marktaandeel verkrijg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Meest succesvolle ondernemer word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amen zorgen voor een goed bezochte plaza, middels project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79280" y="5516640"/>
            <a:ext cx="8436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4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00000" y="1557360"/>
            <a:ext cx="84362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Leen een startkapitaal bij de bank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lening"/>
          <p:cNvPicPr/>
          <p:nvPr/>
        </p:nvPicPr>
        <p:blipFill>
          <a:blip r:embed="rId2"/>
          <a:stretch/>
        </p:blipFill>
        <p:spPr>
          <a:xfrm>
            <a:off x="1763640" y="2276640"/>
            <a:ext cx="5113440" cy="4027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826920" y="1557360"/>
            <a:ext cx="5915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2</a:t>
            </a:r>
            <a:r>
              <a:rPr b="0" lang="nl-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Huur één of meerdere winkel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plattegrond"/>
          <p:cNvPicPr/>
          <p:nvPr/>
        </p:nvPicPr>
        <p:blipFill>
          <a:blip r:embed="rId2"/>
          <a:stretch/>
        </p:blipFill>
        <p:spPr>
          <a:xfrm>
            <a:off x="395280" y="2276640"/>
            <a:ext cx="2376360" cy="15969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2" name="Picture 9" descr="plattegrond2"/>
          <p:cNvPicPr/>
          <p:nvPr/>
        </p:nvPicPr>
        <p:blipFill>
          <a:blip r:embed="rId3"/>
          <a:stretch/>
        </p:blipFill>
        <p:spPr>
          <a:xfrm>
            <a:off x="395280" y="4076640"/>
            <a:ext cx="8424720" cy="2038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3" name="Rectangle 10"/>
          <p:cNvSpPr/>
          <p:nvPr/>
        </p:nvSpPr>
        <p:spPr>
          <a:xfrm>
            <a:off x="3203640" y="263700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re of goedkopere winkel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erschillende winkel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24000" y="155736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3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Producten inkop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ij de groothandel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ij lever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inkopen"/>
          <p:cNvPicPr/>
          <p:nvPr/>
        </p:nvPicPr>
        <p:blipFill>
          <a:blip r:embed="rId2"/>
          <a:stretch/>
        </p:blipFill>
        <p:spPr>
          <a:xfrm>
            <a:off x="611280" y="2781360"/>
            <a:ext cx="5688000" cy="3692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8" name="Picture 8" descr="grafiek"/>
          <p:cNvPicPr/>
          <p:nvPr/>
        </p:nvPicPr>
        <p:blipFill>
          <a:blip r:embed="rId3"/>
          <a:stretch/>
        </p:blipFill>
        <p:spPr>
          <a:xfrm>
            <a:off x="5148360" y="2997360"/>
            <a:ext cx="316692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grafiek2"/>
          <p:cNvPicPr/>
          <p:nvPr/>
        </p:nvPicPr>
        <p:blipFill>
          <a:blip r:embed="rId4"/>
          <a:stretch/>
        </p:blipFill>
        <p:spPr>
          <a:xfrm>
            <a:off x="5148360" y="4869000"/>
            <a:ext cx="3166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684360" y="2205000"/>
            <a:ext cx="8146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ijs bepalen                                   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eveelheden bep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chappenleggen"/>
          <p:cNvPicPr/>
          <p:nvPr/>
        </p:nvPicPr>
        <p:blipFill>
          <a:blip r:embed="rId2"/>
          <a:stretch/>
        </p:blipFill>
        <p:spPr>
          <a:xfrm>
            <a:off x="755640" y="3284640"/>
            <a:ext cx="3002040" cy="3287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73" name="Picture 8" descr="mrktaandeel"/>
          <p:cNvPicPr/>
          <p:nvPr/>
        </p:nvPicPr>
        <p:blipFill>
          <a:blip r:embed="rId3"/>
          <a:stretch/>
        </p:blipFill>
        <p:spPr>
          <a:xfrm>
            <a:off x="4932360" y="3284640"/>
            <a:ext cx="3600360" cy="3300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4" name="Rectangle 9"/>
          <p:cNvSpPr/>
          <p:nvPr/>
        </p:nvSpPr>
        <p:spPr>
          <a:xfrm>
            <a:off x="25092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900000" y="1557360"/>
            <a:ext cx="84362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Producten in de winkel(s) legg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468360" y="2205000"/>
            <a:ext cx="81360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ducten in- en verkopen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k reclame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uur personeel (administratie, marketeers en verkopers)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Personeelscursuss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Upgrade je winkel(s)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Meer winkels hur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amenwerken om meer klanten te trek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5092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24000" y="155736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5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Run je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Terugkoppeling naar de deel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95280" y="2205000"/>
            <a:ext cx="735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 middel van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nglijst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etentieprofiel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258920" y="400536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competentie"/>
          <p:cNvPicPr/>
          <p:nvPr/>
        </p:nvPicPr>
        <p:blipFill>
          <a:blip r:embed="rId2"/>
          <a:stretch/>
        </p:blipFill>
        <p:spPr>
          <a:xfrm>
            <a:off x="4643280" y="3357720"/>
            <a:ext cx="3672000" cy="303048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5" name="Picture 9" descr="ranking"/>
          <p:cNvPicPr/>
          <p:nvPr/>
        </p:nvPicPr>
        <p:blipFill>
          <a:blip r:embed="rId3"/>
          <a:stretch/>
        </p:blipFill>
        <p:spPr>
          <a:xfrm>
            <a:off x="684360" y="3357720"/>
            <a:ext cx="2157120" cy="3024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3:13:55Z</dcterms:created>
  <dc:creator>Traceros</dc:creator>
  <dc:description/>
  <dc:language>en-US</dc:language>
  <cp:lastModifiedBy>Brigitte Kok - Luttikholt</cp:lastModifiedBy>
  <dcterms:modified xsi:type="dcterms:W3CDTF">2016-10-13T13:06:44Z</dcterms:modified>
  <cp:revision>20</cp:revision>
  <dc:subject/>
  <dc:title>Dia 1</dc:title>
</cp:coreProperties>
</file>