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8B7-58F8-45E9-B889-F4C045D3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C0A-6469-4A3F-8273-719B4D1D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6D3-09AC-42F1-926A-BECCEA89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189-8A52-4F5D-9F1A-24A3A1FD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3303E-129D-4317-85C6-6E65B5E5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9FAB3-3336-4165-AD03-5F989999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68C9C-02D8-47C3-AE07-C15F5C48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6526E-2F81-4816-A1FD-69A1A5E4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535DA-33DF-4572-8D3F-8F47320D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4ECA9-B238-4315-8F8B-35FE0519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466AA-FF97-4329-8AB6-A2F7DA15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EBD-EBCE-4CFC-BC3C-3FF2132A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7D1DA-C5C1-4EFD-B396-14C610F7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4A61E-0CE7-42D6-9637-27396895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48B6F-A932-4DA6-B324-42622854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5FC1B-213C-4333-9463-3AF96A9A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A8A40-6394-43D0-A58D-B8C3BBD6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7616A-21B7-49CE-8D23-47049603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8E96C-1F19-4770-AEEE-B856BE2F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41CB3-872C-43BA-868F-AB627057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1C65B-DC36-406C-8BB3-59A98616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C0AB9-5365-48EC-A419-B37CF8F9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2DF-8607-4E5C-92CF-8EE965C2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153F9-A6F4-4148-B76C-C04BFFB3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C8A5D-B616-4E1D-AC3C-38CF0F36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222E9-A289-470C-9A33-C08C399B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02C03-7E2C-4B56-88A0-1D9425A5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6B993-0A5A-47BB-B817-66879089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67EA6-5DA5-440E-928C-3792C3EA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72F20-19E8-42E5-87D1-96E1087B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F4B6-CD57-40DB-897D-2FB78E0D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3CAD1-8BAE-49BF-955C-5820B36C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5B9F0-FA49-4ED6-9DB5-52B50F08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036-BF02-4AA6-8072-D7DF47F0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34347-4D6B-49F8-8A66-ACDEC78C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5A7AC-460A-4FD0-BFCD-E4D09DA5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B8D67-DD18-4A27-9CEA-0B5DE86A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6E0A9-6F30-469B-9827-A1995287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40A92-B5A1-469E-B90F-4516F5C8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494F-C779-425D-B764-F4C802DA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BD2DA-EFF5-48F6-9F6D-D1B61747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7FD06-DB87-4520-A5B6-305E626C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16E2-0CFE-4D36-92E3-FB5208C0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FFFB2-6D04-4929-A297-52533C4E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E63-2631-444C-AC4D-6FED1531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2EBBA-4F46-44E9-927B-9641FBC7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5682B-7440-49D5-8CC9-7617A80C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1BB90-1D72-4CD6-9F8D-D2BE4811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AA63-E1FA-4E85-89D0-5B2D6F41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FB638-97CD-4A70-B0FC-FA94807A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19A08-421C-4C88-A5A6-E019E683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7E2D5-716D-439C-9CF4-1F77D064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D87FA-82B2-44A0-8693-E97BFC82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945F3-4A0C-44F6-B046-7624C362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15219-5138-4165-BA21-05203748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1D5-5C27-4E0D-89FC-873C5776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716EA-BDBE-49F8-B8AB-4A083CD6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8C7D6-2D7A-4687-8C6D-18829A46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E95B0-4659-497C-867C-E2E7FAF9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7FD98-33AE-4632-ACC9-59775636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58265-B9C2-47AE-BAB2-F4DFD08F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C89FE-E783-473B-A704-EE94D686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009A0-2E9D-43BB-B7BB-82DC3D22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2387B-44AA-4DA0-AEE8-AAE0F111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EFBAE-8816-4117-BDF0-19F0E746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02774-666A-4B93-8067-F15FA754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1E8-CA7D-4840-84F2-392EA81F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DC779-2F8F-4457-B2E4-8CC3AE9F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7A3C0-F7BB-47C1-9FCE-6DFF9F54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C7029-8C6A-49BF-A2F1-4219461D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B3759-0B82-48DC-8A57-DACCEC70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3B2A8-939E-4D71-B2E4-E76DA2FC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CC54E-26A4-4662-8738-76E90E63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4F160-087C-4532-9384-CDC288F7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EA9DD-885B-4E0C-B1CF-C3DBB518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AE291-7381-4240-B5F1-56BC660F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B7282-458F-4009-A918-53C5A369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EC0-A783-4F4D-9F2D-F112F655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DE7A9-69FA-453B-847F-C5D4611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F96CB-0D04-4A6D-AB32-D80FC8CB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9126F-A9EE-4B7E-88EA-E8272BE2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A6371-10EB-4B15-A37D-F868FC92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D1337-4B5C-4BFF-BCAE-62E22853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742-F460-493B-85D9-9F7E48A6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E3CF-D13E-4912-87EF-5B63B2C019C1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ECC3-15EF-435E-A5D6-90D2BB0D5A1B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8062-D630-4082-8CBC-2F768B34B4C0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010D-25D1-4AA8-AD0B-09FD8837ADA9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CF18-D117-4261-B52E-D4DD6E3CD3BC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B130-AD9B-4C15-9372-5B910FBE965D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3C69-2076-41BE-A0C8-2BF2AFE7E5D2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_tfic_F_04g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oTaOhGD-OQ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College anatomie/fysiologie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Basisjaar V&amp;V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2" name="Rectangle 24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INDE VLEK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36" name="Picture 4" descr="blinde vlek"/>
          <p:cNvPicPr/>
          <p:nvPr/>
        </p:nvPicPr>
        <p:blipFill>
          <a:blip r:embed="rId1"/>
          <a:stretch/>
        </p:blipFill>
        <p:spPr>
          <a:xfrm>
            <a:off x="685800" y="2209680"/>
            <a:ext cx="4038480" cy="3713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AnatomieOog"/>
          <p:cNvPicPr/>
          <p:nvPr/>
        </p:nvPicPr>
        <p:blipFill>
          <a:blip r:embed="rId2"/>
          <a:stretch/>
        </p:blipFill>
        <p:spPr>
          <a:xfrm>
            <a:off x="4267080" y="2666880"/>
            <a:ext cx="44020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de opening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 zich groter en kleiner maken dmv lengtespiertjes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roter bij minder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leiner bij veel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een reflex (is dus een onwillekeurige spier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zich platter of boller mak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latter voor veraf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oller voor dichtbij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ACHTER DE PUPIL ZIT DE 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44" name="Picture 4" descr="AnatomieOog"/>
          <p:cNvPicPr/>
          <p:nvPr/>
        </p:nvPicPr>
        <p:blipFill>
          <a:blip r:embed="rId1"/>
          <a:stretch/>
        </p:blipFill>
        <p:spPr>
          <a:xfrm>
            <a:off x="4572000" y="3048120"/>
            <a:ext cx="4572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af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Platt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niet veel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ichtbij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oll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meer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ond de ooglens zit  een kringspier die de lens boller of platter kan maken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ij het ouder worden gaat dat steeds moeilijker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emedie: Leesbril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leden-bescherm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spieren(6)-zorgen voor beweging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aanklier-bacteriedodend/bevochtig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enkbrauwen-opvangen stof en 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ULPORGANEN VAN 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9900"/>
                </a:solidFill>
                <a:uFillTx/>
                <a:latin typeface="Franklin Gothic Medium"/>
                <a:hlinkClick r:id="rId1"/>
              </a:rPr>
              <a:t>https://www.youtube.com/watch?v=_tfic_F_04g</a:t>
            </a: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FILMPJ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itte staar is een afwijking van de lens.Het is een vertroebelde 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Is te verhel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ITTE /GRIJZ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57" name="Picture 4" descr="staar"/>
          <p:cNvPicPr/>
          <p:nvPr/>
        </p:nvPicPr>
        <p:blipFill>
          <a:blip r:embed="rId1"/>
          <a:stretch/>
        </p:blipFill>
        <p:spPr>
          <a:xfrm>
            <a:off x="2743200" y="3581280"/>
            <a:ext cx="51166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eveel oogkamer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te hoge druk op het 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slechter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leiden tot blindhe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emedie:toedienen van oogdruppels waardoor de druk afneemt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GROENE STAAR/GLAUCOOM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ROEN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64" name="Picture 1028" descr="glaucoom"/>
          <p:cNvPicPr/>
          <p:nvPr/>
        </p:nvPicPr>
        <p:blipFill>
          <a:blip r:embed="rId1"/>
          <a:stretch/>
        </p:blipFill>
        <p:spPr>
          <a:xfrm>
            <a:off x="2133720" y="1676520"/>
            <a:ext cx="4724280" cy="39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 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opv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Midd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geleid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inn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verwer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7" name="Picture 4" descr="zintuigen"/>
          <p:cNvPicPr/>
          <p:nvPr/>
        </p:nvPicPr>
        <p:blipFill>
          <a:blip r:embed="rId1"/>
          <a:stretch/>
        </p:blipFill>
        <p:spPr>
          <a:xfrm>
            <a:off x="2286000" y="2514600"/>
            <a:ext cx="46292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uidsgolv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Zijn schommelingen in de luchtdruk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Hebben een snelheid van 330 m/sec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Gaan in alle richting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ADEQUATE PRIKKEL VOOR HET GEHOORORGAAN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4" name="Picture 4" descr="oor1"/>
          <p:cNvPicPr/>
          <p:nvPr/>
        </p:nvPicPr>
        <p:blipFill>
          <a:blip r:embed="rId1"/>
          <a:stretch/>
        </p:blipFill>
        <p:spPr>
          <a:xfrm>
            <a:off x="1905120" y="2057400"/>
            <a:ext cx="51814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8" name="Picture 4" descr="oor"/>
          <p:cNvPicPr/>
          <p:nvPr/>
        </p:nvPicPr>
        <p:blipFill>
          <a:blip r:embed="rId1"/>
          <a:stretch/>
        </p:blipFill>
        <p:spPr>
          <a:xfrm>
            <a:off x="971640" y="1700280"/>
            <a:ext cx="72723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rschelp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e gehoorg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2.5 cm la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ommel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De hamer (het eerste middenoorbeentje) zit aan het trommelvlies vas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0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UITWENDIG 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Middenoorbeen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Ham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ambeel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Stijgbeugel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Brengen de geluidsgolven over van het trommelvlies op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sterken het geluid 20 x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MIDDEN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rmt de verbinding tussen het middenoor en de keel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ornaamste taak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uchtdruk aan weerszijden van het trommelvlies gelijk mak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s op middenoorontste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jdelijke aanduiding voor inhoud 4" descr="buis van.jpg"/>
          <p:cNvPicPr/>
          <p:nvPr/>
        </p:nvPicPr>
        <p:blipFill>
          <a:blip r:embed="rId1"/>
          <a:stretch/>
        </p:blipFill>
        <p:spPr>
          <a:xfrm>
            <a:off x="2308320" y="2236680"/>
            <a:ext cx="4552920" cy="3372120"/>
          </a:xfrm>
          <a:prstGeom prst="rect">
            <a:avLst/>
          </a:prstGeom>
          <a:ln w="0">
            <a:noFill/>
          </a:ln>
        </p:spPr>
      </p:pic>
      <p:sp>
        <p:nvSpPr>
          <p:cNvPr id="38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lakkenhuis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Omzetting van geluidsgolven in elektrische impulsen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 + voorh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Rotatiezintuig en evenwichtsorgaa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INNENOOR/LABYRI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mzetting van geluidsgolven in zenuwimpuls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tijgbeugel grenst a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t ovale venster is het begin van het slakkenhu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0" name="Picture 4" descr="slakkenhuis"/>
          <p:cNvPicPr/>
          <p:nvPr/>
        </p:nvPicPr>
        <p:blipFill>
          <a:blip r:embed="rId1"/>
          <a:stretch/>
        </p:blipFill>
        <p:spPr>
          <a:xfrm>
            <a:off x="1619280" y="1844640"/>
            <a:ext cx="603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lgemeen: Zorgen voor contact met de buitenwerel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Factoren die een rol hierbij spel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is slechts gevoelig voor bepaalde prikkel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kan niet alles waarnem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Je kunt de aandacht van de zintuigen stur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Bij uitval nemen andere zintuigen taken gedeeltelijk ov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TAAK VAN DE 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0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pgerolde buis gevuld met vloeist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eze vloeistof beweegt door de bewegingen v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het slakkenhuis zitten zintuigcellen, die bewegingen van de vloeistof omzetten in elektrische impuls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ia de gehoorzenuw gaan deze impulsen naar de hersen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2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WERKING 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4" name="Rechthoek 1"/>
          <p:cNvSpPr/>
          <p:nvPr/>
        </p:nvSpPr>
        <p:spPr>
          <a:xfrm>
            <a:off x="270036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s://www.youtube.com/watch?v=ioTaOhGD-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hof=evenwichts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=rotatie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Medium"/>
              </a:rPr>
              <a:t>EVENWICHTSORGAAN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8" name="Picture 4" descr="evenwichtsorgaan"/>
          <p:cNvPicPr/>
          <p:nvPr/>
        </p:nvPicPr>
        <p:blipFill>
          <a:blip r:embed="rId1"/>
          <a:stretch/>
        </p:blipFill>
        <p:spPr>
          <a:xfrm>
            <a:off x="762120" y="3429000"/>
            <a:ext cx="3276360" cy="2978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evenwicht"/>
          <p:cNvPicPr/>
          <p:nvPr/>
        </p:nvPicPr>
        <p:blipFill>
          <a:blip r:embed="rId2"/>
          <a:stretch/>
        </p:blipFill>
        <p:spPr>
          <a:xfrm>
            <a:off x="5486400" y="3505320"/>
            <a:ext cx="24382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roen=zoe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aars=zuu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lauw=zou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ood=bit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3" name="Picture 4" descr="tong"/>
          <p:cNvPicPr/>
          <p:nvPr/>
        </p:nvPicPr>
        <p:blipFill>
          <a:blip r:embed="rId1"/>
          <a:stretch/>
        </p:blipFill>
        <p:spPr>
          <a:xfrm>
            <a:off x="5105520" y="1905120"/>
            <a:ext cx="33652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7" name="Picture 4" descr="neus2"/>
          <p:cNvPicPr/>
          <p:nvPr/>
        </p:nvPicPr>
        <p:blipFill>
          <a:blip r:embed="rId1"/>
          <a:stretch/>
        </p:blipFill>
        <p:spPr>
          <a:xfrm>
            <a:off x="1905120" y="1981080"/>
            <a:ext cx="495288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alleen maar via de neus in het reukslijmvlies.Dit ligt boven in linker en rechter neus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svormige stoff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Neus is erg gevoel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reacties oproe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rak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roductie speeksel of maagsap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/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4" name="Picture 4" descr="neusmond zintuig"/>
          <p:cNvPicPr/>
          <p:nvPr/>
        </p:nvPicPr>
        <p:blipFill>
          <a:blip r:embed="rId1"/>
          <a:stretch/>
        </p:blipFill>
        <p:spPr>
          <a:xfrm>
            <a:off x="1143000" y="1981080"/>
            <a:ext cx="6858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Zie lessen verplaatsingstechnieken en college Hu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AS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Lens minder elastisch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Arcus senilis=afzetting van cholesterol in het hoornvlie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Degeneratie van het netvlies= afname van kegeltjes op de gele vlek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Groen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Witte /grijz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OUDERDOMSVERSCHIJNSELEN VAN HET OOGZINTUIG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eid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orsmeerprop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aatjes in het trommelvli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fwijking van de gehoorbeentj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Middenoorontsteki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Pus in het middenoor.Geeft druk op het trommelvlies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Waarnem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uderdomsslechthorend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in het slakkenhuis gaan in functie achteruit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zenuw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centrum hersenen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waai doof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zijn onherstelbaar beschadigd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eenmalig(ontploffing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langdurig(harde muziek of werklawaai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arde 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aa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og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ulporganen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evenwichts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ngere gewenning na veranderen van positie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reuk en smaak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waliteitsverlies van het lev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an gevaarlijk zijn(reukverlies)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UDERDOMSVERSCHIJNSEL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7" name="Picture 1028" descr="AnatomieOog"/>
          <p:cNvPicPr/>
          <p:nvPr/>
        </p:nvPicPr>
        <p:blipFill>
          <a:blip r:embed="rId1"/>
          <a:stretch/>
        </p:blipFill>
        <p:spPr>
          <a:xfrm>
            <a:off x="1676520" y="1905120"/>
            <a:ext cx="63658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Wit en hard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Voorkant is het hoornvlies/doorzichti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eft stevigheid en beschermin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ARDE OOG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1" name="Picture 4" descr="AnatomieOog"/>
          <p:cNvPicPr/>
          <p:nvPr/>
        </p:nvPicPr>
        <p:blipFill>
          <a:blip r:embed="rId1"/>
          <a:stretch/>
        </p:blipFill>
        <p:spPr>
          <a:xfrm>
            <a:off x="3962520" y="3882960"/>
            <a:ext cx="35812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ziet het oog van bloe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eel bloedvat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kant is iris/regenb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t in iris=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3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VAA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5" name="Picture 4" descr="AnatomieOog"/>
          <p:cNvPicPr/>
          <p:nvPr/>
        </p:nvPicPr>
        <p:blipFill>
          <a:blip r:embed="rId1"/>
          <a:stretch/>
        </p:blipFill>
        <p:spPr>
          <a:xfrm>
            <a:off x="4038480" y="3657600"/>
            <a:ext cx="37162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de iris zitten kleurstoffen. Deze geven de kleur aan je iris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Een albino heeft deze kleurstoffen niet. Dus een ro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7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RIS EN 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9" name="Picture 4" descr="iris"/>
          <p:cNvPicPr/>
          <p:nvPr/>
        </p:nvPicPr>
        <p:blipFill>
          <a:blip r:embed="rId1"/>
          <a:stretch/>
        </p:blipFill>
        <p:spPr>
          <a:xfrm>
            <a:off x="5219640" y="3933720"/>
            <a:ext cx="289584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le dunne laag ( ong 0,2 mm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125 miljoen staaf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zwart/wit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7 miljoen kegel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kleu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le vlek is meest lichtgevoelige plek met alleen kegeltje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linde vlek is de plek waar de </a:t>
            </a:r>
            <a:r>
              <a:rPr b="0" lang="en-US" sz="1800" spc="-1" strike="noStrike">
                <a:solidFill>
                  <a:srgbClr val="ff0000"/>
                </a:solidFill>
                <a:latin typeface="Franklin Gothic Medium"/>
              </a:rPr>
              <a:t>oogzenuw 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het oog verlaat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NE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8:11:34Z</dcterms:created>
  <dc:creator>BugelJ</dc:creator>
  <dc:description/>
  <dc:language>en-US</dc:language>
  <cp:lastModifiedBy>J.W.P. Bugel</cp:lastModifiedBy>
  <dcterms:modified xsi:type="dcterms:W3CDTF">2016-02-24T10:35:46Z</dcterms:modified>
  <cp:revision>25</cp:revision>
  <dc:subject/>
  <dc:title>Zintuigen</dc:title>
</cp:coreProperties>
</file>