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20.png" ContentType="image/png"/>
  <Override PartName="/ppt/media/image19.jpeg" ContentType="image/jpeg"/>
  <Override PartName="/ppt/media/image1.jpeg" ContentType="image/jpeg"/>
  <Override PartName="/ppt/media/image10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A85D6-F59B-4F32-998F-05E55E608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E8A58-F01F-4CF5-95C9-AD83B4ECC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E5E4B-5A1E-4180-BE16-8925CBD9B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8128C-A1B9-4BF2-A2C1-A414006C0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02B98-9139-4E48-B15B-20C15B79F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E008B-E4A7-469C-AAD0-E8C951A2B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BB75E-0353-401B-B734-789A96D74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EF83F-DE2D-4210-B847-747C01795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03475-FF9D-48DB-B93F-623747ED5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C4365-3639-42C9-BD78-FDE31732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07F45-DD79-48AA-B5A7-30E30E3F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62712-5CEA-4662-B68A-D083F9B8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30FE3-7F94-4902-884A-0CBC745AE2A1}" type="slidenum">
              <a:rPr b="0" lang="nl-N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fdcb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fdcb7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600" spc="-1" strike="noStrike">
                <a:solidFill>
                  <a:srgbClr val="675e47"/>
                </a:solidFill>
                <a:latin typeface="Cambria"/>
              </a:rPr>
              <a:t>Het bewegingsapparaat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6461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8e8d8c"/>
                </a:solidFill>
                <a:latin typeface="Calibri"/>
              </a:rPr>
              <a:t>Botten,gewrichten,banden en spieren werken samen om beweging mogelijk te mak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5" name="Rectangle 10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Soorten bott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Pijpbeender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vb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Platte beender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Vb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Korte beender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Vb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nregelmatige beender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Vb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5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botverbinding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Gewrich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vb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Kraakbe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Vb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Bindweefs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Vb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Naa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Vb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Vez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vb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8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8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gewricht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Scharnier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Kogel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Zadel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Ei/elipsvormig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Rol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81" name="Picture 4" descr="gewricht"/>
          <p:cNvPicPr/>
          <p:nvPr/>
        </p:nvPicPr>
        <p:blipFill>
          <a:blip r:embed="rId1"/>
          <a:stretch/>
        </p:blipFill>
        <p:spPr>
          <a:xfrm>
            <a:off x="4211640" y="2341440"/>
            <a:ext cx="4464000" cy="3386160"/>
          </a:xfrm>
          <a:prstGeom prst="rect">
            <a:avLst/>
          </a:prstGeom>
          <a:ln w="0">
            <a:noFill/>
          </a:ln>
        </p:spPr>
      </p:pic>
      <p:sp>
        <p:nvSpPr>
          <p:cNvPr id="82" name="Tijdelijke aanduiding voor voettekst 5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98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898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898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898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98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898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Bouw gewrich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84" name="Picture 4" descr="knie1"/>
          <p:cNvPicPr/>
          <p:nvPr/>
        </p:nvPicPr>
        <p:blipFill>
          <a:blip r:embed="rId1"/>
          <a:stretch/>
        </p:blipFill>
        <p:spPr>
          <a:xfrm>
            <a:off x="1908000" y="1809720"/>
            <a:ext cx="5185080" cy="4226040"/>
          </a:xfrm>
          <a:prstGeom prst="rect">
            <a:avLst/>
          </a:prstGeom>
          <a:ln w="0">
            <a:noFill/>
          </a:ln>
        </p:spPr>
      </p:pic>
      <p:sp>
        <p:nvSpPr>
          <p:cNvPr id="85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Onderdelen van het gewrich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Gewrichtssplee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Gewrichtskaps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ynoviaalvlie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Gewrichtsband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Hyalien kraakbe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kraakbeenschijf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8" name="Tijdelijke aanduiding voor voettekst 3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fdcb7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Gewrichtssplee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Is de smalle ruimte tussen de kop en de kom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Gewrichtssmeer  ( is smerende vloeistof 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Gewrichtskapsel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Omhulsel van straf bindweefsel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Omsluit de gewrichtsholte en houdt beide botdelen bij elkaar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ynoviaal vlie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Is de binnenbekleding van het gewrichtskapsel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1" name="Tijdelijke aanduiding voor voettekst 3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fdcb7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Gewrichtsbanden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Niet elastisch bindweefsel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Zorgen voor extra stevigheid van het gewricht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Hyalien kraakbe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Hier zijn de botuiteinden mee bedekt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Erg glad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Kraakbeenschijf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Zorgen er voor dat de gewrichtsvlakken beter op elkaar passen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Bv de meniscus in de knie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4" name="Tijdelijke aanduiding voor voettekst 3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fdcb7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botafwijking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Botontkalking-osteoporos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Bekkeninstabilitei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Reuma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Artros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Fractuur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7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0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Osteoporos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Betekent letterlijk “poreus bot”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Balans tussen opbouw en afbraak is negatief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Verlies van kalk in de bott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Kan niet meer goed belasting opvang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Grotere kans op fractur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Grotere kans op inzakk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0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0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Minder kalk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102" name="Picture 4" descr="Osteoporose"/>
          <p:cNvPicPr/>
          <p:nvPr/>
        </p:nvPicPr>
        <p:blipFill>
          <a:blip r:embed="rId1"/>
          <a:stretch/>
        </p:blipFill>
        <p:spPr>
          <a:xfrm>
            <a:off x="2719440" y="3019320"/>
            <a:ext cx="3095640" cy="1962360"/>
          </a:xfrm>
          <a:prstGeom prst="rect">
            <a:avLst/>
          </a:prstGeom>
          <a:ln w="0">
            <a:noFill/>
          </a:ln>
        </p:spPr>
      </p:pic>
      <p:sp>
        <p:nvSpPr>
          <p:cNvPr id="103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Het skele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47" name="Picture 4" descr="Skelet1"/>
          <p:cNvPicPr/>
          <p:nvPr/>
        </p:nvPicPr>
        <p:blipFill>
          <a:blip r:embed="rId1"/>
          <a:stretch/>
        </p:blipFill>
        <p:spPr>
          <a:xfrm>
            <a:off x="2556000" y="1125360"/>
            <a:ext cx="3671640" cy="4896000"/>
          </a:xfrm>
          <a:prstGeom prst="rect">
            <a:avLst/>
          </a:prstGeom>
          <a:ln w="0">
            <a:noFill/>
          </a:ln>
        </p:spPr>
      </p:pic>
      <p:sp>
        <p:nvSpPr>
          <p:cNvPr id="48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inzakk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105" name="Picture 4" descr="osteovolutie"/>
          <p:cNvPicPr/>
          <p:nvPr/>
        </p:nvPicPr>
        <p:blipFill>
          <a:blip r:embed="rId1"/>
          <a:stretch/>
        </p:blipFill>
        <p:spPr>
          <a:xfrm>
            <a:off x="3244680" y="2038320"/>
            <a:ext cx="2044800" cy="3924360"/>
          </a:xfrm>
          <a:prstGeom prst="rect">
            <a:avLst/>
          </a:prstGeom>
          <a:ln w="0">
            <a:noFill/>
          </a:ln>
        </p:spPr>
      </p:pic>
      <p:sp>
        <p:nvSpPr>
          <p:cNvPr id="106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0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prevalenti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108" name="Picture 4" descr="prevalentie osteoporose"/>
          <p:cNvPicPr/>
          <p:nvPr/>
        </p:nvPicPr>
        <p:blipFill>
          <a:blip r:embed="rId1"/>
          <a:stretch/>
        </p:blipFill>
        <p:spPr>
          <a:xfrm>
            <a:off x="1403280" y="1978200"/>
            <a:ext cx="6624720" cy="3617640"/>
          </a:xfrm>
          <a:prstGeom prst="rect">
            <a:avLst/>
          </a:prstGeom>
          <a:ln w="0">
            <a:noFill/>
          </a:ln>
        </p:spPr>
      </p:pic>
      <p:sp>
        <p:nvSpPr>
          <p:cNvPr id="109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breukgren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111" name="Picture 4" descr="osteoporose_broze-botten_fig_02"/>
          <p:cNvPicPr/>
          <p:nvPr/>
        </p:nvPicPr>
        <p:blipFill>
          <a:blip r:embed="rId1"/>
          <a:stretch/>
        </p:blipFill>
        <p:spPr>
          <a:xfrm>
            <a:off x="1322280" y="2332080"/>
            <a:ext cx="5889600" cy="3336840"/>
          </a:xfrm>
          <a:prstGeom prst="rect">
            <a:avLst/>
          </a:prstGeom>
          <a:ln w="0">
            <a:noFill/>
          </a:ln>
        </p:spPr>
      </p:pic>
      <p:sp>
        <p:nvSpPr>
          <p:cNvPr id="112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0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768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5" dur="768" fill="hold"/>
                                        <p:tgtEl>
                                          <p:spTgt spid="1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7" dur="768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9" dur="768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Voorkomen van osteoporos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Is niet volkomen te voorkom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Wel te vertrag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Voldoende beweging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Niet roken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Voldoende calcium(vooral in voeding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Vitamine D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Valpreventie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Medicijnen(hormonaal en niet hormonaal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5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0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898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898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898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898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898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898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898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898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898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Bekkeninstabilitei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Moderne ziekte??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f niet??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8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0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BI   wat is dat ???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Tijdens zwangerschap verslapping van de banden in het bekk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Verslapping symfys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nder invloed van hormonale spieg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Hierdoor komt er beweging tussen de bekkenbott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Pijn in de lage rug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Pijn bij symfyse verbinding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Klachten bij het lopen etc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1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0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2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2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Oorzaak BI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Extreme verslapping door vervroegde hormonale werking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Verrekking van de banden door lichamelijke inspanning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24" name="Picture 4" descr="bekken"/>
          <p:cNvPicPr/>
          <p:nvPr/>
        </p:nvPicPr>
        <p:blipFill>
          <a:blip r:embed="rId1"/>
          <a:stretch/>
        </p:blipFill>
        <p:spPr>
          <a:xfrm>
            <a:off x="5143680" y="2436840"/>
            <a:ext cx="3047760" cy="2857320"/>
          </a:xfrm>
          <a:prstGeom prst="rect">
            <a:avLst/>
          </a:prstGeom>
          <a:ln w="0">
            <a:noFill/>
          </a:ln>
        </p:spPr>
      </p:pic>
      <p:sp>
        <p:nvSpPr>
          <p:cNvPr id="125" name="Tijdelijke aanduiding voor voettekst 5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0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Behandeling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Informatie geve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Bekkenband ter ondersteuning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Trainingsprogramma voor bil,buik en bekkenbodemspiere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Houdingstraining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Voorkomen van verkeerde bewegingen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Laatste optie:operatie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8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Artros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1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132" name="Picture 5" descr="artrose1"/>
          <p:cNvPicPr/>
          <p:nvPr/>
        </p:nvPicPr>
        <p:blipFill>
          <a:blip r:embed="rId1"/>
          <a:stretch/>
        </p:blipFill>
        <p:spPr>
          <a:xfrm>
            <a:off x="914400" y="1600200"/>
            <a:ext cx="731520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Artros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Gewrichtsslijtag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ver elkaar schuren van bott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Pijn tijdens beweg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tijf en stram gevo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tandsverander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Bewegingsbeperk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5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nodeType="clickEffect" fill="hold">
                      <p:stCondLst>
                        <p:cond delay="0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206 Bott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f2b20"/>
                </a:solidFill>
                <a:latin typeface="Calibri"/>
              </a:rPr>
              <a:t>Functies van het skelet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tevigheid en vorm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Beweg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Bescherm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Aanhechtingsplaats spier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Vorming bloedcellen en bloedplaatje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Voorraadplaats kalk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1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Oorzaak artros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Normaal ouderdomsproce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Grotere afbraak van kraakbeen,dan aanmaak van kraakbe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8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139" name="Picture 4" descr="artrose"/>
          <p:cNvPicPr/>
          <p:nvPr/>
        </p:nvPicPr>
        <p:blipFill>
          <a:blip r:embed="rId1"/>
          <a:stretch/>
        </p:blipFill>
        <p:spPr>
          <a:xfrm>
            <a:off x="2209680" y="3429000"/>
            <a:ext cx="464832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nodeType="clickEffect" fill="hold">
                      <p:stCondLst>
                        <p:cond delay="0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2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Risicofactoren artros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Chronische(over)belast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vergewich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Trauma/beschadig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Erfelijkhei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Lage vitamine D spieg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Genezing bestaat </a:t>
            </a:r>
            <a:r>
              <a:rPr b="0" lang="nl-NL" sz="2200" spc="-1" strike="noStrike" u="sng">
                <a:solidFill>
                  <a:srgbClr val="2f2b20"/>
                </a:solidFill>
                <a:uFillTx/>
                <a:latin typeface="Calibri"/>
              </a:rPr>
              <a:t>NIE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2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Reumatoide Artritis(Chronische gewrichtsreuma)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5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146" name="Picture 4" descr="reuma"/>
          <p:cNvPicPr/>
          <p:nvPr/>
        </p:nvPicPr>
        <p:blipFill>
          <a:blip r:embed="rId1"/>
          <a:stretch/>
        </p:blipFill>
        <p:spPr>
          <a:xfrm>
            <a:off x="1943280" y="1743120"/>
            <a:ext cx="525780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Reuma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ntsteking gewrichtskaps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aardoor productie ontstekingsvoch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Aantasting kraakbeen en bott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Meestal chronische aandoen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9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nodeType="clickEffect" fill="hold">
                      <p:stCondLst>
                        <p:cond delay="0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Diagnos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Gewrichtszwelling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Afwijking op rontgenfoto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Afwijking in het bloe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bservatie blijft belangrijk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2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nodeType="clickEffect" fill="hold">
                      <p:stCondLst>
                        <p:cond delay="0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8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8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10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Prevalenti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55" name="Picture 7" descr="reuma 2"/>
          <p:cNvPicPr/>
          <p:nvPr/>
        </p:nvPicPr>
        <p:blipFill>
          <a:blip r:embed="rId1"/>
          <a:stretch/>
        </p:blipFill>
        <p:spPr>
          <a:xfrm>
            <a:off x="4869000" y="2763720"/>
            <a:ext cx="3597120" cy="2203560"/>
          </a:xfrm>
          <a:prstGeom prst="rect">
            <a:avLst/>
          </a:prstGeom>
          <a:ln w="0">
            <a:noFill/>
          </a:ln>
        </p:spPr>
      </p:pic>
      <p:sp>
        <p:nvSpPr>
          <p:cNvPr id="156" name="Tijdelijke aanduiding voor voettekst 5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157" name="Picture 5" descr="reuma 1"/>
          <p:cNvPicPr/>
          <p:nvPr/>
        </p:nvPicPr>
        <p:blipFill>
          <a:blip r:embed="rId2"/>
          <a:stretch/>
        </p:blipFill>
        <p:spPr>
          <a:xfrm>
            <a:off x="533520" y="1600200"/>
            <a:ext cx="388620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nodeType="clickEffect" fill="hold">
                      <p:stCondLst>
                        <p:cond delay="0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Botbreuk/fractuur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Is het onderbreken van de continuiteit van het bo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cheur of gebrok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orzaak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Door geweld van buitenaf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Broos worden van het bot(oa.osteoporose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0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nodeType="clickEffect" fill="hold">
                      <p:stCondLst>
                        <p:cond delay="0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Extern geweld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162" name="Picture 4" descr="femurfractuur"/>
          <p:cNvPicPr/>
          <p:nvPr/>
        </p:nvPicPr>
        <p:blipFill>
          <a:blip r:embed="rId1"/>
          <a:stretch/>
        </p:blipFill>
        <p:spPr>
          <a:xfrm>
            <a:off x="2916360" y="1628640"/>
            <a:ext cx="3024000" cy="4537080"/>
          </a:xfrm>
          <a:prstGeom prst="rect">
            <a:avLst/>
          </a:prstGeom>
          <a:ln w="0">
            <a:noFill/>
          </a:ln>
        </p:spPr>
      </p:pic>
      <p:sp>
        <p:nvSpPr>
          <p:cNvPr id="163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Broos worden van bo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165" name="Picture 4" descr="heup_fractuur2"/>
          <p:cNvPicPr/>
          <p:nvPr/>
        </p:nvPicPr>
        <p:blipFill>
          <a:blip r:embed="rId1"/>
          <a:stretch/>
        </p:blipFill>
        <p:spPr>
          <a:xfrm>
            <a:off x="2373480" y="1700280"/>
            <a:ext cx="4205160" cy="4537080"/>
          </a:xfrm>
          <a:prstGeom prst="rect">
            <a:avLst/>
          </a:prstGeom>
          <a:ln w="0">
            <a:noFill/>
          </a:ln>
        </p:spPr>
      </p:pic>
      <p:sp>
        <p:nvSpPr>
          <p:cNvPr id="166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Open/gesloten breuk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Gesloten breuk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24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De huid en omliggend weefsel is nog heel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24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Het bot staat </a:t>
            </a:r>
            <a:r>
              <a:rPr b="0" lang="nl-NL" sz="2100" spc="-1" strike="noStrike" u="sng">
                <a:solidFill>
                  <a:srgbClr val="2f2b20"/>
                </a:solidFill>
                <a:uFillTx/>
                <a:latin typeface="Calibri"/>
              </a:rPr>
              <a:t>niet</a:t>
            </a: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 in contact met de buitenlucht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0"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0"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69" name="Picture 4" descr="fractuur1"/>
          <p:cNvPicPr/>
          <p:nvPr/>
        </p:nvPicPr>
        <p:blipFill>
          <a:blip r:embed="rId1"/>
          <a:stretch/>
        </p:blipFill>
        <p:spPr>
          <a:xfrm>
            <a:off x="5345280" y="2097000"/>
            <a:ext cx="2644560" cy="3537000"/>
          </a:xfrm>
          <a:prstGeom prst="rect">
            <a:avLst/>
          </a:prstGeom>
          <a:ln w="0">
            <a:noFill/>
          </a:ln>
        </p:spPr>
      </p:pic>
      <p:sp>
        <p:nvSpPr>
          <p:cNvPr id="170" name="Tijdelijke aanduiding voor voettekst 5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Soorten botweefsel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bot- of been weefs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2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kraakbe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4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Open breuk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Huid is niet meer he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Bot steekt door de huid he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Bot is in contact met buitenluch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Kans op infectie is groter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Tragere bothel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3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nodeType="clickEffect" fill="hold">
                      <p:stCondLst>
                        <p:cond delay="0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Been- of botweefsel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Hard en stevi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Niet buigzaam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Niet massief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Veel kalk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p plaatsen waar stevigheid belangrijk i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7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Kraakbe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Meer lijmstoffe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Buigzamer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Erg glad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Niet doorbloed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Gevoed door synoviale vocht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Opvangen van druk en schokke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Verschillende plekke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80000"/>
              </a:lnSpc>
              <a:spcBef>
                <a:spcPts val="524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Ribben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80000"/>
              </a:lnSpc>
              <a:spcBef>
                <a:spcPts val="524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Wervels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80000"/>
              </a:lnSpc>
              <a:spcBef>
                <a:spcPts val="524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Gewrichten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80000"/>
              </a:lnSpc>
              <a:spcBef>
                <a:spcPts val="524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Neus,oorschelp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0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Bouw van het bo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Van buiten naar binne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75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2f2b20"/>
                </a:solidFill>
                <a:latin typeface="Calibri"/>
              </a:rPr>
              <a:t>Beenvlies(periost)</a:t>
            </a:r>
            <a:r>
              <a:rPr b="0" lang="nl-NL" sz="2300" spc="-1" strike="noStrike">
                <a:solidFill>
                  <a:srgbClr val="2f2b20"/>
                </a:solidFill>
                <a:latin typeface="Calibri"/>
              </a:rPr>
              <a:t>	</a:t>
            </a:r>
            <a:endParaRPr b="0" lang="en-US" sz="23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24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bloedvaten en zenuwen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75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2f2b20"/>
                </a:solidFill>
                <a:latin typeface="Calibri"/>
              </a:rPr>
              <a:t>Schors </a:t>
            </a:r>
            <a:endParaRPr b="0" lang="en-US" sz="23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24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botvormende cellen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75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2f2b20"/>
                </a:solidFill>
                <a:latin typeface="Calibri"/>
              </a:rPr>
              <a:t>Sponsachtige massa(spongiosa)</a:t>
            </a:r>
            <a:endParaRPr b="0" lang="en-US" sz="23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24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Bestaat uit kleine holtes met rood beenmerg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24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Bot is dus niet massief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24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24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In het rode beenmerg worden rode en witte bloedlichaampjes gemaakt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3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8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Groei van het bo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Breedte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75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2f2b20"/>
                </a:solidFill>
                <a:latin typeface="Calibri"/>
              </a:rPr>
              <a:t>Door de botvormende cellen in de schors</a:t>
            </a:r>
            <a:endParaRPr b="0" lang="en-US" sz="23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6" name="Picture 6" descr="onderarm"/>
          <p:cNvPicPr/>
          <p:nvPr/>
        </p:nvPicPr>
        <p:blipFill>
          <a:blip r:embed="rId1"/>
          <a:stretch/>
        </p:blipFill>
        <p:spPr>
          <a:xfrm>
            <a:off x="4799160" y="2246400"/>
            <a:ext cx="3736800" cy="3238560"/>
          </a:xfrm>
          <a:prstGeom prst="rect">
            <a:avLst/>
          </a:prstGeom>
          <a:ln w="0">
            <a:noFill/>
          </a:ln>
        </p:spPr>
      </p:pic>
      <p:sp>
        <p:nvSpPr>
          <p:cNvPr id="67" name="Tijdelijke aanduiding voor voettekst 5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Groei van het bo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Lengte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75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2f2b20"/>
                </a:solidFill>
                <a:latin typeface="Calibri"/>
              </a:rPr>
              <a:t>Groeischijf aan het eind van het bot</a:t>
            </a:r>
            <a:endParaRPr b="0" lang="en-US" sz="23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70" name="Picture 4" descr="groeischijf"/>
          <p:cNvPicPr/>
          <p:nvPr/>
        </p:nvPicPr>
        <p:blipFill>
          <a:blip r:embed="rId1"/>
          <a:stretch/>
        </p:blipFill>
        <p:spPr>
          <a:xfrm>
            <a:off x="1547640" y="3430440"/>
            <a:ext cx="2557800" cy="25527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groeischijffractuur"/>
          <p:cNvPicPr/>
          <p:nvPr/>
        </p:nvPicPr>
        <p:blipFill>
          <a:blip r:embed="rId2"/>
          <a:stretch/>
        </p:blipFill>
        <p:spPr>
          <a:xfrm>
            <a:off x="6415200" y="1700280"/>
            <a:ext cx="1965240" cy="4608360"/>
          </a:xfrm>
          <a:prstGeom prst="rect">
            <a:avLst/>
          </a:prstGeom>
          <a:ln w="0">
            <a:noFill/>
          </a:ln>
        </p:spPr>
      </p:pic>
      <p:sp>
        <p:nvSpPr>
          <p:cNvPr id="72" name="Tijdelijke aanduiding voor voettekst 6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7T08:51:28Z</dcterms:created>
  <dc:creator>Bugel</dc:creator>
  <dc:description/>
  <dc:language>en-US</dc:language>
  <cp:lastModifiedBy>J.W.P. Bugel</cp:lastModifiedBy>
  <dcterms:modified xsi:type="dcterms:W3CDTF">2014-09-30T09:35:40Z</dcterms:modified>
  <cp:revision>18</cp:revision>
  <dc:subject/>
  <dc:title>Het bewegingsapparaat</dc:title>
</cp:coreProperties>
</file>