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24.png" ContentType="image/png"/>
  <Override PartName="/ppt/media/image10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8.jpeg" ContentType="image/jpeg"/>
  <Override PartName="/ppt/media/image44.jpeg" ContentType="image/jpeg"/>
  <Override PartName="/ppt/media/image40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13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3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F5FE-E0A2-4B83-8E49-9CCCDF3E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2E57-0DE8-42A7-B2C3-1FDB6B7F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23A7-238B-4B83-9D19-D6BDBE7CB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AA68-B54E-49CB-93C9-50A1326E6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809A-751A-495D-9EC0-BF0592515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BB23-0E7F-49BB-9204-5D6F0A3B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4317-C8B5-4CA4-B69F-DC7DEE47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0D4D-DCDC-4406-B339-E13BF3DD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8FFB-C07D-4290-AEBE-2230C10D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9BC4-A7DC-43DF-9967-6BBC3BBC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3AAA-05A4-4683-91FD-4C7958DD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4D34-31E5-404E-AB54-CA0B1F48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475F-25F9-4815-B27B-B1E1112C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1D15-BDB0-4FF4-921F-534C15C2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83D6-40B2-47E5-B87E-64BFA64F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E9C5-A895-4CDB-8327-57DDC28F2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6F86-11B0-4755-88F4-EC93D040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C8ABA-24A7-48C5-8256-3297AED3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5E43C-59F1-4619-944D-4A3D4A30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57645-A2F2-4EF1-9A83-FCA490F1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98374-7E03-43F9-92D6-C8B5E890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02C39-05A0-4441-8DEF-15B437EA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FA26-82A2-4062-A0E7-70B0DB8C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DA9A5-3480-4C6B-B47C-C3F7306E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F993F-C1FA-4299-96C6-E2034ADE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34AAA-A2FE-468D-A1AB-C5D6951B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B754E-5B12-43AD-9B97-339B1B0D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78F6D-1D7A-495F-8965-01A38CB7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25496-F9B5-41DA-B09A-409A6EA4B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F52DC-0541-4A9B-9113-2F7DA37D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D5810-F8CA-47A1-82E9-EAB73AF3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6E199-AEE9-4AD5-999B-DF299389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18328-423B-42EB-BEAC-4253BE58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ACF1-BDF5-4D00-86EA-E501DEE6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6C7A6-DE38-4255-9299-AC5B4583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70756-E256-4A6C-9274-361590A7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91CA5-8214-4D0A-A225-E63079BF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D33E0-6FC9-4CD1-8B51-311F44B6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93C39-00DB-498D-A3C4-BEBEDDFA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C00B7-703E-4B50-8423-F8731E6E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A50BC-26D7-49F3-91C5-58400404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3D6BF-381C-4A82-9DBD-98869DED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9EFFF-2E49-4BC7-9E9C-002AE74BD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92C32-3056-41D0-8C65-B27856EB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F45A-58C4-42C0-9180-30B56E7B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21CB8-CA01-46ED-AC74-A01BE76A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C9755-F480-48A1-88ED-F4CF6A5F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EE796-2DDE-4B7D-902C-B6F3564D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A05E2-C492-4260-9019-DD24E219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AEBCB-A540-447E-8B2F-95CCF43A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78754-B38F-4A75-A873-1581F64F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A28D2-031B-4F60-BD90-09B01D25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240AE-B149-40A5-9995-A56FD01C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1DEEA-A788-4CC3-BFAC-874BE36C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563B6-E2D6-4CF2-8FE4-7429D360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F8ED-68C3-4BF1-B1D4-686872FC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74022-7F54-46D4-ACF5-DBD7201B9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7909E-DC17-4807-AF61-007C19255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5F665-C643-4468-9CAB-79E0DEF3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1437D-0F26-48D4-B973-49287694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B9029-62BF-40ED-9327-26E73685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D5B81-212F-48E0-82BD-6FB715BF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ACCE3-929B-4215-ABD4-A9BB5821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6BE42-B970-4BAB-A09B-E0892220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C239E-383A-40F9-AB52-FA3BE667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2939C-1BB7-4B21-9C44-A68E1D41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E739-A03B-40DE-ACD5-E02E10D1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1457D-83A1-434D-9730-86B15D3D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9109C-F380-4E20-8BD6-8BD53780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DF989-D1CD-47C2-A07F-ABF5C8C4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5F4E8-452B-4F47-9DD6-20D840C0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71881-3680-4614-8BA3-00CE7323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85E81-6099-40DC-B5FD-5B73D446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135BE-F764-4D95-ABCA-5608328B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99B25-B752-4248-A75F-ACA5A7AB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BAA2C-2212-4071-9DBF-07DDAB09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17CC0-071C-4D84-8B7B-3AAC2C20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0B00-35AF-4391-B79C-A093710E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21DFF-AAD7-4477-81C9-97414AC7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E732D-0B78-47E7-AA30-85E9469B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ADDC4-F161-40EA-87E7-C9FCC3E6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F1687-F33E-4936-8A78-A64A3C907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26B5F-6612-4677-A1EC-218EB3BC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B5491-4287-4F6F-8F90-C0E2ECFD3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F19C6-99B1-4148-B96F-C3857BAA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1DC4B-20B5-402B-BC3C-8C3076BD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21452-83E9-4568-9AA3-42A27AD9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78E93-2AD7-44E3-8284-3B258B17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5A04-70C3-4AE0-8AAC-2469DE89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2095A-7EAC-4941-AC83-20F926BB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989BA-4449-4D45-9E27-7B0EB214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02ACE-ABEA-40DA-A93B-71D48868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8D5C3-BFC4-4380-A67B-059DF969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B4F80-DB5C-4866-A9D4-A614DEE5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5EAC7-C835-4173-A9DE-EB3A85DC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C2524-61E9-4E3B-A840-0711CAA2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3CEC-BA24-4DD5-A722-5B2E7CECCEDE}" type="datetime">
              <a:rPr b="0" lang="nl-NL" sz="1000" spc="-1" strike="noStrike">
                <a:solidFill>
                  <a:srgbClr val="000000"/>
                </a:solidFill>
                <a:latin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4C7B-2872-481D-8086-23FF657ED0F0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3AC9-E02F-46F7-9CC9-5317B656283B}" type="datetime">
              <a:rPr b="0" lang="nl-NL" sz="10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e8f0f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e8f0f4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01A2-749B-49EF-A6B9-5D552BBB7B96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41B7-5AD6-4E12-8005-FBD3B11A13A2}" type="datetime">
              <a:rPr b="0" lang="nl-NL" sz="1000" spc="-1" strike="noStrike">
                <a:solidFill>
                  <a:srgbClr val="000000"/>
                </a:solidFill>
                <a:latin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625A-9B69-4A0F-952E-DBEBBC61BA88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0064-BE2D-46B8-8286-2574A8532744}" type="datetime">
              <a:rPr b="0" lang="nl-NL" sz="1000" spc="-1" strike="noStrike">
                <a:solidFill>
                  <a:srgbClr val="000000"/>
                </a:solidFill>
                <a:latin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FB5A-7853-4CB6-8514-76563B8FF9DB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CD61-1D22-4383-9666-BB41E9800F8B}" type="datetime">
              <a:rPr b="0" lang="nl-NL" sz="1000" spc="-1" strike="noStrike">
                <a:solidFill>
                  <a:srgbClr val="000000"/>
                </a:solidFill>
                <a:latin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2AE0-DFDC-42BF-8D28-97324225882A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BB56-F89E-4BA8-94D1-7CA69D310A22}" type="datetime">
              <a:rPr b="0" lang="nl-NL" sz="1000" spc="-1" strike="noStrike">
                <a:solidFill>
                  <a:srgbClr val="000000"/>
                </a:solidFill>
                <a:latin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D5AD-4FEB-4025-BF28-189DDDE35534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C6A1-3776-4FD6-B0BE-351C041D1011}" type="datetime">
              <a:rPr b="0" lang="nl-NL" sz="1000" spc="-1" strike="noStrike">
                <a:solidFill>
                  <a:srgbClr val="000000"/>
                </a:solidFill>
                <a:latin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DC17-0DE0-4DE3-93BA-EB78DA6785C1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A3EA-DE62-4656-8C3A-B8DF467B5CCF}" type="datetime">
              <a:rPr b="0" lang="nl-NL" sz="10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E351-3705-4F27-B6D6-7DBF7CB761E4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AutoShape 2" descr=""/>
          <p:cNvPicPr/>
          <p:nvPr/>
        </p:nvPicPr>
        <p:blipFill>
          <a:blip r:embed="rId1"/>
          <a:stretch/>
        </p:blipFill>
        <p:spPr>
          <a:xfrm>
            <a:off x="914400" y="993600"/>
            <a:ext cx="8229600" cy="19018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51307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464646"/>
                </a:solidFill>
                <a:latin typeface="Lucida Sans Unicode"/>
              </a:rPr>
              <a:t>College Anatomie/Fysiolog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AutoShape 2" descr=""/>
          <p:cNvPicPr/>
          <p:nvPr/>
        </p:nvPicPr>
        <p:blipFill>
          <a:blip r:embed="rId1"/>
          <a:stretch/>
        </p:blipFill>
        <p:spPr>
          <a:xfrm>
            <a:off x="1609560" y="158760"/>
            <a:ext cx="7534440" cy="128592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ier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rineleid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a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rinebu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Picture 4" descr="D:\Documents and Settings\BugelJ\Mijn documenten\Mijn afbeeldingen\incontinentie_blaas.jpg"/>
          <p:cNvPicPr/>
          <p:nvPr/>
        </p:nvPicPr>
        <p:blipFill>
          <a:blip r:embed="rId2"/>
          <a:stretch/>
        </p:blipFill>
        <p:spPr>
          <a:xfrm>
            <a:off x="4191120" y="2514600"/>
            <a:ext cx="26668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edere nier is opgebouwd uit een aantal(1.000.000) urineproducerende en filterende niereenhed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zogenaamde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Nefron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787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D:\Documents and Settings\BugelJ\Mijn documenten\Mijn afbeeldingen\nephron.jpg"/>
          <p:cNvPicPr/>
          <p:nvPr/>
        </p:nvPicPr>
        <p:blipFill>
          <a:blip r:embed="rId2"/>
          <a:stretch/>
        </p:blipFill>
        <p:spPr>
          <a:xfrm>
            <a:off x="2071800" y="2714760"/>
            <a:ext cx="41432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ichaam van </a:t>
            </a: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Malpighi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              (ligt in de nierschor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is van </a:t>
            </a: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Henle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                         (ligt in het niermer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zamelbuis                            (ligt ook in het niermer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estaat  u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lomerulus                                        ( is een kluwen van bloedvate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Kapsel van Bowman                              ( is het opvangbekken van het eerste filtraat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ier vindt de terugresorptie plaats van het eerste filtra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it is een zeer belangrijk onderdeel van de filtratie. Dit voorkomt uitdroging!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arna de geconcentreerde urine wordt opgevangen in de verzamelbu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anuit de verzamelbuis gaat de urine via de urineleiders naar de urineblaa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420" name="Tijdelijke aanduiding voor inhoud 3" descr="nieren.jpg"/>
          <p:cNvPicPr/>
          <p:nvPr/>
        </p:nvPicPr>
        <p:blipFill>
          <a:blip r:embed="rId2"/>
          <a:stretch/>
        </p:blipFill>
        <p:spPr>
          <a:xfrm>
            <a:off x="3346560" y="1854360"/>
            <a:ext cx="579744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AutoShape 2" descr=""/>
          <p:cNvPicPr/>
          <p:nvPr/>
        </p:nvPicPr>
        <p:blipFill>
          <a:blip r:embed="rId1"/>
          <a:stretch/>
        </p:blipFill>
        <p:spPr>
          <a:xfrm>
            <a:off x="1609560" y="158760"/>
            <a:ext cx="7534440" cy="161460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er dag gaat er 1800 liter bloed door deze nefron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nefronen halen hier ongeveer 180 liter ultrafiltraat ui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ngeveer 178.5 liter gaat weer terug het lichaam in(dit heet terugresorpti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ijft er ongeveer 1.5 liter urine ov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ze urine wordt opgevangen in het nierbekk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ia de urineleiders gaat dat naar de blaas.                                        (oa door een peristaltische beweging van de urineleider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 de blaas verzamelt zich de urine(200-max 900 ml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AutoShape 2" descr=""/>
          <p:cNvPicPr/>
          <p:nvPr/>
        </p:nvPicPr>
        <p:blipFill>
          <a:blip r:embed="rId1"/>
          <a:stretch/>
        </p:blipFill>
        <p:spPr>
          <a:xfrm>
            <a:off x="1609560" y="298440"/>
            <a:ext cx="7534440" cy="11890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blaas heeft 2 kringspier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inwendige(onwillekeurige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uitwendige(willekeurige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Verwijderen van afvalstoffe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Picture 4" descr="toilet"/>
          <p:cNvPicPr/>
          <p:nvPr/>
        </p:nvPicPr>
        <p:blipFill>
          <a:blip r:embed="rId2"/>
          <a:stretch/>
        </p:blipFill>
        <p:spPr>
          <a:xfrm>
            <a:off x="5554800" y="2048040"/>
            <a:ext cx="35892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De blaas is vol (ong.350 ml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Wand van de blaas rekt op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Er gaat een seintje naar de hersene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Bewustwording van de blaas is vol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In een reflex is er een ontspanning van de inwendige en aanspanning van de uitwendige kringspi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Lozingsplaats zoeke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Bewust ontspannen van de uitwendige spi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Hierdoor gecontroleerde lozing van de urin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Picture 5" descr="D:\Documents and Settings\BugelJ\Mijn documenten\Mijn afbeeldingen\incontinentie.jpg"/>
          <p:cNvPicPr/>
          <p:nvPr/>
        </p:nvPicPr>
        <p:blipFill>
          <a:blip r:embed="rId2"/>
          <a:stretch/>
        </p:blipFill>
        <p:spPr>
          <a:xfrm>
            <a:off x="5486400" y="838080"/>
            <a:ext cx="310356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et niet kunnen ophouden van feces of urine tot het moment waarop lozing sociaal aanvaardbaar i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.stress incontinen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2.urge incontinen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3.overloop incontinen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4.functionele incontinen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5.reflex incontinen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445" name="Tijdelijke aanduiding voor inhoud 3" descr="Dialyse1.jpg"/>
          <p:cNvPicPr/>
          <p:nvPr/>
        </p:nvPicPr>
        <p:blipFill>
          <a:blip r:embed="rId2"/>
          <a:stretch/>
        </p:blipFill>
        <p:spPr>
          <a:xfrm>
            <a:off x="0" y="2571840"/>
            <a:ext cx="2714760" cy="3929040"/>
          </a:xfrm>
          <a:prstGeom prst="rect">
            <a:avLst/>
          </a:prstGeom>
          <a:ln w="0">
            <a:noFill/>
          </a:ln>
        </p:spPr>
      </p:pic>
      <p:pic>
        <p:nvPicPr>
          <p:cNvPr id="446" name="Afbeelding 4" descr="kunstnier-kolff.jpg"/>
          <p:cNvPicPr/>
          <p:nvPr/>
        </p:nvPicPr>
        <p:blipFill>
          <a:blip r:embed="rId3"/>
          <a:stretch/>
        </p:blipFill>
        <p:spPr>
          <a:xfrm>
            <a:off x="5310360" y="2809800"/>
            <a:ext cx="269064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449" name="Tijdelijke aanduiding voor inhoud 3" descr="-kolff..jpg"/>
          <p:cNvPicPr/>
          <p:nvPr/>
        </p:nvPicPr>
        <p:blipFill>
          <a:blip r:embed="rId2"/>
          <a:stretch/>
        </p:blipFill>
        <p:spPr>
          <a:xfrm>
            <a:off x="5205240" y="2147760"/>
            <a:ext cx="393876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452" name="Tijdelijke aanduiding voor inhoud 3" descr="Nieuwe kunstnier.bmp"/>
          <p:cNvPicPr/>
          <p:nvPr/>
        </p:nvPicPr>
        <p:blipFill>
          <a:blip r:embed="rId2"/>
          <a:stretch/>
        </p:blipFill>
        <p:spPr>
          <a:xfrm>
            <a:off x="0" y="2452680"/>
            <a:ext cx="5929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Tijdelijke aanduiding voor inhoud 3" descr="donornier.jpg"/>
          <p:cNvPicPr/>
          <p:nvPr/>
        </p:nvPicPr>
        <p:blipFill>
          <a:blip r:embed="rId1"/>
          <a:stretch/>
        </p:blipFill>
        <p:spPr>
          <a:xfrm>
            <a:off x="0" y="2325600"/>
            <a:ext cx="471492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ier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ikke darm/ endeldar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Lucida Sans Unicode"/>
              </a:rPr>
              <a:t>Vaste afvalstoffe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o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Lucida Sans Unicode"/>
              </a:rPr>
              <a:t>Water en koolzuurga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ev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Lucida Sans Unicode"/>
              </a:rPr>
              <a:t>galkleurstoffe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i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Lucida Sans Unicode"/>
              </a:rPr>
              <a:t>Water en zoute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AutoShape 2" descr=""/>
          <p:cNvPicPr/>
          <p:nvPr/>
        </p:nvPicPr>
        <p:blipFill>
          <a:blip r:embed="rId1"/>
          <a:stretch/>
        </p:blipFill>
        <p:spPr>
          <a:xfrm>
            <a:off x="1646280" y="244440"/>
            <a:ext cx="7497720" cy="140832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.Hulp kunnen bieden bij toiletga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2.Observeren van feces en ur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3.Kunnen geven van voorlich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4.Hulp kunnen bieden bij ophoesten van sputu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5.Hulp bij brak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6.Observeren van zweetsecreti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AutoShape 2" descr=""/>
          <p:cNvPicPr/>
          <p:nvPr/>
        </p:nvPicPr>
        <p:blipFill>
          <a:blip r:embed="rId1"/>
          <a:stretch/>
        </p:blipFill>
        <p:spPr>
          <a:xfrm>
            <a:off x="1646280" y="298440"/>
            <a:ext cx="7686720" cy="11462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r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Fe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putu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weet/transpira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nstrua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raaks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uitscheiding"/>
          <p:cNvPicPr/>
          <p:nvPr/>
        </p:nvPicPr>
        <p:blipFill>
          <a:blip r:embed="rId2"/>
          <a:stretch/>
        </p:blipFill>
        <p:spPr>
          <a:xfrm>
            <a:off x="0" y="1773360"/>
            <a:ext cx="44640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391" name="Tijdelijke aanduiding voor inhoud 5" descr="nier schematisch.jpg"/>
          <p:cNvPicPr/>
          <p:nvPr/>
        </p:nvPicPr>
        <p:blipFill>
          <a:blip r:embed="rId2"/>
          <a:stretch/>
        </p:blipFill>
        <p:spPr>
          <a:xfrm>
            <a:off x="0" y="1844640"/>
            <a:ext cx="4448160" cy="452772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5559120" y="184464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Nierschors (Cortex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Gespikkeld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Smalle laa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Lichaampjes van Malpighi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Niermerg (Medulla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Streperi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Lissen van Henl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verzamelbuisje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Nierbekken (Pelvis Renalis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Opvangen van het ultrafiltraa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oonvormi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50 gram zwa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2cm lang,7 cm breed en 3 cm di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inks en rechts van wervelkol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chternier ligt iets lag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igging in steunv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AutoShape 2" descr=""/>
          <p:cNvPicPr/>
          <p:nvPr/>
        </p:nvPicPr>
        <p:blipFill>
          <a:blip r:embed="rId1"/>
          <a:stretch/>
        </p:blipFill>
        <p:spPr>
          <a:xfrm>
            <a:off x="1609560" y="158760"/>
            <a:ext cx="7534440" cy="12859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2da2bf"/>
              </a:buClr>
              <a:buSzPct val="68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ge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0080" indent="-272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aterhuishoud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0080" indent="-272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outen huishoud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0080" indent="-272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uurgraad( ph waarde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438120" indent="-318960">
              <a:lnSpc>
                <a:spcPct val="90000"/>
              </a:lnSpc>
              <a:buClr>
                <a:srgbClr val="2da2bf"/>
              </a:buClr>
              <a:buSzPct val="68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itscheiding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0080" indent="-272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an ureum en urinezuu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0080" indent="-272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an lichaamsvreemde stoffen (medicijne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438120" indent="-318960">
              <a:lnSpc>
                <a:spcPct val="90000"/>
              </a:lnSpc>
              <a:buClr>
                <a:srgbClr val="2da2bf"/>
              </a:buClr>
              <a:buSzPct val="68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lgemeen doel is het </a:t>
            </a: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filter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van het blo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19:28:31Z</dcterms:created>
  <dc:creator>Bugel</dc:creator>
  <dc:description/>
  <dc:language>en-US</dc:language>
  <cp:lastModifiedBy>J.W.P. Bugel</cp:lastModifiedBy>
  <dcterms:modified xsi:type="dcterms:W3CDTF">2016-03-09T09:09:29Z</dcterms:modified>
  <cp:revision>25</cp:revision>
  <dc:subject/>
  <dc:title>Uitscheiding</dc:title>
</cp:coreProperties>
</file>