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6CD-2B3E-4DD1-8468-EFA746B5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245-E4DB-4626-A3D3-93EA216F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6DE-F3BB-409E-A4E0-EBF68AA6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1B3-5462-494C-8D9D-AE584653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82B6-6641-4465-993F-EE9E7971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7B35-4314-44CD-BDCE-6F13D738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4290-31B8-4995-93FB-97FEEE7F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04CB-C2A9-4406-AC86-A4C8A67D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5E9C-64A8-406C-83B1-749E0481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FF68-9F66-4F01-A12D-7C2A2296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507B-5AD2-409F-AB80-2FC79C8D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6F9-80B0-433F-AD27-55540A83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9626-0CF4-4574-A752-8573855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51DB-6298-43B6-9D83-7B345EE4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F87F-A68E-418C-AB2C-D36966D4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B67D-13CE-42F4-B39D-73BEA077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0759-4E61-4AFC-97F3-C95FE076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624-9914-445A-AB22-570FDAB2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63B-9924-480B-86A5-55E81D98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B86-D5D6-49AD-81BD-AA60CA2B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1A9-5485-47D4-A953-594229C1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A3C-9693-48F0-9401-4C20A790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547-E14A-4CC5-8AAD-8CEAACC5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4C5-90B3-4B4B-BC6A-62536511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8472-DC4A-4A3C-889A-C24118CDD55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030-F1C1-48AB-B182-B2A47369F67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nleiding 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Is een proces waarbij uit voeding en inademingslucht stoffen opgenomen worden en daarna omgezet in voor het lichaam nuttige stoffe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Hierbij komen afbraakproducten vrij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e vier stofwisselingsstelse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irculatie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emhal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itscheid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s het verteren van het eten dat we binnen krijg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t eten dat we binnen krijgen moet heel klein gemaakt word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ervoor gebruiken we sappen/enzymen die een bepaalde stof kleiner maak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ctie 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em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jn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voer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breken/kleiner 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ame in het bloed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voer van onverteerbare voe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38:20Z</dcterms:created>
  <dc:creator>custom</dc:creator>
  <dc:description/>
  <dc:language>en-US</dc:language>
  <cp:lastModifiedBy>J.W.P. Bugel</cp:lastModifiedBy>
  <dcterms:modified xsi:type="dcterms:W3CDTF">2011-10-11T09:39:42Z</dcterms:modified>
  <cp:revision>4</cp:revision>
  <dc:subject/>
  <dc:title>Inleiding Stofwisseling</dc:title>
</cp:coreProperties>
</file>