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C91-3641-45EF-A5E4-A7C2E1BA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AA1C-C0B5-481B-9F78-BE156C0F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BB83-4989-4EF4-906F-0CF437E7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F19-2A1F-4C45-A538-43ACFE14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36DF-87C7-443F-A49D-9D44A294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AE63-385B-471A-AE0C-1455BAEF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5A7C-5E59-49BF-A281-112B1761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090B-D036-4796-BED6-255A1794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4C5C-9FA6-4ED1-9889-D9E508CF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D56B-7628-47CD-97EF-19979D1D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9656-6731-49C8-88DE-DFDFD6E9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8340-5ED4-4841-8238-34E066FC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B12D-0ECD-4447-9784-0B07D93F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ADE7-9364-4E8C-94F8-EA29828D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3909-E990-4636-85EF-A592F15A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B3DB-3DA9-45FE-BB0B-98262F3F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40BC-2A7F-4B36-B1E6-7CA199BE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AF8-4E69-4842-BEFC-3DF3E7A5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515-8F1E-4817-A971-0BF8B081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526-6CC5-448E-A571-C69CB0FB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CC3-C89C-4C7A-A05D-41BE7477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A01F-9821-4E2F-A437-032B4E61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AE4F-49D3-4C0E-8A50-5352EBFD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5E6-4326-4247-B114-1EB79781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260D-DEBE-44F0-B794-F99F50EA67C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D759-CE11-4AD6-8BAF-52DA24E5940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plaatj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enuwc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2" name="-Neuron-nl" descr=""/>
          <p:cNvPicPr/>
          <p:nvPr/>
        </p:nvPicPr>
        <p:blipFill>
          <a:blip r:embed="rId1"/>
          <a:stretch/>
        </p:blipFill>
        <p:spPr>
          <a:xfrm>
            <a:off x="2666880" y="2044800"/>
            <a:ext cx="38102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wabb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_hersenschors2" descr=""/>
          <p:cNvPicPr/>
          <p:nvPr/>
        </p:nvPicPr>
        <p:blipFill>
          <a:blip r:embed="rId1"/>
          <a:stretch/>
        </p:blipFill>
        <p:spPr>
          <a:xfrm>
            <a:off x="2819520" y="2782800"/>
            <a:ext cx="380988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nderaanzicht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_2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wabb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hersenen2" descr=""/>
          <p:cNvPicPr/>
          <p:nvPr/>
        </p:nvPicPr>
        <p:blipFill>
          <a:blip r:embed="rId1"/>
          <a:stretch/>
        </p:blipFill>
        <p:spPr>
          <a:xfrm>
            <a:off x="2670120" y="1857240"/>
            <a:ext cx="36352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e zenuwstelsel en perifere zenuwstels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zenewstelsel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25146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ijaanzicht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hersenen%204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7545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 in 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0" name="kwabben" descr=""/>
          <p:cNvPicPr/>
          <p:nvPr/>
        </p:nvPicPr>
        <p:blipFill>
          <a:blip r:embed="rId1"/>
          <a:stretch/>
        </p:blipFill>
        <p:spPr>
          <a:xfrm>
            <a:off x="2133720" y="3013200"/>
            <a:ext cx="41907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hersenen%201" descr=""/>
          <p:cNvPicPr/>
          <p:nvPr/>
        </p:nvPicPr>
        <p:blipFill>
          <a:blip r:embed="rId1"/>
          <a:stretch/>
        </p:blipFill>
        <p:spPr>
          <a:xfrm>
            <a:off x="2133720" y="1725480"/>
            <a:ext cx="48765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9:38:43Z</dcterms:created>
  <dc:creator>BugelJ</dc:creator>
  <dc:description/>
  <dc:language>en-US</dc:language>
  <cp:lastModifiedBy>BugelJ</cp:lastModifiedBy>
  <dcterms:modified xsi:type="dcterms:W3CDTF">2007-12-19T09:43:43Z</dcterms:modified>
  <cp:revision>1</cp:revision>
  <dc:subject/>
  <dc:title>De hersenen</dc:title>
</cp:coreProperties>
</file>