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F61-A9F8-4BD8-9BCE-89A9A61D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7E1-5F42-4AEB-9824-A4EA6550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209-FCA2-4A6F-90DD-FA8B91BC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FB7-5A4B-4482-BF9E-ECE9CBEE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9A44-D112-410F-8E7A-A788ECCB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CBDD-6D5E-44F2-BB12-D5ED79C8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9960-4B0A-482D-A201-0BE0F9F2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B5EB-87C6-4579-9C24-03FF645D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BDEA-D674-4EB0-87F4-780A0F18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3DA8-9B31-495A-B505-D71606B9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D1AC-0810-4595-91D6-081B56B0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2DC-D33D-421A-BF74-A8BDED00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21FB-5E68-47D2-88EB-9FB0A1F8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96F5-09E0-4DA8-B3DB-F5D73E6D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8498-35D6-4A59-8339-A7BC8A10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8AE2-AC87-47D9-AC95-74FD4DBE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A2CA-441D-42EC-823F-532F384B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6D7-A5FC-48AB-8396-F830E84D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0F1-765E-40F5-BD40-32BED4F8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158-F76B-42CD-9B69-76A11D40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7F6-9A96-4367-9AB4-A2F39CB0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655-860B-47CE-8730-4B426682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6DA-9C63-4D50-8818-81F9B19D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B32-AB15-49B3-8EFA-10816017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CA49-8D0A-45A1-9D13-3B42258D06B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F0CC-171B-4904-901B-638AF976086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De huid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oel:het verwoorden van het belang van de huid  voor het verlenen van persoonlijke zorg aan de zorgvrag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Lederhuid/derm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bindweefsella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orgt voor isol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orgt voor vetopsl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ev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loedvaten(voeden epidermi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Lymfeva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enuw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intui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dermis"/>
          <p:cNvPicPr/>
          <p:nvPr/>
        </p:nvPicPr>
        <p:blipFill>
          <a:blip r:embed="rId1"/>
          <a:stretch/>
        </p:blipFill>
        <p:spPr>
          <a:xfrm>
            <a:off x="4646520" y="1812960"/>
            <a:ext cx="4040280" cy="410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rm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rk golvend met talrijke papillen(soort veranker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epidermis"/>
          <p:cNvPicPr/>
          <p:nvPr/>
        </p:nvPicPr>
        <p:blipFill>
          <a:blip r:embed="rId1"/>
          <a:stretch/>
        </p:blipFill>
        <p:spPr>
          <a:xfrm>
            <a:off x="4716360" y="2081160"/>
            <a:ext cx="3189240" cy="4016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Klieren van 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weet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alg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orst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zweet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1" name="Picture 4" descr="epidermis"/>
          <p:cNvPicPr/>
          <p:nvPr/>
        </p:nvPicPr>
        <p:blipFill>
          <a:blip r:embed="rId1"/>
          <a:stretch/>
        </p:blipFill>
        <p:spPr>
          <a:xfrm>
            <a:off x="3132000" y="1341360"/>
            <a:ext cx="468000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zweet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rold buis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omt uit op de hoornla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2000000 stu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ndpal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etz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hoof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ks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amenstelling</a:t>
            </a:r>
            <a:br>
              <a:rPr sz="4400"/>
            </a:b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eukenz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uren ( onder ander boterzu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oterzuur geeft de transpiratieluch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 zweetproduc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7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te regulatie door verdam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voer van afvalproduc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Ure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elkzu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zweten%20huid"/>
          <p:cNvPicPr/>
          <p:nvPr/>
        </p:nvPicPr>
        <p:blipFill>
          <a:blip r:embed="rId1"/>
          <a:stretch/>
        </p:blipFill>
        <p:spPr>
          <a:xfrm>
            <a:off x="5219640" y="2852640"/>
            <a:ext cx="374508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4" name="Picture 4" descr="zweet"/>
          <p:cNvPicPr/>
          <p:nvPr/>
        </p:nvPicPr>
        <p:blipFill>
          <a:blip r:embed="rId1"/>
          <a:stretch/>
        </p:blipFill>
        <p:spPr>
          <a:xfrm>
            <a:off x="977760" y="2413080"/>
            <a:ext cx="731520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talg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rosvorm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roductie tal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ttig houden van haren en h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stopte talgporie=ac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indefinite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indefinite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indefinite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indefinite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0" dur="indefinite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4" dur="indefinite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8" dur="indefinite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2" dur="indefinite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n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0" name="Picture 4" descr="acnetherapie_talgklier"/>
          <p:cNvPicPr/>
          <p:nvPr/>
        </p:nvPicPr>
        <p:blipFill>
          <a:blip r:embed="rId1"/>
          <a:stretch/>
        </p:blipFill>
        <p:spPr>
          <a:xfrm>
            <a:off x="977760" y="2575080"/>
            <a:ext cx="675828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bserveren van de huid tijdens de zor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 moet je op lett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t is normaal en wat zijn de afwijk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uidstelsel bestaat u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u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age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lieren(borst,geur,zweet en tal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ur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cheiden specifieke geur a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 invloed van hormonen en de maandelijkse cycl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twikkeling na de pubertij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p plaatsen met haargroe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oral i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ks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ogled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Neusinga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chaamstree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naalstree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Tep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a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scher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mperatuurregul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ood materi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evensduur:4 ja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engtegroei:8-12 cm per ja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roeit van onder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4" descr="Haarfollikel"/>
          <p:cNvPicPr/>
          <p:nvPr/>
        </p:nvPicPr>
        <p:blipFill>
          <a:blip r:embed="rId1"/>
          <a:stretch/>
        </p:blipFill>
        <p:spPr>
          <a:xfrm>
            <a:off x="3352680" y="2438280"/>
            <a:ext cx="419112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a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deel van de hoornlaag en bestaat ui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schac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wor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zakje(met daarnaast de talgkl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spiert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Taken van 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erming tegen schadelijke invloe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mperatuurregula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itscheid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ntuigelijke waarne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komen van uitdro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roductie vitamine D(sterke bot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pslag van vet in het onderhuidse bindweefsel(subcutaa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orsne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1" name="Picture 4" descr="dehuid"/>
          <p:cNvPicPr/>
          <p:nvPr/>
        </p:nvPicPr>
        <p:blipFill>
          <a:blip r:embed="rId1"/>
          <a:stretch/>
        </p:blipFill>
        <p:spPr>
          <a:xfrm>
            <a:off x="1073160" y="1989000"/>
            <a:ext cx="7311960" cy="38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nkele cijfert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ppervlakte:1.65 vierkante m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 vierkante c</a:t>
            </a:r>
            <a:r>
              <a:rPr b="0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0 zweetklier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 ha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5 talgklier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0 cm </a:t>
            </a:r>
            <a:r>
              <a:rPr b="0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pilai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350 </a:t>
            </a:r>
            <a:r>
              <a:rPr b="0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m zenuw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0 zintuiglijke orgaan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weetproductie per dag:0,3-0,6 li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ngertoppen:1000 tastlichaampjes per c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pperhuid/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7" name="Picture 4" descr="hoornlaaag"/>
          <p:cNvPicPr/>
          <p:nvPr/>
        </p:nvPicPr>
        <p:blipFill>
          <a:blip r:embed="rId1"/>
          <a:stretch/>
        </p:blipFill>
        <p:spPr>
          <a:xfrm>
            <a:off x="1690560" y="2708280"/>
            <a:ext cx="5835600" cy="25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staat 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ornlaag ( dode cell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ldere 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rel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kelcellenlaa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iemlaag ( aanmaak van nieuwe hoorncell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ellen in de kiemlaag worden platter en gaan uitdrogen en de kern verdwij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uidskleur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paald door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in de opperh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wordt gemaakt door pigmentcellen in de kiemla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oor de zon worden de pigmentcellen geactivee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ierdoor meer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gem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el: bescherming van de huid/kiem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peenhoping pigmentcellen is een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moedervl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rmt klieren,haren en nag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geen bloedvaten en zenuw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dermis"/>
          <p:cNvPicPr/>
          <p:nvPr/>
        </p:nvPicPr>
        <p:blipFill>
          <a:blip r:embed="rId1"/>
          <a:stretch/>
        </p:blipFill>
        <p:spPr>
          <a:xfrm>
            <a:off x="4403880" y="2138400"/>
            <a:ext cx="4282920" cy="377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9:06:55Z</dcterms:created>
  <dc:creator>Bugel</dc:creator>
  <dc:description/>
  <dc:language>en-US</dc:language>
  <cp:lastModifiedBy>Johan</cp:lastModifiedBy>
  <dcterms:modified xsi:type="dcterms:W3CDTF">2013-09-16T09:13:02Z</dcterms:modified>
  <cp:revision>12</cp:revision>
  <dc:subject/>
  <dc:title>De huid</dc:title>
</cp:coreProperties>
</file>