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C7B0-2E23-4C16-A1C2-7B2F56EFF4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0AE1-6452-4ADB-B5B4-6FC9B64E3B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295-879B-42D2-A334-9E792D1D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C21-0A98-44B0-8DA6-CBCAD511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5FB-EFA9-4E43-A98E-D4403E3E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6C5-5E00-4F22-BBA1-42B78B62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0A5B-F680-42EF-B703-3088AE8C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D69E-F3AD-4762-92F0-ACD90A24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F43C-3AB7-4E7E-8545-7916530D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2639-AFEF-4B49-8A52-DB18E40F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E81A-4DB3-4BB6-9703-617A650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161-7E85-42C9-93A1-6C445DCB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BADD-E4D1-4115-8862-F373F02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C66-D9B7-4FB6-9291-BE0049A2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0505-540B-4DBE-98DE-42E6A1D3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358E-1F97-4AC0-B785-C28675C6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9806-8DE5-4E0B-8A7B-47771BAD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7358-8D56-48E3-A9D9-6A4714C0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D586-919A-48F8-87B0-36AE521D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EC1-656E-4D32-B61A-E67D5132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DF5-E9DE-4E1A-8145-9985D210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9AA-13F1-4468-B1BD-B8DD0BF2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D0E-1608-46AD-AD8F-3F2EDE8A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FDB-9FCC-49D1-9525-AB6DF78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C61-5942-4178-B727-CB00E651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144-140C-4E26-8940-53FB1D80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B3FA-2376-4669-90BB-EFBADE61FDE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D4F0-918A-4805-A1E7-3F9F36216B3E}" type="slidenum">
              <a:rPr b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le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Functie van deze sapp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zo klein maken van de moleculen , dat deze opgenomen kunnen worden in het 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de voedingsstoffen opgenomen zijn in het bloed, gaan deze eerst via de poortader naar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ze lichaamsvreemde stoffen omgezet in lichaamseigen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atomie spijsverteringskana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keelho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slok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ma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5.dar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6.dikke 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7.endel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8.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spijsvertereing 3"/>
          <p:cNvPicPr/>
          <p:nvPr/>
        </p:nvPicPr>
        <p:blipFill>
          <a:blip r:embed="rId1"/>
          <a:stretch/>
        </p:blipFill>
        <p:spPr>
          <a:xfrm>
            <a:off x="5238720" y="2054160"/>
            <a:ext cx="2857680" cy="384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o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len van het voed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engen met speeksel(1 -1.5 liter per d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 paar speekselk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voegen va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y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ong heeft smaakpapi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eelhol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reflex:de luchtweg naar de neus en luchtpijp is afgeslo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neus:zachtgehemelte e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luchtpijp:strottenkl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lok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nsport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istaltische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slokdarmtekst_350"/>
          <p:cNvPicPr/>
          <p:nvPr/>
        </p:nvPicPr>
        <p:blipFill>
          <a:blip r:embed="rId1"/>
          <a:stretch/>
        </p:blipFill>
        <p:spPr>
          <a:xfrm>
            <a:off x="4788000" y="2060640"/>
            <a:ext cx="309888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aa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ijdelijk reser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secretie maag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ingang:maagmond   (car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uitgang:maagportier (pylo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maag_350"/>
          <p:cNvPicPr/>
          <p:nvPr/>
        </p:nvPicPr>
        <p:blipFill>
          <a:blip r:embed="rId1"/>
          <a:stretch/>
        </p:blipFill>
        <p:spPr>
          <a:xfrm>
            <a:off x="5003640" y="2114640"/>
            <a:ext cx="2881440" cy="268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NL" sz="3600" spc="-1" strike="noStrike">
                <a:solidFill>
                  <a:srgbClr val="420000"/>
                </a:solidFill>
                <a:latin typeface="Times New Roman"/>
              </a:rPr>
              <a:t>Samenstelling maagsap                 (2 liter per dag)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slijm(bescherming van de maagw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zoutzuur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pepsine(eiwitafbrekend enzy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ylorusreflex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pylorus(maagportier)laat beetje bij beetje de maaginhoud toe tot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het basisch worden van de darminhoud gaat de pylorus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3" name="Picture 4" descr="dunne darm"/>
          <p:cNvPicPr/>
          <p:nvPr/>
        </p:nvPicPr>
        <p:blipFill>
          <a:blip r:embed="rId1"/>
          <a:stretch/>
        </p:blipFill>
        <p:spPr>
          <a:xfrm>
            <a:off x="2587680" y="1828800"/>
            <a:ext cx="397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waalfvingerige darm(duodenum)= ong.3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nuchtere darm(jejunum)= ong.2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kronkeldarm(ileum)= ong.3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12 vingerige"/>
          <p:cNvPicPr/>
          <p:nvPr/>
        </p:nvPicPr>
        <p:blipFill>
          <a:blip r:embed="rId1"/>
          <a:stretch/>
        </p:blipFill>
        <p:spPr>
          <a:xfrm>
            <a:off x="4859280" y="1974960"/>
            <a:ext cx="3673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Levend organism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t vocht en voe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voor is aanvulling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eten en drin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darm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psine(splitsing eiwitten tot aminozu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acharidasen(splitsing van suikers tot monosachari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-3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Twaalfvingerig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de alvleesklierbuis komen uit in de twaalfvingerige da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ats:papil van Vater(een spiertje zorgt er voor dat de darminhoud niet terug stroomt naar alvleesklier en galbla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alvleesklierbuis transporteren gal en alvleeskliersap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aakt in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slagen in de galblaas(vesica fell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uctus choledochus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0.75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HCO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zo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sto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kleurst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alvleesklier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lase(afbreken koolhydra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ipsyne(afbreken eiw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pase(afbreken v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triumbicarbonaat(NaHCO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lvleeskli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alvleesklier"/>
          <p:cNvPicPr/>
          <p:nvPr/>
        </p:nvPicPr>
        <p:blipFill>
          <a:blip r:embed="rId1"/>
          <a:stretch/>
        </p:blipFill>
        <p:spPr>
          <a:xfrm>
            <a:off x="4716360" y="1773360"/>
            <a:ext cx="3240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Officiele latijnse te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choledochu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gal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pancreaticus= alvleesklier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alvleesk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ductus pancreas"/>
          <p:cNvPicPr/>
          <p:nvPr/>
        </p:nvPicPr>
        <p:blipFill>
          <a:blip r:embed="rId1"/>
          <a:stretch/>
        </p:blipFill>
        <p:spPr>
          <a:xfrm>
            <a:off x="4788000" y="1994040"/>
            <a:ext cx="367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uchter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transporteren van de darminh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afbreken van de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meestal leeg bij een overledene(vandaar de na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ronkel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het belangrijkste deel van de spijsverteringskanaal.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de verteerde voedingsstoffen wor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armwand aan het blo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geg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hierdoor kan het lichaam de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stoffen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oorta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 het bloed met de opgenomen voedingsstoffen verzamelt zich in de poortader(vena porta) en gaat dan naar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 voedingsstoffen omgezet in stoffen die het lichaam kan gebrui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Zorgvragers vragen speciale aandacht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Moeten verantwoorde voeding krij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Hebben soms hulp hierbij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Bijhouden van de vochtba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Kans op ondervoeding/uitdro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poortad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Picture 4" descr="poortader=4"/>
          <p:cNvPicPr/>
          <p:nvPr/>
        </p:nvPicPr>
        <p:blipFill>
          <a:blip r:embed="rId1"/>
          <a:stretch/>
        </p:blipFill>
        <p:spPr>
          <a:xfrm>
            <a:off x="3381480" y="1828800"/>
            <a:ext cx="23810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lev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4" name="Picture 4" descr="Maag"/>
          <p:cNvPicPr/>
          <p:nvPr/>
        </p:nvPicPr>
        <p:blipFill>
          <a:blip r:embed="rId1"/>
          <a:stretch/>
        </p:blipFill>
        <p:spPr>
          <a:xfrm>
            <a:off x="2103480" y="1828800"/>
            <a:ext cx="4937040" cy="430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Overgang kronkeldarm–dikke dar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7" name="Picture 7" descr="overgang dikke darm"/>
          <p:cNvPicPr/>
          <p:nvPr/>
        </p:nvPicPr>
        <p:blipFill>
          <a:blip r:embed="rId1"/>
          <a:stretch/>
        </p:blipFill>
        <p:spPr>
          <a:xfrm>
            <a:off x="3059280" y="2265480"/>
            <a:ext cx="3282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 (Colon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t stuwen van de darm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kken van deze 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resorptie va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teren van onverteerbare re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vitamin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meth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10" descr="endeldarm"/>
          <p:cNvPicPr/>
          <p:nvPr/>
        </p:nvPicPr>
        <p:blipFill>
          <a:blip r:embed="rId1"/>
          <a:stretch/>
        </p:blipFill>
        <p:spPr>
          <a:xfrm>
            <a:off x="2333520" y="2052720"/>
            <a:ext cx="4649760" cy="40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Endeldarm(rectum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5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slagpla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er indikken van de ma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Colon2"/>
          <p:cNvPicPr/>
          <p:nvPr/>
        </p:nvPicPr>
        <p:blipFill>
          <a:blip r:embed="rId1"/>
          <a:stretch/>
        </p:blipFill>
        <p:spPr>
          <a:xfrm>
            <a:off x="4950000" y="2112840"/>
            <a:ext cx="3439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u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o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taat uit 2 sluitspieren(sfinc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98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98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98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98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98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98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efecatie pro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 rust is de rectumwand ontspannen en is de inwendige sluitspier aangespa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een bepaalde vullingsgraad van het rectum worden reksensoren geprik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inwendige sluitspier ontspant en tegelijkertijd spant zich de uitwendige sluits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 een geschikt moment kan defecatie plaats vi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steem van afbraak en opname van voedingsstoffen in ons 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armstelsel"/>
          <p:cNvPicPr/>
          <p:nvPr/>
        </p:nvPicPr>
        <p:blipFill>
          <a:blip r:embed="rId1"/>
          <a:stretch/>
        </p:blipFill>
        <p:spPr>
          <a:xfrm>
            <a:off x="5478480" y="2622600"/>
            <a:ext cx="23796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oodzakelijke voedingsstoff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koolhyd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v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eiw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5.vitam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6.miner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eschuit_40_kcal_2"/>
          <p:cNvPicPr/>
          <p:nvPr/>
        </p:nvPicPr>
        <p:blipFill>
          <a:blip r:embed="rId1"/>
          <a:stretch/>
        </p:blipFill>
        <p:spPr>
          <a:xfrm>
            <a:off x="472428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Noodzakelijke voedings en bouwstoffe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ouw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voor opbouw nieuwe cellen en 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inera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 (aminozu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n (co en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edings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als energieleveranc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olhyd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antal calorie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calorien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chijf van vij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schijfvvijf"/>
          <p:cNvPicPr/>
          <p:nvPr/>
        </p:nvPicPr>
        <p:blipFill>
          <a:blip r:embed="rId1"/>
          <a:stretch/>
        </p:blipFill>
        <p:spPr>
          <a:xfrm>
            <a:off x="2438280" y="1981080"/>
            <a:ext cx="4505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einer maken van de grote voedingsmolecu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het kleiner maken van deze moleculen produceert het lichaam een aantal sappen die dit proces volbre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g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rm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vleesklier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0:03:46Z</dcterms:created>
  <dc:creator> Bugel</dc:creator>
  <dc:description/>
  <dc:language>en-US</dc:language>
  <cp:lastModifiedBy>J.W.P. Bugel</cp:lastModifiedBy>
  <dcterms:modified xsi:type="dcterms:W3CDTF">2014-12-04T19:13:23Z</dcterms:modified>
  <cp:revision>18</cp:revision>
  <dc:subject/>
  <dc:title>Spijsvertering</dc:title>
</cp:coreProperties>
</file>