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A6A-1C07-44C6-81A7-EEEEA460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5A5-E63B-47C3-8E51-F8398F31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65D-39C9-4F66-84E0-1F9E4B66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9D7-4663-4593-93D9-FB0CCAED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B5BC-780F-4D0B-933E-0CC6601F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9588-CF70-4DB4-A67E-A506F723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B793-2D26-42C5-A332-CC96BA5B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7D5A-2BB2-46E4-BD05-28437A2A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0ED2-0246-4030-865D-DA48953C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BB3B-5EF9-47E6-BA20-AB00E15F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58A1-B809-4B3A-BB8E-E83703AD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ED5-6C45-459E-BFC0-DC608EDF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E8CB-E20F-40DF-8481-1B9B398B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F6E3-5D91-4859-9D35-1054760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52EB-020C-4980-B7E7-584A03B4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72C2-F356-47E8-A80F-0DD2DD8C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05EB-16C9-4ADF-9362-11EBC598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3EC-D82F-4D63-B5C5-8D115BE6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761-DE83-4D2E-B08B-104BF7FD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B1D-C10A-4A6B-BDDB-CE05C84A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DC7-FE49-48EB-9159-2C51316A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964-9A5B-4114-A1E0-020E508F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21A-C7C3-4E21-BD18-AD6CEF3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657-F23C-499E-B559-585CC7B3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604C-449E-4565-B417-ABAF3DAC9F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568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360" y="274464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7120" y="2642760"/>
                <a:ext cx="988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16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192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948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532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1D04-BC77-487A-A114-771C2A327A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3366"/>
                </a:solidFill>
                <a:latin typeface="Times New Roman"/>
              </a:rPr>
              <a:t>Spieren en spierstelsel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Tijdelijke aanduiding voor inhoud 3" descr="synaps_et_spier.jpg"/>
          <p:cNvPicPr/>
          <p:nvPr/>
        </p:nvPicPr>
        <p:blipFill>
          <a:blip r:embed="rId1"/>
          <a:stretch/>
        </p:blipFill>
        <p:spPr>
          <a:xfrm>
            <a:off x="2201760" y="225432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terkte van de spiercontract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Impulsfrequ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pier krijgt door de hoge frequentie geen tijd om zich te ont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gn stapeling van contra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Aantal motor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een grotere stimulus van uit de hersenen worden er  meer spieren ingez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lad spierweefs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geren t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al in de wand van org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Afbeelding 3" descr="gladspier.jpg"/>
          <p:cNvPicPr/>
          <p:nvPr/>
        </p:nvPicPr>
        <p:blipFill>
          <a:blip r:embed="rId1"/>
          <a:stretch/>
        </p:blipFill>
        <p:spPr>
          <a:xfrm>
            <a:off x="5214960" y="4381560"/>
            <a:ext cx="2428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Hart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 hiervan lijkt op dat van het dwarsgestreepte spierweef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3" descr="hartspier.jpg"/>
          <p:cNvPicPr/>
          <p:nvPr/>
        </p:nvPicPr>
        <p:blipFill>
          <a:blip r:embed="rId1"/>
          <a:stretch/>
        </p:blipFill>
        <p:spPr>
          <a:xfrm>
            <a:off x="5000760" y="378612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ynerg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der spieren die 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boven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ekspieren van de 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de b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spieren die met elkaar een beweging mogelij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ene spier aanspant,ontspant de ander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b: biceps en t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2 spieren zorgen voor de buiging en strekking van de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e bekendste 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:\Documents and Settings\bugelj\Mijn documenten\Mijn afbeeldingen\spiers34.jpg"/>
          <p:cNvPicPr/>
          <p:nvPr/>
        </p:nvPicPr>
        <p:blipFill>
          <a:blip r:embed="rId1"/>
          <a:stretch/>
        </p:blipFill>
        <p:spPr>
          <a:xfrm>
            <a:off x="838080" y="1905120"/>
            <a:ext cx="2724120" cy="40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:\Documents and Settings\bugelj\Mijn documenten\Mijn afbeeldingen\spieren2.jpg"/>
          <p:cNvPicPr/>
          <p:nvPr/>
        </p:nvPicPr>
        <p:blipFill>
          <a:blip r:embed="rId2"/>
          <a:stretch/>
        </p:blipFill>
        <p:spPr>
          <a:xfrm>
            <a:off x="3500280" y="1857240"/>
            <a:ext cx="4086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spanning/ton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rust heeft lichaam een bepaalde spier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t voor de handhav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spasticiteit is de rusttonus te 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erme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lys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niet bewust kunnen aansp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wel kunnen aanspannen,maar geen k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a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hyper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atrof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Tijdelijke aanduiding voor inhoud 3" descr="spieratrofie.jpg"/>
          <p:cNvPicPr/>
          <p:nvPr/>
        </p:nvPicPr>
        <p:blipFill>
          <a:blip r:embed="rId1"/>
          <a:stretch/>
        </p:blipFill>
        <p:spPr>
          <a:xfrm>
            <a:off x="1928880" y="2071800"/>
            <a:ext cx="2500200" cy="1919160"/>
          </a:xfrm>
          <a:prstGeom prst="rect">
            <a:avLst/>
          </a:prstGeom>
          <a:ln w="0">
            <a:noFill/>
          </a:ln>
        </p:spPr>
      </p:pic>
      <p:pic>
        <p:nvPicPr>
          <p:cNvPr id="172" name="Afbeelding 4" descr="spieratrofie1.jpg"/>
          <p:cNvPicPr/>
          <p:nvPr/>
        </p:nvPicPr>
        <p:blipFill>
          <a:blip r:embed="rId2"/>
          <a:stretch/>
        </p:blipFill>
        <p:spPr>
          <a:xfrm>
            <a:off x="5500800" y="264312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aak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ndhoud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bewe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erming  botten en inge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en van de 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verzicht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D:\Documents and Settings\bugelj\Mijn documenten\Mijn afbeeldingen\spieren.jpg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en kunnen maar 2 ding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lles of niets reg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beweging ontstaat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wisselend aanspannen en ontspannen van de sp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oorten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warsgestreept/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s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mo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d/on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in de org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za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rmoei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ur lijkt op dat van dwarsgestre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glad spierweef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een skelet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en aan het bot vast dmv een p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 beweging mogelijk door contra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llekeurig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activeerd door een motorische zen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zenuw komt vanuit de hers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Tijdelijke aanduiding voor inhoud 3" descr="spiee.jpg"/>
          <p:cNvPicPr/>
          <p:nvPr/>
        </p:nvPicPr>
        <p:blipFill>
          <a:blip r:embed="rId1"/>
          <a:stretch/>
        </p:blipFill>
        <p:spPr>
          <a:xfrm>
            <a:off x="1403280" y="2708280"/>
            <a:ext cx="2306880" cy="2306520"/>
          </a:xfrm>
          <a:prstGeom prst="rect">
            <a:avLst/>
          </a:prstGeom>
          <a:ln w="0">
            <a:noFill/>
          </a:ln>
        </p:spPr>
      </p:pic>
      <p:pic>
        <p:nvPicPr>
          <p:cNvPr id="140" name="Afbeelding 3" descr="dwarsgestreep.jpg"/>
          <p:cNvPicPr/>
          <p:nvPr/>
        </p:nvPicPr>
        <p:blipFill>
          <a:blip r:embed="rId2"/>
          <a:stretch/>
        </p:blipFill>
        <p:spPr>
          <a:xfrm>
            <a:off x="4356000" y="2781360"/>
            <a:ext cx="30322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pbouw van de 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vez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bu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geven door bindweef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omgeven door een bindweefselv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fas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ezels van de fascie komen uit in de pees,die de spier verbindt met het 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Afbeelding 3" descr="spier1.jpg"/>
          <p:cNvPicPr/>
          <p:nvPr/>
        </p:nvPicPr>
        <p:blipFill>
          <a:blip r:embed="rId1"/>
          <a:stretch/>
        </p:blipFill>
        <p:spPr>
          <a:xfrm>
            <a:off x="6443640" y="1341360"/>
            <a:ext cx="21495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Tijdelijke aanduiding voor inhoud 3" descr="spier.jpg"/>
          <p:cNvPicPr/>
          <p:nvPr/>
        </p:nvPicPr>
        <p:blipFill>
          <a:blip r:embed="rId1"/>
          <a:stretch/>
        </p:blipFill>
        <p:spPr>
          <a:xfrm>
            <a:off x="2509920" y="2065320"/>
            <a:ext cx="5086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 bestaat uit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torische zen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motorische zenuw aan gestuurde spiervez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rootte van de mototische unit  vari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laats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d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en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9:23:09Z</dcterms:created>
  <dc:creator>custom</dc:creator>
  <dc:description/>
  <dc:language>en-US</dc:language>
  <cp:lastModifiedBy>J.W.P. Bugel</cp:lastModifiedBy>
  <dcterms:modified xsi:type="dcterms:W3CDTF">2012-03-22T10:34:41Z</dcterms:modified>
  <cp:revision>13</cp:revision>
  <dc:subject/>
  <dc:title>Spieren en spierstelsel</dc:title>
</cp:coreProperties>
</file>