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1F6E-E080-42CB-937F-12F9322C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2A4-503D-44FC-B6B1-798E2A8D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32FE-052E-493D-A15A-1C0F160A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39A-2F35-458F-8EDA-8BF54ADF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36720-BB17-4D68-8F35-B5B2E190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AD5E3-D51F-4765-8773-D712D334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90C74-DD7B-4F8A-BD27-8664AABE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6E26F-8E2B-462B-AC06-F9A7680C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CE9DB-508F-417A-A636-97A20071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4FB23-FEC3-4591-9171-D342B5F3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53AE8-7787-44C9-B6FE-26BC1725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54B-9B48-4F9D-B079-754E6953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4AC0A-6FDB-48C5-9158-31C16EFE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89820-6FAE-42E5-ABD1-5B22A373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4BB52-8E87-44F2-B36F-7B407100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175C1-568E-4B78-AEA1-23BB1224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26819-3225-44A4-8CC3-F8128DBE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37297-7B24-42E2-9DB1-FAB354F0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3FB90-939A-44F1-BA44-C3FB02C0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AD3BB-1005-4B02-BB12-77B94CCA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3FE75-8EBD-486F-8D49-B91D129C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88398-6615-4E59-84EB-64B53472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0C2-EE11-47D4-88CB-6D0CE1D8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8F010-ABD4-420B-A9BA-38974190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FAEC4-CB7A-4FC1-8B73-E9CF926E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63DDF-AB28-4C55-A3CB-180725C5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40290-8B80-4E04-B782-6A6A3319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0B324-8C71-4E52-AD34-049AC448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7079D-E458-4300-9D5F-03CFE55D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C1D1A-EACD-4627-88E2-52A689DE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322F4-4494-4CE6-A179-9187D2B9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0A7BB-B205-498C-BC68-8656B73A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C7CC5-2394-46B2-AA45-1FE50D64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1054-BF2D-4C76-AAF7-D55E2712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2D4F2-2FF3-411C-A85D-D0BDEBD3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78256-0B32-45FE-9774-63047AEF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FA571-C60D-4A21-BFAC-33401C0C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6C833-225E-4F24-A9DA-453D37F2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AA433-AC87-4916-9C62-BA895FBD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79F12-A934-4D3B-86D2-2987328C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AED29-04A4-4D79-9972-16998F65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02C2C-1EAB-4FED-B788-2BC1DB5C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51BFE-9AFD-4F77-9397-71C1381F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86470-82C0-4800-A838-38078185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EE13-8C4A-43D0-BFA6-60FF15D0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A6AF0-0ABC-48C1-96AE-A5EDC377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2FD8A-B52D-4252-B158-421F1B4C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517FE-A074-4753-B44B-B42472AF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C09F9-55D4-4CC4-98C2-373FCB5D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FD0CB-393A-4936-9B95-5E2B7D50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88721-429A-41A2-A713-41B7C7C6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FD1F1-B0CC-463D-956A-512225A2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03930-9A8F-4AF1-98C3-95622223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DDC28-AF17-438F-BAF8-D22F8D57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FEC95-F937-4C49-A80F-1221C64E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DEEE-E4BC-4105-A151-E1839C39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43B10-7208-434F-9A97-A0DC7DF7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00DF9-F3C5-4D81-84D3-A2F5114D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1705F-0416-41B7-8CE3-BF2D0ED3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5636E-F9C4-4349-A317-4CE30600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EAA07-D456-4DB8-B044-C217A010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F5164-06C4-49FC-AC45-625DBA54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59B79-C69F-4F0E-A4CF-A5629D8A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8F86E-77C5-450E-AF97-4A8910D0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AC8C9-E753-41C9-884E-B9F8AA1C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1B849-D897-40CA-AECA-597A92D0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62F-141F-4E7D-B4E0-15802605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6A87D-525D-4D5D-86A5-0C0B1D10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76781-DD88-456D-931C-2DF2D264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B0A57-90C2-49AD-9CA2-628F979F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3639D-721D-461F-AD64-8128EEA0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EF551-FE39-44D1-B97B-B9BAB6AC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55693-D2D7-4A80-96C1-8EDD086B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CE959-A4EE-4044-A4B1-F13D8943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51BA1-A696-4147-A6F6-763381F0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A096A-F99E-4315-8356-111ED67A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C114B-398D-4E3A-B387-64A5AADF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EA8-761C-4B3F-99C1-D8671A2B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440D0-7D4B-4455-B735-B9D6071A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47899-650F-4154-BE0E-97325E18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FF1E4-4E97-4F0E-AAAC-E5530BB2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5236F-29EE-4BE6-BF29-86526844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9A79C-677D-4BE9-8BDB-E8BD6C2B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F38-71B1-44CE-996D-49C75BE6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F253-5DBC-4D5B-8F3F-E20D071B34ED}" type="slidenum"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7964-DAA6-4351-9892-B52A82D15C97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7D4F-1DF7-4D2E-96F2-C29429561DB4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0CD8-5353-4500-8A39-69093FD4DA89}" type="slidenum"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F38E-DA9D-436F-958F-8801B1895FC4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04F4-F99D-4C90-9880-93A2919E1505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8AA0-E195-43F1-9C85-00B2572FFD59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_tfic_F_04g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ioTaOhGD-OQ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College anatomie/fysiologie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Basisjaar V&amp;V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2" name="Rectangle 24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ZINTUIGEN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4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INDE VLEK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36" name="Picture 4" descr="blinde vlek"/>
          <p:cNvPicPr/>
          <p:nvPr/>
        </p:nvPicPr>
        <p:blipFill>
          <a:blip r:embed="rId1"/>
          <a:stretch/>
        </p:blipFill>
        <p:spPr>
          <a:xfrm>
            <a:off x="685800" y="2209680"/>
            <a:ext cx="4038480" cy="3713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AnatomieOog"/>
          <p:cNvPicPr/>
          <p:nvPr/>
        </p:nvPicPr>
        <p:blipFill>
          <a:blip r:embed="rId2"/>
          <a:stretch/>
        </p:blipFill>
        <p:spPr>
          <a:xfrm>
            <a:off x="4267080" y="2666880"/>
            <a:ext cx="44020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s de opening in 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Kan zich groter en kleiner maken dmv lengtespiertjes in 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Groter bij minder lich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leiner bij veel lich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s een reflex (is dus een onwillekeurige spier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PUPI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zich platter of boller maken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Platter voor veraf zi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oller voor dichtbij zi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ACHTER DE PUPIL ZIT DE OOGLEN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44" name="Picture 4" descr="AnatomieOog"/>
          <p:cNvPicPr/>
          <p:nvPr/>
        </p:nvPicPr>
        <p:blipFill>
          <a:blip r:embed="rId1"/>
          <a:stretch/>
        </p:blipFill>
        <p:spPr>
          <a:xfrm>
            <a:off x="4572000" y="3048120"/>
            <a:ext cx="45720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eraf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Platte lens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Kost niet veel energie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Dichtbij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Bolle lens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Kost meer energie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Rond de ooglens zit  een kringspier die de lens boller of platter kan maken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Bij het ouder worden gaat dat steeds moeilijker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Remedie: Leesbril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6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OOGLEN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gleden-bescherm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gspieren(6)-zorgen voor beweging van het oo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raanklier-bacteriedodend/bevochtig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Wenkbrauwen-opvangen stof en voch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ULPORGANEN VAN 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27944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cc9900"/>
                </a:solidFill>
                <a:uFillTx/>
                <a:latin typeface="Franklin Gothic Medium"/>
                <a:hlinkClick r:id="rId1"/>
              </a:rPr>
              <a:t>https://www.youtube.com/watch?v=_tfic_F_04g</a:t>
            </a:r>
            <a:endParaRPr b="0" lang="en-US" sz="1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FILMPJ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3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Witte staar is een afwijking van de lens.Het is een vertroebelde len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Is te verhelp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WITTE /GRIJZE STAA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57" name="Picture 4" descr="staar"/>
          <p:cNvPicPr/>
          <p:nvPr/>
        </p:nvPicPr>
        <p:blipFill>
          <a:blip r:embed="rId1"/>
          <a:stretch/>
        </p:blipFill>
        <p:spPr>
          <a:xfrm>
            <a:off x="2743200" y="3581280"/>
            <a:ext cx="51166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eveel oogkamervoch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ierdoor te hoge druk op het ne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ierdoor slechter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leiden tot blindhei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Remedie:toedienen van oogdruppels waardoor de druk afneemt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GROENE STAAR/GLAUCOOM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ROENE STAA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64" name="Picture 1028" descr="glaucoom"/>
          <p:cNvPicPr/>
          <p:nvPr/>
        </p:nvPicPr>
        <p:blipFill>
          <a:blip r:embed="rId1"/>
          <a:stretch/>
        </p:blipFill>
        <p:spPr>
          <a:xfrm>
            <a:off x="2133720" y="1676520"/>
            <a:ext cx="4724280" cy="39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Uitwendig 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opva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Midden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geleid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Binnen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verwerk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ZINTUIG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07" name="Picture 4" descr="zintuigen"/>
          <p:cNvPicPr/>
          <p:nvPr/>
        </p:nvPicPr>
        <p:blipFill>
          <a:blip r:embed="rId1"/>
          <a:stretch/>
        </p:blipFill>
        <p:spPr>
          <a:xfrm>
            <a:off x="2286000" y="2514600"/>
            <a:ext cx="46292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Geluidsgolv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Zijn schommelingen in de luchtdruk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Hebben een snelheid van 330 m/sec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Gaan in alle richting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ffff"/>
                </a:solidFill>
                <a:latin typeface="Franklin Gothic Medium"/>
              </a:rPr>
              <a:t>ADEQUATE PRIKKEL VOOR HET GEHOORORGAAN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74" name="Picture 4" descr="oor1"/>
          <p:cNvPicPr/>
          <p:nvPr/>
        </p:nvPicPr>
        <p:blipFill>
          <a:blip r:embed="rId1"/>
          <a:stretch/>
        </p:blipFill>
        <p:spPr>
          <a:xfrm>
            <a:off x="1905120" y="2057400"/>
            <a:ext cx="518148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78" name="Picture 4" descr="oor"/>
          <p:cNvPicPr/>
          <p:nvPr/>
        </p:nvPicPr>
        <p:blipFill>
          <a:blip r:embed="rId1"/>
          <a:stretch/>
        </p:blipFill>
        <p:spPr>
          <a:xfrm>
            <a:off x="971640" y="1700280"/>
            <a:ext cx="72723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rschelp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Uitwendige gehoorga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2.5 cm lang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rommel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De hamer (het eerste middenoorbeentje) zit aan het trommelvlies vas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0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UITWENDIG 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Middenoorbeent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Hame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Aambeel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Stijgbeugel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Brengen de geluidsgolven over van het trommelvlies op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ersterken het geluid 20 x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3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MIDDEN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ormt de verbinding tussen het middenoor en de keelholte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oornaamste taak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uchtdruk aan weerszijden van het trommelvlies gelijk mak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Kans op middenoorontstek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6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BUIS VAN EUSTACHIU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jdelijke aanduiding voor inhoud 4" descr="buis van.jpg"/>
          <p:cNvPicPr/>
          <p:nvPr/>
        </p:nvPicPr>
        <p:blipFill>
          <a:blip r:embed="rId1"/>
          <a:stretch/>
        </p:blipFill>
        <p:spPr>
          <a:xfrm>
            <a:off x="2308320" y="2236680"/>
            <a:ext cx="4552920" cy="3372120"/>
          </a:xfrm>
          <a:prstGeom prst="rect">
            <a:avLst/>
          </a:prstGeom>
          <a:ln w="0">
            <a:noFill/>
          </a:ln>
        </p:spPr>
      </p:pic>
      <p:sp>
        <p:nvSpPr>
          <p:cNvPr id="38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BUIS VAN EUSTACHIU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lakkenhuis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Omzetting van geluidsgolven in elektrische impulsen</a:t>
            </a: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3 halfvormige kanalen + voorhof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Rotatiezintuig en evenwichtsorgaa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INNENOOR/LABYRIN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mzetting van geluidsgolven in zenuwimpuls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tijgbeugel grenst aan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et ovale venster is het begin van het slakkenhu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8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00" name="Picture 4" descr="slakkenhuis"/>
          <p:cNvPicPr/>
          <p:nvPr/>
        </p:nvPicPr>
        <p:blipFill>
          <a:blip r:embed="rId1"/>
          <a:stretch/>
        </p:blipFill>
        <p:spPr>
          <a:xfrm>
            <a:off x="1619280" y="1844640"/>
            <a:ext cx="6037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lgemeen: Zorgen voor contact met de buitenwerel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Factoren die een rol hierbij spel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De zintuigcel is slechts gevoelig voor bepaalde prikkel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De zintuigcel kan niet alles waarnem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Je kunt de aandacht van de zintuigen stur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Bij uitval nemen andere zintuigen taken gedeeltelijk ove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TAAK VAN DE ZINTUIG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0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Opgerolde buis gevuld met vloeistof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Deze vloeistof beweegt door de bewegingen van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n het slakkenhuis zitten zintuigcellen, die bewegingen van de vloeistof omzetten in elektrische impulsen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ia de gehoorzenuw gaan deze impulsen naar de hersen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2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WERKING 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4" name="Rechthoek 1"/>
          <p:cNvSpPr/>
          <p:nvPr/>
        </p:nvSpPr>
        <p:spPr>
          <a:xfrm>
            <a:off x="2700360" y="4869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https://www.youtube.com/watch?v=ioTaOhGD-O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hof=evenwichtszintu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3 halfvormige kanalen=rotatiezintu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Franklin Gothic Medium"/>
              </a:rPr>
              <a:t>EVENWICHTSORGAAN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08" name="Picture 4" descr="evenwichtsorgaan"/>
          <p:cNvPicPr/>
          <p:nvPr/>
        </p:nvPicPr>
        <p:blipFill>
          <a:blip r:embed="rId1"/>
          <a:stretch/>
        </p:blipFill>
        <p:spPr>
          <a:xfrm>
            <a:off x="762120" y="3429000"/>
            <a:ext cx="3276360" cy="2978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evenwicht"/>
          <p:cNvPicPr/>
          <p:nvPr/>
        </p:nvPicPr>
        <p:blipFill>
          <a:blip r:embed="rId2"/>
          <a:stretch/>
        </p:blipFill>
        <p:spPr>
          <a:xfrm>
            <a:off x="5486400" y="3505320"/>
            <a:ext cx="24382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roen=zoe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aars=zuu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Blauw=zou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Rood=bit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1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ROEV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13" name="Picture 4" descr="tong"/>
          <p:cNvPicPr/>
          <p:nvPr/>
        </p:nvPicPr>
        <p:blipFill>
          <a:blip r:embed="rId1"/>
          <a:stretch/>
        </p:blipFill>
        <p:spPr>
          <a:xfrm>
            <a:off x="5105520" y="1905120"/>
            <a:ext cx="33652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17" name="Picture 4" descr="neus2"/>
          <p:cNvPicPr/>
          <p:nvPr/>
        </p:nvPicPr>
        <p:blipFill>
          <a:blip r:embed="rId1"/>
          <a:stretch/>
        </p:blipFill>
        <p:spPr>
          <a:xfrm>
            <a:off x="1905120" y="1981080"/>
            <a:ext cx="495288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alleen maar via de neus in het reukslijmvlies.Dit ligt boven in linker en rechter neusholte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asvormige stoff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Neus is erg gevoel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reacties oproep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rak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Productie speeksel of maagsap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/PROEV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24" name="Picture 4" descr="neusmond zintuig"/>
          <p:cNvPicPr/>
          <p:nvPr/>
        </p:nvPicPr>
        <p:blipFill>
          <a:blip r:embed="rId1"/>
          <a:stretch/>
        </p:blipFill>
        <p:spPr>
          <a:xfrm>
            <a:off x="1143000" y="1981080"/>
            <a:ext cx="6858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Zie lessen verplaatsingstechnieken en college Hui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AS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Lens minder elastisch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Arcus senilis=afzetting van cholesterol in het hoornvlie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Degeneratie van het netvlies= afname van kegeltjes op de gele vlek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Groene staar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Witte /grijze staar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ffff"/>
                </a:solidFill>
                <a:latin typeface="Franklin Gothic Medium"/>
              </a:rPr>
              <a:t>OUDERDOMSVERSCHIJNSELEN VAN HET OOGZINTUIG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Geleidingsstoorn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Oorsmeerprop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Gaatjes in het trommelvlie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Afwijking van de gehoorbeentje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Middenoorontsteking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Pus in het middenoor.Geeft druk op het trommelvlies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EHOORSTOORNISS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Waarnemingsstoorn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Ouderdomsslechthorendhei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Gehoorcellen in het slakkenhuis gaan in functie achteruit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Beschadiging gehoorzenuw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Beschadiging gehoorcentrum hersenen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awaai doofhei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Gehoorcellen zijn onherstelbaar beschadigd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-eenmalig(ontploffing)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-langdurig(harde muziek of werklawaai)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EHOORSTOORNISS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Harde oog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aa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Pupi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Ne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Ooglen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Hulporganen van het oo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fname evenwichtszi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angere gewenning na veranderen van positie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fname reuk en smaakzi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waliteitsverlies van het lev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an gevaarlijk zijn(reukverlies)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8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OUDERDOMSVERSCHIJNSEL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17" name="Picture 1028" descr="AnatomieOog"/>
          <p:cNvPicPr/>
          <p:nvPr/>
        </p:nvPicPr>
        <p:blipFill>
          <a:blip r:embed="rId1"/>
          <a:stretch/>
        </p:blipFill>
        <p:spPr>
          <a:xfrm>
            <a:off x="1676520" y="1905120"/>
            <a:ext cx="63658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Wit en hard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Voorkant is het hoornvlies/doorzichtig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Geeft stevigheid en bescherming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ARDE OOG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1" name="Picture 4" descr="AnatomieOog"/>
          <p:cNvPicPr/>
          <p:nvPr/>
        </p:nvPicPr>
        <p:blipFill>
          <a:blip r:embed="rId1"/>
          <a:stretch/>
        </p:blipFill>
        <p:spPr>
          <a:xfrm>
            <a:off x="3962520" y="3882960"/>
            <a:ext cx="35812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ziet het oog van bloe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eel bloedvat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kant is iris/regenboog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at in iris=pupi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3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VAAT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5" name="Picture 4" descr="AnatomieOog"/>
          <p:cNvPicPr/>
          <p:nvPr/>
        </p:nvPicPr>
        <p:blipFill>
          <a:blip r:embed="rId1"/>
          <a:stretch/>
        </p:blipFill>
        <p:spPr>
          <a:xfrm>
            <a:off x="4038480" y="3657600"/>
            <a:ext cx="37162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n de iris zitten kleurstoffen. Deze geven de kleur aan je iris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Een albino heeft deze kleurstoffen niet. Dus een ro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7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IRIS EN PUPI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9" name="Picture 4" descr="iris"/>
          <p:cNvPicPr/>
          <p:nvPr/>
        </p:nvPicPr>
        <p:blipFill>
          <a:blip r:embed="rId1"/>
          <a:stretch/>
        </p:blipFill>
        <p:spPr>
          <a:xfrm>
            <a:off x="5219640" y="3933720"/>
            <a:ext cx="289584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ele dunne laag ( ong 0,2 mm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125 miljoen staaf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Zien zwart/wit 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7 miljoen kegelt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Zien kleu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Gele vlek is meest lichtgevoelige plek met alleen kegeltje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linde vlek is de plek waar de </a:t>
            </a:r>
            <a:r>
              <a:rPr b="0" lang="en-US" sz="1800" spc="-1" strike="noStrike">
                <a:solidFill>
                  <a:srgbClr val="ff0000"/>
                </a:solidFill>
                <a:latin typeface="Franklin Gothic Medium"/>
              </a:rPr>
              <a:t>oogzenuw </a:t>
            </a: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het oog verlaat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1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NET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8:11:34Z</dcterms:created>
  <dc:creator>BugelJ</dc:creator>
  <dc:description/>
  <dc:language>en-US</dc:language>
  <cp:lastModifiedBy>J.W.P. Bugel</cp:lastModifiedBy>
  <dcterms:modified xsi:type="dcterms:W3CDTF">2016-02-24T10:35:46Z</dcterms:modified>
  <cp:revision>25</cp:revision>
  <dc:subject/>
  <dc:title>Zintuigen</dc:title>
</cp:coreProperties>
</file>