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CBC-114D-4E0A-8AA5-9F03F16B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F00-C747-4BFF-9E12-9BD46EFF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D30-31D7-491E-83B2-B175F286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8CB-F19E-480F-890C-FAEB3C33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023E-2309-4777-996A-CFD18A32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25C0-6AD8-45A4-828C-6D66994C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6D03-C03D-49A6-8C4A-FB0FCE95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1A16-36C1-4100-8BBD-7AF75479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12BF-6108-4147-9E1C-1C1517D0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C52D-9EBB-4F5A-BA5D-314C3B30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54DA-2359-4934-8728-143100F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786-4E57-4214-9BB2-D8B57722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D1CE-5416-4055-92BD-0E9E17F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266D-4217-482D-83DB-CFADB56C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574C-92B9-44FF-9E6A-9FE4317A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EE26-85E6-4EA9-9177-CBFACF02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3C8F-6C44-421A-B17A-355E29B9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2F2-15A5-4AC5-AC8B-A055F157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898-EDDE-457B-BE4A-CAA866E1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69E-677B-4D13-9DC9-CACD2C04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A47-A7E5-4632-B15E-330B9ED1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261-6053-4CED-82A2-BF05D0B3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30B-59E4-4F76-A766-28FF6522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47C-60AC-4769-8E07-E6FFBE9D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3040-B6F1-4459-866E-7051B723756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69A0-DF3B-4840-B1F3-6811763F709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Vrouwelijke en mannelijke geslachtsorga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in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uit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ust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en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bij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laas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ro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klieren van Cow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6" descr="prostaat"/>
          <p:cNvPicPr/>
          <p:nvPr/>
        </p:nvPicPr>
        <p:blipFill>
          <a:blip r:embed="rId1"/>
          <a:stretch/>
        </p:blipFill>
        <p:spPr>
          <a:xfrm>
            <a:off x="1795320" y="1600200"/>
            <a:ext cx="555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en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rinebuis(ureth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ellichamen(2 bovenste en 1 onders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sexuele prikkels neemt de bloedtoevoer toe en de bloedafvoer 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erdoor een erectie van de p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de verwijding van het onderste zwel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hu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en losse huidploo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 terug geschov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 weggehaald(besnijdenis/circumsic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ballen(test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in een huidplooi(scrot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angen aan de zaadstre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testoste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ontwikkeling van secundaire geslachtskenmerken(zie blz 47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productie van zaadcellen en prostaat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aanmaak van spiermas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jballen(epididymi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achter de 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en voor de verdere rijping van de in de zaadballen gevormde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en opslagruimte voor zaadcel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adcellen zijn 3 weken te bewa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leiders en zaadblaas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leider is de verbinding tussen bijbal en urinebuis en zorgt voor het transport van de zaadc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blaasjes produceren zaadvloeistof voor de voeding van de zaadcellen en deze vloeistof komt uit in de zaadle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erma bestaat voor 99% uit zaadvloeistof en voor 1% uit zaadcellen(spermatozöi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ste deel van spermavloeistof wordt gemaakt do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aadblaasjes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eren van Cowper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wtgrote klieren die een dik en kleverig slijm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jm is basisch en neutraliseert het zure milieu van de plasb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Picture 4" descr="ProstaatvergrotingPlaatje"/>
          <p:cNvPicPr/>
          <p:nvPr/>
        </p:nvPicPr>
        <p:blipFill>
          <a:blip r:embed="rId1"/>
          <a:stretch/>
        </p:blipFill>
        <p:spPr>
          <a:xfrm>
            <a:off x="2700360" y="1822320"/>
            <a:ext cx="4103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t rondom het 1e gedeelte van de urinebu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groot als een kast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de producent van zaadvloeist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vergro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s op vergroting bij alle m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unnen zich problemen voor doen bi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s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aadlo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ka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de nr 2 op de lijst van tumoren bij ma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al na je 50e j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roeit langza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umor-beperkt-tot-prostaat"/>
          <p:cNvPicPr/>
          <p:nvPr/>
        </p:nvPicPr>
        <p:blipFill>
          <a:blip r:embed="rId1"/>
          <a:stretch/>
        </p:blipFill>
        <p:spPr>
          <a:xfrm>
            <a:off x="4140360" y="2421000"/>
            <a:ext cx="5003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br>
              <a:rPr sz="4200"/>
            </a:br>
            <a:br>
              <a:rPr sz="4200"/>
            </a:b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wendi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ersto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le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aarmoe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4" descr="poster impotentie"/>
          <p:cNvPicPr/>
          <p:nvPr/>
        </p:nvPicPr>
        <p:blipFill>
          <a:blip r:embed="rId1"/>
          <a:stretch/>
        </p:blipFill>
        <p:spPr>
          <a:xfrm>
            <a:off x="3459240" y="1844640"/>
            <a:ext cx="24415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het onvermogen om een erectie te krijgen of te handha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medicatie(bv morf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giftiging(bv alcohol/drugs/nicot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andering van de hormoonhuishou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der testoster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erdoor vaak een afname van de geslachts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Oplossing???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Viagra"/>
          <p:cNvPicPr/>
          <p:nvPr/>
        </p:nvPicPr>
        <p:blipFill>
          <a:blip r:embed="rId1"/>
          <a:stretch/>
        </p:blipFill>
        <p:spPr>
          <a:xfrm>
            <a:off x="3071880" y="1770120"/>
            <a:ext cx="300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vrouwgeslachts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erstokken(ovari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ing:in de buik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mandelvorm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5-4.5 cm lang en 1- 2 cm br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ontwikkeling van een maandelijkse eicel en de geslachtshormo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leider (tuba uterin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de verbinding tussen eierstok en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ongeveer 10 cm 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gt als het ware het eitje op en zorgt voor vervoer naar de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 vindt de conceptie pla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vruchte eicel verplaatst zich naar de baarmoeder(doet daar 5 dagen o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t bevruchte cel  wordt afgevoerd door de eileiderwand h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aarmoeder (uteru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vorm van een omgekeerde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 cm bij 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vruchte cel nestelt zich in de baarmoeder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hele baarmoeder is meestal naar voren gebogen en ligt hierdoor op de urinebl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te deel van de baarmoeder is de baarmoederhals (cervix) en steekt uit in het achterste gedeelte van de v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lte in de baarmoederhals noem je het cervix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 boek blz 4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ag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kanaal van ong. 8 cm en is verbinding tussen baarmoeder en buiten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paringsorg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eft een lage ph waarde(is zuu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omt van de melkzuur, afgescheiden door de Döderlein-bacil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waarde geeft bescherming tegen infec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funest voor zaadcellen(zijn neutraal/alkali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wendig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t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amheu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s7_vulva"/>
          <p:cNvPicPr/>
          <p:nvPr/>
        </p:nvPicPr>
        <p:blipFill>
          <a:blip r:embed="rId1"/>
          <a:stretch/>
        </p:blipFill>
        <p:spPr>
          <a:xfrm>
            <a:off x="4572000" y="2590920"/>
            <a:ext cx="4572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ul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schaamlippen (labia maj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behaarde,dikke huidploo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vatten veel onderhuidsvetweefsel en kl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nusheuvel (mons vene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dikking aan voorkant vu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e schaamlippen (labis min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ggen binnen de grote schaam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hof (vestibul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denvlies sluit voorhof gedeeltelijk of geheel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ttelaar (clito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er dicht bezet met sens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08:11Z</dcterms:created>
  <dc:creator>custom</dc:creator>
  <dc:description/>
  <dc:language>en-US</dc:language>
  <cp:lastModifiedBy>J.W.P. Bugel</cp:lastModifiedBy>
  <dcterms:modified xsi:type="dcterms:W3CDTF">2015-05-29T07:37:21Z</dcterms:modified>
  <cp:revision>13</cp:revision>
  <dc:subject/>
  <dc:title>Vrouwelijke en mannelijke geslachtsorganen</dc:title>
</cp:coreProperties>
</file>