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AA6-58B1-435A-88CF-8C2D0F54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425-EE8C-4187-9D78-5F9378EE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C986-7ACE-4552-AABF-32EA4575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C4A-1081-4D22-BE56-FE2A50A4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2A7E-C3AF-44DD-A2CD-D0967554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C13C-D8D3-4FF7-A91B-4B99D3C6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C723-2C4C-4C7B-B0C0-5451F805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31FF-99C7-41D0-A3AB-888E1515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A33A-594A-42B0-B2D1-13859BB3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8AB9-1A84-4BF5-8FA0-C227D157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CAC5-C071-4E59-88A6-E23D6D27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1DD-6B56-4F69-A584-BE58AD9A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1D4E-8629-40D7-8B5D-EC1A204C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9C00-401F-4E32-AB57-F20D4A96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31DA-2776-48C6-A99F-B83942A0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6604-8AF7-4C79-A915-E5D6C8F7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E1FC-9004-48CD-AA7A-3D7A232A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087A-5680-43D8-81BE-BF969016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3AD9-DBA2-4C12-8D6F-EF7A066B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376-8A0D-4AA8-BB7B-FE8721FD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500-7137-474E-BB7A-94B5E7A6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DD3-6A90-4CC4-AC4A-B33E747D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693A-C116-4788-919F-4E0C62FB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E7C-838A-4003-8A0F-607DA585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70C5-B39B-46EF-9481-758962CDB7E2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5420-89AC-4EFE-ABDE-95B3F2AECCE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emhalingsstelsel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wisseling O2 en C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slikk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dselbrok komt in luchtpij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chtpijp niet goed afgesloten tijdens het sli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ig sluit neusholte a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ottenklep sluit luchtpijp a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slik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slikreflex"/>
          <p:cNvPicPr/>
          <p:nvPr/>
        </p:nvPicPr>
        <p:blipFill>
          <a:blip r:embed="rId1"/>
          <a:stretch/>
        </p:blipFill>
        <p:spPr>
          <a:xfrm>
            <a:off x="6172200" y="395280"/>
            <a:ext cx="25146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medie:heimlichgree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heimlichgreep"/>
          <p:cNvPicPr/>
          <p:nvPr/>
        </p:nvPicPr>
        <p:blipFill>
          <a:blip r:embed="rId1"/>
          <a:stretch/>
        </p:blipFill>
        <p:spPr>
          <a:xfrm>
            <a:off x="2743200" y="2590920"/>
            <a:ext cx="3286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demha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D:\Documents and Settings\bugelj\Mijn documenten\Mijn afbeeldingen\ademhaling.gif"/>
          <p:cNvPicPr/>
          <p:nvPr/>
        </p:nvPicPr>
        <p:blipFill>
          <a:blip r:embed="rId1"/>
          <a:stretch/>
        </p:blipFill>
        <p:spPr>
          <a:xfrm>
            <a:off x="1905120" y="1947960"/>
            <a:ext cx="5105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nadem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platten van het middenrif.Het middenrif gaat naar ben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trekken van de tussenribspieren.De borstkas gaat omho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krijg je een verruiming van de borstkas en lo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lucht stroomt naar bi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lveol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 uitwisseling van O2 en CO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Afbeelding 1" descr=""/>
          <p:cNvPicPr/>
          <p:nvPr/>
        </p:nvPicPr>
        <p:blipFill>
          <a:blip r:embed="rId1"/>
          <a:stretch/>
        </p:blipFill>
        <p:spPr>
          <a:xfrm>
            <a:off x="611280" y="2674800"/>
            <a:ext cx="2954160" cy="2119320"/>
          </a:xfrm>
          <a:prstGeom prst="rect">
            <a:avLst/>
          </a:prstGeom>
          <a:ln w="0">
            <a:noFill/>
          </a:ln>
        </p:spPr>
      </p:pic>
      <p:pic>
        <p:nvPicPr>
          <p:cNvPr id="139" name="Afbeelding 2" descr=""/>
          <p:cNvPicPr/>
          <p:nvPr/>
        </p:nvPicPr>
        <p:blipFill>
          <a:blip r:embed="rId2"/>
          <a:stretch/>
        </p:blipFill>
        <p:spPr>
          <a:xfrm>
            <a:off x="4284720" y="2565360"/>
            <a:ext cx="3938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uitadem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middenrif ontspant en komt omho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tussenribspieren ontspannen.De borstkas zakt weer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borstkast en longen klei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ucht stroomt naar bui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Soorten ademha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borst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buik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.neus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.mond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eling van de ademhaling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eling van de ademhaling komt vanuit het ademhalingscentrum in de hers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ze krijgt informatie over de concentratie van O2 en CO2 in het 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hoging van de CO2 concentratie geeft een prikkel tot ademha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en verlaging van de O2 concentratie speelt hierbij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e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antal ademingen per minuu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2-20 keer per minu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D:\Documents and Settings\bugelj\Mijn documenten\Mijn afbeeldingen\ademhaling.jpg"/>
          <p:cNvPicPr/>
          <p:nvPr/>
        </p:nvPicPr>
        <p:blipFill>
          <a:blip r:embed="rId1"/>
          <a:stretch/>
        </p:blipFill>
        <p:spPr>
          <a:xfrm>
            <a:off x="1079640" y="2770200"/>
            <a:ext cx="44830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venste Luchtwe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us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l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neus2"/>
          <p:cNvPicPr/>
          <p:nvPr/>
        </p:nvPicPr>
        <p:blipFill>
          <a:blip r:embed="rId1"/>
          <a:stretch/>
        </p:blipFill>
        <p:spPr>
          <a:xfrm>
            <a:off x="4643280" y="1052640"/>
            <a:ext cx="3511800" cy="3263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LocatiesKeelholte"/>
          <p:cNvPicPr/>
          <p:nvPr/>
        </p:nvPicPr>
        <p:blipFill>
          <a:blip r:embed="rId2"/>
          <a:stretch/>
        </p:blipFill>
        <p:spPr>
          <a:xfrm>
            <a:off x="684360" y="2781360"/>
            <a:ext cx="37814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mer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j een rustige ademhaling wordt het onderste gedeelte van de longcapaciteit niet gebruikt en verver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volg hiervan kan zijn:longontste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t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iertjes van de luchtwegen blijven 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een vernauwing van de lucht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auwd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echt adem kunnen ha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t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astmatische bronchien"/>
          <p:cNvPicPr/>
          <p:nvPr/>
        </p:nvPicPr>
        <p:blipFill>
          <a:blip r:embed="rId1"/>
          <a:stretch/>
        </p:blipFill>
        <p:spPr>
          <a:xfrm>
            <a:off x="2438280" y="22096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ronchit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jmvlies in de luchtwegen is ontsto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productie van teveel sput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:hoestprikk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die:klo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ven schrikk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rokenrslongen"/>
          <p:cNvPicPr/>
          <p:nvPr/>
        </p:nvPicPr>
        <p:blipFill>
          <a:blip r:embed="rId1"/>
          <a:stretch/>
        </p:blipFill>
        <p:spPr>
          <a:xfrm>
            <a:off x="3048120" y="2514600"/>
            <a:ext cx="3657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ste luchtwe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chtpij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luchtwe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nch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ere luchtwe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nch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blaasj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veo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n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ngen"/>
          <p:cNvPicPr/>
          <p:nvPr/>
        </p:nvPicPr>
        <p:blipFill>
          <a:blip r:embed="rId1"/>
          <a:stretch/>
        </p:blipFill>
        <p:spPr>
          <a:xfrm>
            <a:off x="2209680" y="2362320"/>
            <a:ext cx="48387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rstk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borstkas"/>
          <p:cNvPicPr/>
          <p:nvPr/>
        </p:nvPicPr>
        <p:blipFill>
          <a:blip r:embed="rId1"/>
          <a:stretch/>
        </p:blipFill>
        <p:spPr>
          <a:xfrm>
            <a:off x="2201760" y="2209680"/>
            <a:ext cx="3627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ushol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kleed met slijmvlies(trilha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ngt stofdeeltjes op(Zuivering van de luc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uring van de lucht(Kwaliteit van de luc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akt slij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sterk doorblo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arming van de lu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ochtiging van de lu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Keelhol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eiding van voedsel en ademlu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luchtpijp staat altijd open, behalve bij doorslikken van een voedselbr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LocatiesKeelholte"/>
          <p:cNvPicPr/>
          <p:nvPr/>
        </p:nvPicPr>
        <p:blipFill>
          <a:blip r:embed="rId1"/>
          <a:stretch/>
        </p:blipFill>
        <p:spPr>
          <a:xfrm>
            <a:off x="4788000" y="3500280"/>
            <a:ext cx="32176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ottenhoof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paar stemb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se stemb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de bovens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bevochtiging van de onderste stemban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e stemb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spieren,die door een bepaalde stand geluid ma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re stemb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stem3"/>
          <p:cNvPicPr/>
          <p:nvPr/>
        </p:nvPicPr>
        <p:blipFill>
          <a:blip r:embed="rId1"/>
          <a:stretch/>
        </p:blipFill>
        <p:spPr>
          <a:xfrm>
            <a:off x="942840" y="1474920"/>
            <a:ext cx="70138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0:04:30Z</dcterms:created>
  <dc:creator>BugelJ</dc:creator>
  <dc:description/>
  <dc:language>en-US</dc:language>
  <cp:lastModifiedBy>J.W.P. Bugel</cp:lastModifiedBy>
  <dcterms:modified xsi:type="dcterms:W3CDTF">2014-12-16T12:47:29Z</dcterms:modified>
  <cp:revision>10</cp:revision>
  <dc:subject/>
  <dc:title>Ademhalingsstelsel</dc:title>
</cp:coreProperties>
</file>