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3.jpeg" ContentType="image/jpeg"/>
  <Override PartName="/ppt/media/image12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24.png" ContentType="image/png"/>
  <Override PartName="/ppt/media/image10.png" ContentType="image/png"/>
  <Override PartName="/ppt/media/image35.png" ContentType="image/png"/>
  <Override PartName="/ppt/media/image5.jpeg" ContentType="image/jpeg"/>
  <Override PartName="/ppt/media/image36.png" ContentType="image/png"/>
  <Override PartName="/ppt/media/image38.jpeg" ContentType="image/jpeg"/>
  <Override PartName="/ppt/media/image44.jpeg" ContentType="image/jpeg"/>
  <Override PartName="/ppt/media/image40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13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9.jpeg" ContentType="image/jpeg"/>
  <Override PartName="/ppt/media/image11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3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1CDD-DEC3-4541-AFC1-0F2E031D3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1F1B-ABBF-44AD-BA63-E384D555F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D752-A10B-41A5-ADCE-C6D400018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2749-619F-48BA-ABE3-AF15A80B5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67601-39A4-4AA0-95E7-510D987E6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B3546-B1ED-48E9-8C47-7650FB118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9CC97-175B-4AB0-90AD-69AB6D345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DC8FB-B649-4125-BEC5-92C0FE5BB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2BAD2-A34B-41DE-A9FE-7756DD62E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11154-11FA-48DF-AB70-3314415DD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4E63E-1B30-4FEF-8556-CB27F4A7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D379-278D-4AE9-9309-7723EFE93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BA034-BCBA-4210-9A4D-57F4D61F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DDE91-9AD6-47BE-B6DC-FE743D3D5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1FD50-C56E-4975-AFF3-775D7A996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92F16-F280-4923-9E6E-E525D1D14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F6335-6D3F-4957-BDA7-B046AB487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2E607-C53C-4C06-99B6-C543F94B8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D4855-0E5B-4F12-BC82-E0E15D8D9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C528E-2137-4F45-ACC2-F5E2A9539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5ABC8-3B9C-4904-B3B2-5A507694D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825F4-EB06-40BB-87D8-BB41F92AB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0D62-A862-4E13-AE56-733254C76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D39BC-1214-4B19-8B89-466DF48BC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8F5FA-89FA-4FEC-AD6E-FF58042B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BC1FE-95AD-409E-BF30-4B68A2E3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4D0C6-5D5A-47DB-851F-707C616C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908EF-FA1F-454B-88BE-0AA80602F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CF9EC-3D3E-4F57-A28A-C807A0CA5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3FB53-9985-45DF-9711-94A3B6DC2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3F323-EBBB-4C36-BD71-41333FF21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60145-F7DC-42C7-A517-23A3314DD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7A0D2-C262-49AB-AD89-0755C2A7F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0440-E13C-4612-B662-DF01B6E9C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4C9EC-0968-425B-9677-AC13B4B7E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D8DD9-4E2B-43C7-909A-5ECFF14D2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68FAF-2A14-49F4-ACB2-E6A78CCAA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E93B7-2D6C-4328-9B79-8FFDD4DA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A984C-DCE5-46FA-A73C-C0F8F875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7CD21-2436-4EA6-A331-E8DD58256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73C2B-AA03-4327-BD0D-4D7E57BDF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BC419-5A1A-4C45-9B61-BD2ACD068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1B366-A7AF-4794-83CF-A448A5A2B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9FC5BD-D30C-48D6-B04E-2B898E86B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0947-7F2E-4876-82FA-8C7EC3234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B40EE-2E38-4C39-A538-8763C29CD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3058AE-5BFF-4E1C-806C-98FCD9339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93AF1-3180-4FC2-B012-830E5DB34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697AF-C2C3-4832-B85E-A4C5F4858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B346E-DC4B-4FEB-8E8D-DDB952E42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EF0A63-8E3A-4E6E-9A7C-5A6D8BB1A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C1B206-666F-4769-836F-62829F2E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6FEA9-8357-4400-996C-C9A8FC7C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0F527C-05A2-41B6-BA20-D7EB7F3BC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B0AD1A-B958-4DBB-9441-C37B34269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5582-2D4C-4244-9F9B-BA8ED3BA7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0BE8BA-D4E3-49CC-AEBB-60E693BAC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B622D6-A4B9-4071-8C19-3D99A0FB2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71E551-C90C-4CAA-A457-E4512F906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99AD7D-BC47-4BC1-B904-8632ACEB0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1D234F-E528-42CB-8E7C-0AEAF59E4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2AD710-C150-4AB4-A300-8C9B84E00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011FE0-E119-4E1C-8182-2B17D3475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9D17FB-5D5A-4418-9CD4-7CBCD937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B2439B-8567-40BF-94F1-F0D3E3FD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201B39-0ED0-4EBC-9A71-2802F6BA8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EE1C-1EDD-436F-B00E-2FFE50EA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C3AF7A-B871-4E41-BFBA-502D5C6E1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4415C0-7106-48AA-8E0D-65956857E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0D4386-FF5C-4361-9BA7-5806CB041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EC7D75-9067-4C7A-A77E-14DD472A7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92DEF4-5081-4F64-85BA-3EF53B572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ABDFBA-EF34-4EAF-9FB4-3D6514891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4EC6A1-E341-4B64-BBEF-625240A46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A94379-185D-47A9-A9C4-4A02E9428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D0D8A0-08C4-467A-8C0F-C963C9278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4EFBA0-ED82-46BC-8FA3-E527BE1C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BE59-7C71-4362-B772-9D545FBC5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DB5A26-3F97-414E-BE8B-6E989324F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A4546E-F009-42ED-8777-674116874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94B0BB-CEA4-4C0D-AC54-94B939037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284535-D377-42A2-B3E2-5B44984E1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E69EB2-154E-4C45-B150-9B12E3A9F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0726CA-4990-4769-BD8D-DA5D39140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0FB67B-3F68-45EE-8C05-1F15699C3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92C0FA-DAC0-4645-8CB0-E333EFAD7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915586-E702-463C-9085-ABA600949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1E314D-7EA5-4333-A635-3F2ED71E5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B71A-04ED-4722-94B0-835BA85A8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A10730-4C8B-4566-9E0C-EC5D3E677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E943D3-1B75-4B95-B339-6BBEA7F94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9A7472-A0D5-4D85-83EE-9FC1DD58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552277-FD62-4616-8339-04194765D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0B99C4-DECC-448D-BF04-1834DC53A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DC9B6F-DF06-43CF-89D5-EBF245690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0024BC-58E4-4F36-9FAF-D4BA485B7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27E07-9343-4EF5-95BE-A1B0F8725D67}" type="datetime">
              <a:rPr b="0" lang="nl-NL" sz="1000" spc="-1" strike="noStrike">
                <a:solidFill>
                  <a:srgbClr val="000000"/>
                </a:solidFill>
                <a:latin typeface="Arial"/>
              </a:rPr>
              <a:t>29-07-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B43B6-D597-43BE-A0D9-4FAE2D1D67D2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6"/>
            <p:cNvSpPr/>
            <p:nvPr/>
          </p:nvSpPr>
          <p:spPr>
            <a:xfrm>
              <a:off x="1694520" y="4952880"/>
              <a:ext cx="7449480" cy="48816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8160"/>
                <a:gd name="textAreaBottom" fmla="*/ 488520 h 48816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4280" y="5237640"/>
              <a:ext cx="9099720" cy="788760"/>
            </a:xfrm>
            <a:custGeom>
              <a:avLst/>
              <a:gdLst>
                <a:gd name="textAreaLeft" fmla="*/ 0 w 9099720"/>
                <a:gd name="textAreaRight" fmla="*/ 9100080 w 9099720"/>
                <a:gd name="textAreaTop" fmla="*/ 0 h 788760"/>
                <a:gd name="textAreaBottom" fmla="*/ 789120 h 78876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64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98E2B-1000-4C8A-9181-995654729254}" type="datetime">
              <a:rPr b="0" lang="nl-NL" sz="1000" spc="-1" strike="noStrike">
                <a:solidFill>
                  <a:srgbClr val="ffffff"/>
                </a:solidFill>
                <a:latin typeface="Arial"/>
              </a:rPr>
              <a:t>29-07-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e8f0f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e8f0f4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6BE43-6572-4903-A284-4008D397AA01}" type="slidenum">
              <a:rPr b="0" lang="nl-NL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B654A-1DD8-44EA-96B2-40D8E0B34BA0}" type="datetime">
              <a:rPr b="0" lang="nl-NL" sz="1000" spc="-1" strike="noStrike">
                <a:solidFill>
                  <a:srgbClr val="000000"/>
                </a:solidFill>
                <a:latin typeface="Arial"/>
              </a:rPr>
              <a:t>29-07-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EB610-738F-456B-954F-575FE09BABA3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B0950-F540-4760-AC9A-E9E6AEA9368B}" type="datetime">
              <a:rPr b="0" lang="nl-NL" sz="1000" spc="-1" strike="noStrike">
                <a:solidFill>
                  <a:srgbClr val="000000"/>
                </a:solidFill>
                <a:latin typeface="Arial"/>
              </a:rPr>
              <a:t>29-07-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92CCA-3136-40E8-8382-ECCD3201FB44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F3BBD-B040-4061-9B6D-C70A6775ED83}" type="datetime">
              <a:rPr b="0" lang="nl-NL" sz="1000" spc="-1" strike="noStrike">
                <a:solidFill>
                  <a:srgbClr val="000000"/>
                </a:solidFill>
                <a:latin typeface="Arial"/>
              </a:rPr>
              <a:t>29-07-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C32DF-F5FA-42F8-B737-ABDA1F948D2A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95EA0-060B-423F-B3F4-79E87325D46A}" type="datetime">
              <a:rPr b="0" lang="nl-NL" sz="1000" spc="-1" strike="noStrike">
                <a:solidFill>
                  <a:srgbClr val="000000"/>
                </a:solidFill>
                <a:latin typeface="Arial"/>
              </a:rPr>
              <a:t>29-07-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D3631-EA2A-42E4-AA27-87B1E6F6CBE4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588C6-8212-4238-A863-F06BF17D4288}" type="datetime">
              <a:rPr b="0" lang="nl-NL" sz="1000" spc="-1" strike="noStrike">
                <a:solidFill>
                  <a:srgbClr val="000000"/>
                </a:solidFill>
                <a:latin typeface="Arial"/>
              </a:rPr>
              <a:t>29-07-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C300E-422B-48CF-9A0A-B52910C7A1BA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B2475-6C8B-4959-BC9F-68D012E7BC12}" type="datetime">
              <a:rPr b="0" lang="nl-NL" sz="1000" spc="-1" strike="noStrike">
                <a:solidFill>
                  <a:srgbClr val="ffffff"/>
                </a:solidFill>
                <a:latin typeface="Arial"/>
              </a:rPr>
              <a:t>29-07-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8FA2D-D026-4AC5-85C7-BF8E3F56B886}" type="slidenum">
              <a:rPr b="0" lang="nl-NL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AutoShape 2" descr=""/>
          <p:cNvPicPr/>
          <p:nvPr/>
        </p:nvPicPr>
        <p:blipFill>
          <a:blip r:embed="rId1"/>
          <a:stretch/>
        </p:blipFill>
        <p:spPr>
          <a:xfrm>
            <a:off x="914400" y="993600"/>
            <a:ext cx="8229600" cy="190188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51307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464646"/>
                </a:solidFill>
                <a:latin typeface="Lucida Sans Unicode"/>
              </a:rPr>
              <a:t>College Anatomie/Fysiologi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AutoShape 2" descr=""/>
          <p:cNvPicPr/>
          <p:nvPr/>
        </p:nvPicPr>
        <p:blipFill>
          <a:blip r:embed="rId1"/>
          <a:stretch/>
        </p:blipFill>
        <p:spPr>
          <a:xfrm>
            <a:off x="1609560" y="158760"/>
            <a:ext cx="7534440" cy="128592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183024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Nier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Urineleid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laa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Urinebui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Picture 4" descr="D:\Documents and Settings\BugelJ\Mijn documenten\Mijn afbeeldingen\incontinentie_blaas.jpg"/>
          <p:cNvPicPr/>
          <p:nvPr/>
        </p:nvPicPr>
        <p:blipFill>
          <a:blip r:embed="rId2"/>
          <a:stretch/>
        </p:blipFill>
        <p:spPr>
          <a:xfrm>
            <a:off x="4191120" y="2514600"/>
            <a:ext cx="266688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Iedere nier is opgebouwd uit een aantal(1.000.000) urineproducerende en filterende niereenhed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zogenaamde </a:t>
            </a:r>
            <a:r>
              <a:rPr b="0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Nefron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231840" y="274680"/>
            <a:ext cx="847872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AutoShape 2" descr=""/>
          <p:cNvPicPr/>
          <p:nvPr/>
        </p:nvPicPr>
        <p:blipFill>
          <a:blip r:embed="rId1"/>
          <a:stretch/>
        </p:blipFill>
        <p:spPr>
          <a:xfrm>
            <a:off x="1573200" y="298440"/>
            <a:ext cx="7570800" cy="124452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4" descr="D:\Documents and Settings\BugelJ\Mijn documenten\Mijn afbeeldingen\nephron.jpg"/>
          <p:cNvPicPr/>
          <p:nvPr/>
        </p:nvPicPr>
        <p:blipFill>
          <a:blip r:embed="rId2"/>
          <a:stretch/>
        </p:blipFill>
        <p:spPr>
          <a:xfrm>
            <a:off x="2071800" y="2714760"/>
            <a:ext cx="414324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Titel 1" descr=""/>
          <p:cNvPicPr/>
          <p:nvPr/>
        </p:nvPicPr>
        <p:blipFill>
          <a:blip r:embed="rId1"/>
          <a:stretch/>
        </p:blipFill>
        <p:spPr>
          <a:xfrm>
            <a:off x="1573200" y="298440"/>
            <a:ext cx="7570800" cy="12445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183024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Lichaam van </a:t>
            </a:r>
            <a:r>
              <a:rPr b="1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Malpighi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              (ligt in de nierschors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Lis van </a:t>
            </a:r>
            <a:r>
              <a:rPr b="1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Henle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                         (ligt in het niermerg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rzamelbuis                            (ligt ook in het niermerg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Titel 1" descr=""/>
          <p:cNvPicPr/>
          <p:nvPr/>
        </p:nvPicPr>
        <p:blipFill>
          <a:blip r:embed="rId1"/>
          <a:stretch/>
        </p:blipFill>
        <p:spPr>
          <a:xfrm>
            <a:off x="1573200" y="298440"/>
            <a:ext cx="7570800" cy="124452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183024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estaat  ui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Glomerulus                                        ( is een kluwen van bloedvaten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Kapsel van Bowman                              ( is het opvangbekken van het eerste filtraat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Titel 1" descr=""/>
          <p:cNvPicPr/>
          <p:nvPr/>
        </p:nvPicPr>
        <p:blipFill>
          <a:blip r:embed="rId1"/>
          <a:stretch/>
        </p:blipFill>
        <p:spPr>
          <a:xfrm>
            <a:off x="1573200" y="298440"/>
            <a:ext cx="7570800" cy="124452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183024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ier vindt de terugresorptie plaats van het eerste filtraa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it is een zeer belangrijk onderdeel van de filtratie. Dit voorkomt uitdroging!!!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aarna de geconcentreerde urine wordt opgevangen in de verzamelbui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anuit de verzamelbuis gaat de urine via de urineleiders naar de urineblaa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Titel 1" descr=""/>
          <p:cNvPicPr/>
          <p:nvPr/>
        </p:nvPicPr>
        <p:blipFill>
          <a:blip r:embed="rId1"/>
          <a:stretch/>
        </p:blipFill>
        <p:spPr>
          <a:xfrm>
            <a:off x="1573200" y="298440"/>
            <a:ext cx="7570800" cy="1244520"/>
          </a:xfrm>
          <a:prstGeom prst="rect">
            <a:avLst/>
          </a:prstGeom>
          <a:ln w="0">
            <a:noFill/>
          </a:ln>
        </p:spPr>
      </p:pic>
      <p:pic>
        <p:nvPicPr>
          <p:cNvPr id="420" name="Tijdelijke aanduiding voor inhoud 3" descr="nieren.jpg"/>
          <p:cNvPicPr/>
          <p:nvPr/>
        </p:nvPicPr>
        <p:blipFill>
          <a:blip r:embed="rId2"/>
          <a:stretch/>
        </p:blipFill>
        <p:spPr>
          <a:xfrm>
            <a:off x="3346560" y="1854360"/>
            <a:ext cx="579744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AutoShape 2" descr=""/>
          <p:cNvPicPr/>
          <p:nvPr/>
        </p:nvPicPr>
        <p:blipFill>
          <a:blip r:embed="rId1"/>
          <a:stretch/>
        </p:blipFill>
        <p:spPr>
          <a:xfrm>
            <a:off x="1609560" y="158760"/>
            <a:ext cx="7534440" cy="161460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183024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er dag gaat er 1800 liter bloed door deze nefron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nefronen halen hier ongeveer 180 liter ultrafiltraat ui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Ongeveer 178.5 liter gaat weer terug het lichaam in(dit heet terugresorpti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lijft er ongeveer 1.5 liter urine ove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AutoShape 2" descr=""/>
          <p:cNvPicPr/>
          <p:nvPr/>
        </p:nvPicPr>
        <p:blipFill>
          <a:blip r:embed="rId1"/>
          <a:stretch/>
        </p:blipFill>
        <p:spPr>
          <a:xfrm>
            <a:off x="1573200" y="298440"/>
            <a:ext cx="7570800" cy="124452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/>
          </p:nvPr>
        </p:nvSpPr>
        <p:spPr>
          <a:xfrm>
            <a:off x="183024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ze urine wordt opgevangen in het nierbekk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ia de urineleiders gaat dat naar de blaas.                                        (oa door een peristaltische beweging van de urineleider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In de blaas verzamelt zich de urine(200-max 900 ml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AutoShape 2" descr=""/>
          <p:cNvPicPr/>
          <p:nvPr/>
        </p:nvPicPr>
        <p:blipFill>
          <a:blip r:embed="rId1"/>
          <a:stretch/>
        </p:blipFill>
        <p:spPr>
          <a:xfrm>
            <a:off x="1609560" y="298440"/>
            <a:ext cx="7534440" cy="118908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183024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blaas heeft 2 kringspier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De inwendige(onwillekeurige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De uitwendige(willekeurige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AutoShape 2" descr=""/>
          <p:cNvPicPr/>
          <p:nvPr/>
        </p:nvPicPr>
        <p:blipFill>
          <a:blip r:embed="rId1"/>
          <a:stretch/>
        </p:blipFill>
        <p:spPr>
          <a:xfrm>
            <a:off x="1573200" y="298440"/>
            <a:ext cx="7570800" cy="124452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Verwijderen van afvalstoffen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Picture 4" descr="toilet"/>
          <p:cNvPicPr/>
          <p:nvPr/>
        </p:nvPicPr>
        <p:blipFill>
          <a:blip r:embed="rId2"/>
          <a:stretch/>
        </p:blipFill>
        <p:spPr>
          <a:xfrm>
            <a:off x="5554800" y="2048040"/>
            <a:ext cx="358920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AutoShape 2" descr=""/>
          <p:cNvPicPr/>
          <p:nvPr/>
        </p:nvPicPr>
        <p:blipFill>
          <a:blip r:embed="rId1"/>
          <a:stretch/>
        </p:blipFill>
        <p:spPr>
          <a:xfrm>
            <a:off x="1573200" y="298440"/>
            <a:ext cx="7570800" cy="124452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183024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De blaas is vol (ong.350 ml)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Wand van de blaas rekt op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Er gaat een seintje naar de hersenen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Bewustwording van de blaas is vol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In een reflex is er een ontspanning van de inwendige en aanspanning van de uitwendige kringspier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Lozingsplaats zoeken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Bewust ontspannen van de uitwendige spier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Hierdoor gecontroleerde lozing van de urin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4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4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4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4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4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4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AutoShape 2" descr=""/>
          <p:cNvPicPr/>
          <p:nvPr/>
        </p:nvPicPr>
        <p:blipFill>
          <a:blip r:embed="rId1"/>
          <a:stretch/>
        </p:blipFill>
        <p:spPr>
          <a:xfrm>
            <a:off x="1573200" y="298440"/>
            <a:ext cx="7570800" cy="124452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183024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6" name="Picture 5" descr="D:\Documents and Settings\BugelJ\Mijn documenten\Mijn afbeeldingen\incontinentie.jpg"/>
          <p:cNvPicPr/>
          <p:nvPr/>
        </p:nvPicPr>
        <p:blipFill>
          <a:blip r:embed="rId2"/>
          <a:stretch/>
        </p:blipFill>
        <p:spPr>
          <a:xfrm>
            <a:off x="5486400" y="838080"/>
            <a:ext cx="3103560" cy="56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AutoShape 2" descr=""/>
          <p:cNvPicPr/>
          <p:nvPr/>
        </p:nvPicPr>
        <p:blipFill>
          <a:blip r:embed="rId1"/>
          <a:stretch/>
        </p:blipFill>
        <p:spPr>
          <a:xfrm>
            <a:off x="1573200" y="298440"/>
            <a:ext cx="7570800" cy="1244520"/>
          </a:xfrm>
          <a:prstGeom prst="rect">
            <a:avLst/>
          </a:prstGeom>
          <a:ln w="0">
            <a:noFill/>
          </a:ln>
        </p:spPr>
      </p:pic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183024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et niet kunnen ophouden van feces of urine tot het moment waarop lozing sociaal aanvaardbaar i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AutoShape 2" descr=""/>
          <p:cNvPicPr/>
          <p:nvPr/>
        </p:nvPicPr>
        <p:blipFill>
          <a:blip r:embed="rId1"/>
          <a:stretch/>
        </p:blipFill>
        <p:spPr>
          <a:xfrm>
            <a:off x="1573200" y="298440"/>
            <a:ext cx="7570800" cy="124452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183024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1.stress incontinenti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2.urge incontinenti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3.overloop incontinenti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4.functionele incontinenti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5.reflex incontinenti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Titel 1" descr=""/>
          <p:cNvPicPr/>
          <p:nvPr/>
        </p:nvPicPr>
        <p:blipFill>
          <a:blip r:embed="rId1"/>
          <a:stretch/>
        </p:blipFill>
        <p:spPr>
          <a:xfrm>
            <a:off x="1573200" y="298440"/>
            <a:ext cx="7570800" cy="1244520"/>
          </a:xfrm>
          <a:prstGeom prst="rect">
            <a:avLst/>
          </a:prstGeom>
          <a:ln w="0">
            <a:noFill/>
          </a:ln>
        </p:spPr>
      </p:pic>
      <p:pic>
        <p:nvPicPr>
          <p:cNvPr id="445" name="Tijdelijke aanduiding voor inhoud 3" descr="Dialyse1.jpg"/>
          <p:cNvPicPr/>
          <p:nvPr/>
        </p:nvPicPr>
        <p:blipFill>
          <a:blip r:embed="rId2"/>
          <a:stretch/>
        </p:blipFill>
        <p:spPr>
          <a:xfrm>
            <a:off x="0" y="2571840"/>
            <a:ext cx="2714760" cy="3929040"/>
          </a:xfrm>
          <a:prstGeom prst="rect">
            <a:avLst/>
          </a:prstGeom>
          <a:ln w="0">
            <a:noFill/>
          </a:ln>
        </p:spPr>
      </p:pic>
      <p:pic>
        <p:nvPicPr>
          <p:cNvPr id="446" name="Afbeelding 4" descr="kunstnier-kolff.jpg"/>
          <p:cNvPicPr/>
          <p:nvPr/>
        </p:nvPicPr>
        <p:blipFill>
          <a:blip r:embed="rId3"/>
          <a:stretch/>
        </p:blipFill>
        <p:spPr>
          <a:xfrm>
            <a:off x="5310360" y="2809800"/>
            <a:ext cx="2690640" cy="26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Titel 1" descr=""/>
          <p:cNvPicPr/>
          <p:nvPr/>
        </p:nvPicPr>
        <p:blipFill>
          <a:blip r:embed="rId1"/>
          <a:stretch/>
        </p:blipFill>
        <p:spPr>
          <a:xfrm>
            <a:off x="1573200" y="298440"/>
            <a:ext cx="7570800" cy="1244520"/>
          </a:xfrm>
          <a:prstGeom prst="rect">
            <a:avLst/>
          </a:prstGeom>
          <a:ln w="0">
            <a:noFill/>
          </a:ln>
        </p:spPr>
      </p:pic>
      <p:pic>
        <p:nvPicPr>
          <p:cNvPr id="449" name="Tijdelijke aanduiding voor inhoud 3" descr="-kolff..jpg"/>
          <p:cNvPicPr/>
          <p:nvPr/>
        </p:nvPicPr>
        <p:blipFill>
          <a:blip r:embed="rId2"/>
          <a:stretch/>
        </p:blipFill>
        <p:spPr>
          <a:xfrm>
            <a:off x="5205240" y="2147760"/>
            <a:ext cx="3938760" cy="35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Titel 1" descr=""/>
          <p:cNvPicPr/>
          <p:nvPr/>
        </p:nvPicPr>
        <p:blipFill>
          <a:blip r:embed="rId1"/>
          <a:stretch/>
        </p:blipFill>
        <p:spPr>
          <a:xfrm>
            <a:off x="1573200" y="298440"/>
            <a:ext cx="7570800" cy="1244520"/>
          </a:xfrm>
          <a:prstGeom prst="rect">
            <a:avLst/>
          </a:prstGeom>
          <a:ln w="0">
            <a:noFill/>
          </a:ln>
        </p:spPr>
      </p:pic>
      <p:pic>
        <p:nvPicPr>
          <p:cNvPr id="452" name="Tijdelijke aanduiding voor inhoud 3" descr="Nieuwe kunstnier.bmp"/>
          <p:cNvPicPr/>
          <p:nvPr/>
        </p:nvPicPr>
        <p:blipFill>
          <a:blip r:embed="rId2"/>
          <a:stretch/>
        </p:blipFill>
        <p:spPr>
          <a:xfrm>
            <a:off x="0" y="2452680"/>
            <a:ext cx="5929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Tijdelijke aanduiding voor inhoud 3" descr="donornier.jpg"/>
          <p:cNvPicPr/>
          <p:nvPr/>
        </p:nvPicPr>
        <p:blipFill>
          <a:blip r:embed="rId1"/>
          <a:stretch/>
        </p:blipFill>
        <p:spPr>
          <a:xfrm>
            <a:off x="0" y="2325600"/>
            <a:ext cx="4714920" cy="41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Nier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ikke darm/ endeldar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Lucida Sans Unicode"/>
              </a:rPr>
              <a:t>Vaste afvalstoffen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long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Lucida Sans Unicode"/>
              </a:rPr>
              <a:t>Water en koolzuurga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Lev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Lucida Sans Unicode"/>
              </a:rPr>
              <a:t>galkleurstoffen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ui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Lucida Sans Unicode"/>
              </a:rPr>
              <a:t>Water en zouten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AutoShape 2" descr=""/>
          <p:cNvPicPr/>
          <p:nvPr/>
        </p:nvPicPr>
        <p:blipFill>
          <a:blip r:embed="rId1"/>
          <a:stretch/>
        </p:blipFill>
        <p:spPr>
          <a:xfrm>
            <a:off x="1646280" y="244440"/>
            <a:ext cx="7497720" cy="140832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183024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1.Hulp kunnen bieden bij toiletga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2.Observeren van feces en uri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3.Kunnen geven van voorlicht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4.Hulp kunnen bieden bij ophoesten van sputu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5.Hulp bij brak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6.Observeren van zweetsecreti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AutoShape 2" descr=""/>
          <p:cNvPicPr/>
          <p:nvPr/>
        </p:nvPicPr>
        <p:blipFill>
          <a:blip r:embed="rId1"/>
          <a:stretch/>
        </p:blipFill>
        <p:spPr>
          <a:xfrm>
            <a:off x="1646280" y="298440"/>
            <a:ext cx="7686720" cy="114624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183024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Uri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Fec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Sputu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Zweet/transpirati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Menstruati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raaks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AutoShape 2" descr=""/>
          <p:cNvPicPr/>
          <p:nvPr/>
        </p:nvPicPr>
        <p:blipFill>
          <a:blip r:embed="rId1"/>
          <a:stretch/>
        </p:blipFill>
        <p:spPr>
          <a:xfrm>
            <a:off x="1573200" y="298440"/>
            <a:ext cx="7570800" cy="12445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6" descr="uitscheiding"/>
          <p:cNvPicPr/>
          <p:nvPr/>
        </p:nvPicPr>
        <p:blipFill>
          <a:blip r:embed="rId2"/>
          <a:stretch/>
        </p:blipFill>
        <p:spPr>
          <a:xfrm>
            <a:off x="0" y="1773360"/>
            <a:ext cx="44640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AutoShape 2" descr=""/>
          <p:cNvPicPr/>
          <p:nvPr/>
        </p:nvPicPr>
        <p:blipFill>
          <a:blip r:embed="rId1"/>
          <a:stretch/>
        </p:blipFill>
        <p:spPr>
          <a:xfrm>
            <a:off x="1573200" y="298440"/>
            <a:ext cx="7570800" cy="1244520"/>
          </a:xfrm>
          <a:prstGeom prst="rect">
            <a:avLst/>
          </a:prstGeom>
          <a:ln w="0">
            <a:noFill/>
          </a:ln>
        </p:spPr>
      </p:pic>
      <p:pic>
        <p:nvPicPr>
          <p:cNvPr id="391" name="Tijdelijke aanduiding voor inhoud 5" descr="nier schematisch.jpg"/>
          <p:cNvPicPr/>
          <p:nvPr/>
        </p:nvPicPr>
        <p:blipFill>
          <a:blip r:embed="rId2"/>
          <a:stretch/>
        </p:blipFill>
        <p:spPr>
          <a:xfrm>
            <a:off x="0" y="1844640"/>
            <a:ext cx="4448160" cy="452772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 txBox="1"/>
          <p:nvPr/>
        </p:nvSpPr>
        <p:spPr>
          <a:xfrm>
            <a:off x="5559120" y="1844640"/>
            <a:ext cx="358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Lucida Sans Unicode"/>
              </a:rPr>
              <a:t>Nierschors (Cortex)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Lucida Sans Unicode"/>
              </a:rPr>
              <a:t>Gespikkeld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Lucida Sans Unicode"/>
              </a:rPr>
              <a:t>Smalle laag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Lucida Sans Unicode"/>
              </a:rPr>
              <a:t>Lichaampjes van Malpighi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Lucida Sans Unicode"/>
              </a:rPr>
              <a:t>Niermerg (Medulla)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Lucida Sans Unicode"/>
              </a:rPr>
              <a:t>Streperig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Lucida Sans Unicode"/>
              </a:rPr>
              <a:t>Lissen van Henle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Lucida Sans Unicode"/>
              </a:rPr>
              <a:t>verzamelbuisjes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Lucida Sans Unicode"/>
              </a:rPr>
              <a:t>Nierbekken (Pelvis Renalis)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Lucida Sans Unicode"/>
              </a:rPr>
              <a:t>Opvangen van het ultrafiltraat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AutoShape 2" descr=""/>
          <p:cNvPicPr/>
          <p:nvPr/>
        </p:nvPicPr>
        <p:blipFill>
          <a:blip r:embed="rId1"/>
          <a:stretch/>
        </p:blipFill>
        <p:spPr>
          <a:xfrm>
            <a:off x="1573200" y="298440"/>
            <a:ext cx="7570800" cy="124452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183024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oonvormi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150 gram zwaa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12cm lang,7 cm breed en 3 cm di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Links en rechts van wervelkolo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Rechternier ligt iets lag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Ligging in steunve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AutoShape 2" descr=""/>
          <p:cNvPicPr/>
          <p:nvPr/>
        </p:nvPicPr>
        <p:blipFill>
          <a:blip r:embed="rId1"/>
          <a:stretch/>
        </p:blipFill>
        <p:spPr>
          <a:xfrm>
            <a:off x="1609560" y="158760"/>
            <a:ext cx="7534440" cy="128592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183024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8120" indent="-318960">
              <a:lnSpc>
                <a:spcPct val="90000"/>
              </a:lnSpc>
              <a:buClr>
                <a:srgbClr val="2da2bf"/>
              </a:buClr>
              <a:buSzPct val="68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Regel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0080" indent="-27288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Waterhuishouding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0080" indent="-27288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Zouten huishouding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0080" indent="-27288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Zuurgraad( ph waarde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438120" indent="-318960">
              <a:lnSpc>
                <a:spcPct val="90000"/>
              </a:lnSpc>
              <a:buClr>
                <a:srgbClr val="2da2bf"/>
              </a:buClr>
              <a:buSzPct val="68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Uitscheiding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0080" indent="-27288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van ureum en urinezuur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0080" indent="-27288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Van lichaamsvreemde stoffen (medicijnen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438120" indent="-318960">
              <a:lnSpc>
                <a:spcPct val="90000"/>
              </a:lnSpc>
              <a:buClr>
                <a:srgbClr val="2da2bf"/>
              </a:buClr>
              <a:buSzPct val="68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lgemeen doel is het </a:t>
            </a:r>
            <a:r>
              <a:rPr b="1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filteren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van het blo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6T19:28:31Z</dcterms:created>
  <dc:creator>Bugel</dc:creator>
  <dc:description/>
  <dc:language>en-US</dc:language>
  <cp:lastModifiedBy>J.W.P. Bugel</cp:lastModifiedBy>
  <dcterms:modified xsi:type="dcterms:W3CDTF">2016-03-09T09:09:29Z</dcterms:modified>
  <cp:revision>25</cp:revision>
  <dc:subject/>
  <dc:title>Uitscheiding</dc:title>
</cp:coreProperties>
</file>