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6E5-AD1F-4469-B54A-C7FFE8DC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0CF-C322-4859-894A-5E52874D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7B7-06D7-4647-96E4-4B74DCC1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BC7-433F-4E15-A36B-08FD9886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E891-E240-4E5A-B48A-5072B9BB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407E-B0B0-43B7-B89B-30262EC3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2ACD-4E3A-4EB9-9BF1-6F603164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CBFF-6217-4CDA-847B-649AC474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13F4-D73F-4C65-B477-05887EC0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001A-F2D5-4B7A-98A2-8B64F8E8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E2F0-BD43-443A-BD32-5B23B035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FB8-21EF-46A0-8ED9-63D02373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F703-12DA-41EA-B6F6-01072C8A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1587-628B-4DAB-B20C-E4C0BC61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440D-3CB8-4D80-ADB5-47E64C0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2E7E-70AA-4185-9946-6ACE2F58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97E2-4FCE-42D6-9F48-FAEB7628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9A0-D5D6-4A8B-923D-01F5BD6D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FA2-035B-4FBA-B37F-C8035625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F8D-4F74-4B6E-9A10-CD8BE002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B6F-21C2-4384-9C24-BAC4483F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74B-EE98-4991-B9F9-2181325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EC4-FED5-4239-BBD6-F4BCB55E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BE1-00A7-4621-8B7A-24917289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36B0-F6C1-43D6-AFD6-3B2AC07BC0F1}" type="slidenum">
              <a:rPr b="0" lang="nl-NL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4753-CCDD-492F-8603-6E6C00FFE5D0}" type="slidenum">
              <a:rPr b="0" lang="nl-NL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eling bij de me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4" descr="D:\Documents and Settings\bugelj\Mijn documenten\Mijn afbeeldingen\temp regeling\37graden.jpg"/>
          <p:cNvPicPr/>
          <p:nvPr/>
        </p:nvPicPr>
        <p:blipFill>
          <a:blip r:embed="rId1"/>
          <a:stretch/>
        </p:blipFill>
        <p:spPr>
          <a:xfrm>
            <a:off x="3581280" y="4495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ulat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Het centrum voor deze temperatuurregulatie zit in bepaalde delen va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ersensta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In dit centrum komt alle informatie van de thermosensoren binnen en volgt eventueel een rea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het blo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van het blo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 centrum i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de hui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in de hu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centr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Mens is 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Constante temperatuur van ongeveer 37 grad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Ook bij lage en hoge buitentemperatuu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en optimale temperatuur voor de werking van enzymen en eiwitt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D:\Documents and Settings\bugelj\Mijn documenten\Mijn afbeeldingen\temp regeling\warmbloedig_bestanden\NudN_ mens, zoogdier, warme en koude plekken op het menselijk lichaam, warmbloedig.jpeg"/>
          <p:cNvPicPr/>
          <p:nvPr/>
        </p:nvPicPr>
        <p:blipFill>
          <a:blip r:embed="rId1"/>
          <a:stretch/>
        </p:blipFill>
        <p:spPr>
          <a:xfrm>
            <a:off x="533520" y="2209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Documents and Settings\bugelj\Mijn documenten\Mijn afbeeldingen\temp regeling\omjs_olifant.jpg"/>
          <p:cNvPicPr/>
          <p:nvPr/>
        </p:nvPicPr>
        <p:blipFill>
          <a:blip r:embed="rId2"/>
          <a:stretch/>
        </p:blipFill>
        <p:spPr>
          <a:xfrm>
            <a:off x="3200400" y="2666880"/>
            <a:ext cx="5753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koud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0" name="Picture 3" descr="D:\Documents and Settings\bugelj\Mijn documenten\Mijn afbeeldingen\temp regeling\kikker.jpg"/>
          <p:cNvPicPr/>
          <p:nvPr/>
        </p:nvPicPr>
        <p:blipFill>
          <a:blip r:embed="rId1"/>
          <a:stretch/>
        </p:blipFill>
        <p:spPr>
          <a:xfrm>
            <a:off x="609480" y="2209680"/>
            <a:ext cx="3314880" cy="349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D:\Documents and Settings\bugelj\Mijn documenten\Mijn afbeeldingen\temp regeling\koudbloedig.jpg"/>
          <p:cNvPicPr/>
          <p:nvPr/>
        </p:nvPicPr>
        <p:blipFill>
          <a:blip r:embed="rId2"/>
          <a:stretch/>
        </p:blipFill>
        <p:spPr>
          <a:xfrm>
            <a:off x="4572000" y="3200400"/>
            <a:ext cx="43052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lichaamstemperatuu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Schil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de perifer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v handen en voet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28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Kern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het binnenste van het menselijk lichaa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37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Lever :39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te doen bij een te la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hoging van de activiteit in de cellen.Hierdoor geven de cellen meer warmte af,waardoor de temperatuur omhoog ga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mindering van huiddoorbloeding.Hierdoor ontsnapt er minder warmte naar buiten en hou  je de warmte binn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kleding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doe je bij een te ho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Celactiviteit neemt af.Hierdoor krijg je een futloos gevo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oorbloeding van de huid neemt toe.Hierdoor een  toename van de warmte afgifte en zweetprodu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minder kled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verhoging oa do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Te warme douch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Spierarbe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4" descr="D:\Documents and Settings\bugelj\Mijn documenten\Mijn afbeeldingen\temp regeling\shower1.jpg"/>
          <p:cNvPicPr/>
          <p:nvPr/>
        </p:nvPicPr>
        <p:blipFill>
          <a:blip r:embed="rId1"/>
          <a:stretch/>
        </p:blipFill>
        <p:spPr>
          <a:xfrm>
            <a:off x="4876920" y="220968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Documents and Settings\bugelj\Mijn documenten\Mijn afbeeldingen\temp regeling\spieren.jpg"/>
          <p:cNvPicPr/>
          <p:nvPr/>
        </p:nvPicPr>
        <p:blipFill>
          <a:blip r:embed="rId2"/>
          <a:stretch/>
        </p:blipFill>
        <p:spPr>
          <a:xfrm>
            <a:off x="4191120" y="4648320"/>
            <a:ext cx="27064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a3d7a"/>
                </a:solidFill>
                <a:latin typeface="Times New Roman"/>
              </a:rPr>
              <a:t>Het lichaam geeft warmte af op de volgende 4 maniere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etere doorbloeding van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Uitstraling van warmte door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erdamping van zweet.Hiervoor is warmte nodig.Deze wordt aan de huid onttrokke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Door luchtstroming kan de warme lucht rond de huid weggevoerd wor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b:ventilator(Vergroot de kans op verkoudhei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38:11Z</dcterms:created>
  <dc:creator>custom</dc:creator>
  <dc:description/>
  <dc:language>en-US</dc:language>
  <cp:lastModifiedBy>J.W.P. Bugel</cp:lastModifiedBy>
  <dcterms:modified xsi:type="dcterms:W3CDTF">2013-03-07T09:19:17Z</dcterms:modified>
  <cp:revision>2</cp:revision>
  <dc:subject/>
  <dc:title>Temperatuurregeling bij de mens</dc:title>
</cp:coreProperties>
</file>