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E395-3DE5-42F5-98BA-C583A6C839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A2E1-EE78-4672-9D0D-8EA62CF17A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CC5-5BB7-42B4-B001-56D51ED2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E76-38D8-4E2F-ADBD-2A0CC05A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22F-61E3-47E2-ADFD-AD5635BC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978-67FE-4325-9CE6-B68D3662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2ABF-FB29-4BB6-BEAD-EE7F2371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9618-B125-4FAD-97C9-39EC9F2B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E3E3-3535-4040-908A-D90C8980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3FB4-9459-43B9-BCA0-4557D87D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04EF-9290-4145-9075-9816B75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60F1-F28D-44E2-8467-D13274D3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55E0-58F1-41D5-870F-C2C1C7E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FF0-DE43-4718-AC48-FE7461B3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D27E-65E6-48BA-821D-84D9FA4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BB72-507F-4556-BF62-987A6CC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0F9B-9703-4174-9708-1D50BEEC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0B7E-1090-4E93-AB60-4776EDE9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F70-5264-40D7-834D-B9F6628A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BF7-F4DE-4392-9C0E-CBBF6F11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4C8-3DB3-4DB7-893B-599B7CD7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252-5897-4EC6-BD75-6372FC6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67A-0BA7-4FBD-8BA9-08579D5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F01-6833-42C8-A58B-28CB8EC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62B-7F70-44EC-A660-CF40703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33B-765C-4302-AE73-F2336C9E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B41-57A8-4F68-B8E0-30DD00D20242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CEB-EB39-4B7E-8A93-5EA442793B37}" type="slidenum">
              <a:rPr b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Functie van deze sapp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zo klein maken van de moleculen , dat deze opgenomen kunnen worden in het 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voedingsstoffen opgenomen zijn in het bloed, gaan deze eerst via de poortader naar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ze lichaamsvreemde stoffen omgezet in lichaamseigen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atomie spijsverteringskana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keelho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slok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ma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.dar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6.dikke 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7.endel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8.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spijsvertereing 3"/>
          <p:cNvPicPr/>
          <p:nvPr/>
        </p:nvPicPr>
        <p:blipFill>
          <a:blip r:embed="rId1"/>
          <a:stretch/>
        </p:blipFill>
        <p:spPr>
          <a:xfrm>
            <a:off x="5238720" y="2054160"/>
            <a:ext cx="2857680" cy="384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o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len van het voed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engen met speeksel(1 -1.5 liter per d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 paar speekselk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voegen va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ong heeft smaakpapi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eelhol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reflex:de luchtweg naar de neus en luchtpijp is afgesl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neus:zachtgehemelte e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luchtpijp:strottenkl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lok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nsport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staltische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slokdarmtekst_350"/>
          <p:cNvPicPr/>
          <p:nvPr/>
        </p:nvPicPr>
        <p:blipFill>
          <a:blip r:embed="rId1"/>
          <a:stretch/>
        </p:blipFill>
        <p:spPr>
          <a:xfrm>
            <a:off x="4788000" y="2060640"/>
            <a:ext cx="3098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a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ijdelijk reser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secretie maag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ingang:maagmond   (c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uitgang:maagportier (pylo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maag_350"/>
          <p:cNvPicPr/>
          <p:nvPr/>
        </p:nvPicPr>
        <p:blipFill>
          <a:blip r:embed="rId1"/>
          <a:stretch/>
        </p:blipFill>
        <p:spPr>
          <a:xfrm>
            <a:off x="5003640" y="2114640"/>
            <a:ext cx="2881440" cy="268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NL" sz="3600" spc="-1" strike="noStrike">
                <a:solidFill>
                  <a:srgbClr val="420000"/>
                </a:solidFill>
                <a:latin typeface="Times New Roman"/>
              </a:rPr>
              <a:t>Samenstelling maagsap                 (2 liter per dag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slijm(bescherming van de maagw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zoutzuur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pepsine(eiwitafbrekend 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ylorusreflex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pylorus(maagportier)laat beetje bij beetje de maaginhoud toe tot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basisch worden van de darminhoud gaat de pylorus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3" name="Picture 4" descr="dunne darm"/>
          <p:cNvPicPr/>
          <p:nvPr/>
        </p:nvPicPr>
        <p:blipFill>
          <a:blip r:embed="rId1"/>
          <a:stretch/>
        </p:blipFill>
        <p:spPr>
          <a:xfrm>
            <a:off x="2587680" y="1828800"/>
            <a:ext cx="397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waalfvingerige darm(duodenum)= ong.3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nuchtere darm(jejunum)= ong.2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kronkeldarm(ileum)= ong.3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12 vingerige"/>
          <p:cNvPicPr/>
          <p:nvPr/>
        </p:nvPicPr>
        <p:blipFill>
          <a:blip r:embed="rId1"/>
          <a:stretch/>
        </p:blipFill>
        <p:spPr>
          <a:xfrm>
            <a:off x="4859280" y="1974960"/>
            <a:ext cx="3673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Levend organis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t vocht en vo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voor is aanvulling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eten en dri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darm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psine(splitsing eiwitten tot aminoz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acharidasen(splitsing van suikers tot monosachari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-3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Twaalfvingerig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de alvleesklierbuis komen uit in de twaalfvingerige da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ats:papil van Vater(een spiertje zorgt er voor dat de darminhoud niet terug stroomt naar alvleesklier en galbla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alvleesklierbuis transporteren gal en alvleeskliersap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aakt i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slagen in de galblaas(vesica fell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uctus choledochus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0.75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HC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zo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sto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kleurst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alvleesklier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(afbreken koolhydr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ipsyne(afbreken eiw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pase(afbreken v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triumbicarbonaat(NaHCO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lvleeskli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alvleesklier"/>
          <p:cNvPicPr/>
          <p:nvPr/>
        </p:nvPicPr>
        <p:blipFill>
          <a:blip r:embed="rId1"/>
          <a:stretch/>
        </p:blipFill>
        <p:spPr>
          <a:xfrm>
            <a:off x="4716360" y="1773360"/>
            <a:ext cx="324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Officiele latijnse te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choledochu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gal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pancreaticus= alvleesklier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alvleesk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ductus pancreas"/>
          <p:cNvPicPr/>
          <p:nvPr/>
        </p:nvPicPr>
        <p:blipFill>
          <a:blip r:embed="rId1"/>
          <a:stretch/>
        </p:blipFill>
        <p:spPr>
          <a:xfrm>
            <a:off x="4788000" y="1994040"/>
            <a:ext cx="367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uchter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transporteren van de darminh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afbreken van de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meestal leeg bij een overledene(vandaar de na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ronkel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het belangrijkste deel van de spijsverteringskanaal.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de verteerde voedingsstoffen wo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armwand aan het blo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geg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hierdoor kan het lichaam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stoffen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oorta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 het bloed met de opgenomen voedingsstoffen verzamelt zich in de poortader(vena porta) en gaat dan naar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 voedingsstoffen omgezet in stoffen die het lichaam kan gebrui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Zorgvragers vragen speciale aandach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Moeten verantwoorde voeding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Hebben soms hulp hierbij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Bijhouden van de vochtba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Kans op ondervoeding/uitdro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poortad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4" descr="poortader=4"/>
          <p:cNvPicPr/>
          <p:nvPr/>
        </p:nvPicPr>
        <p:blipFill>
          <a:blip r:embed="rId1"/>
          <a:stretch/>
        </p:blipFill>
        <p:spPr>
          <a:xfrm>
            <a:off x="3381480" y="1828800"/>
            <a:ext cx="2381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lev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4" name="Picture 4" descr="Maag"/>
          <p:cNvPicPr/>
          <p:nvPr/>
        </p:nvPicPr>
        <p:blipFill>
          <a:blip r:embed="rId1"/>
          <a:stretch/>
        </p:blipFill>
        <p:spPr>
          <a:xfrm>
            <a:off x="2103480" y="1828800"/>
            <a:ext cx="4937040" cy="430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Overgang kronkeldarm–dikke dar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7" name="Picture 7" descr="overgang dikke darm"/>
          <p:cNvPicPr/>
          <p:nvPr/>
        </p:nvPicPr>
        <p:blipFill>
          <a:blip r:embed="rId1"/>
          <a:stretch/>
        </p:blipFill>
        <p:spPr>
          <a:xfrm>
            <a:off x="3059280" y="2265480"/>
            <a:ext cx="3282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 (Colon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t stuwen van de darm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kken van deze 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resorptie v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teren van onverteerbare r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vitam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meth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10" descr="endeldarm"/>
          <p:cNvPicPr/>
          <p:nvPr/>
        </p:nvPicPr>
        <p:blipFill>
          <a:blip r:embed="rId1"/>
          <a:stretch/>
        </p:blipFill>
        <p:spPr>
          <a:xfrm>
            <a:off x="2333520" y="2052720"/>
            <a:ext cx="4649760" cy="40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Endeldarm(rectum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5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slagpla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er indikken van de 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Colon2"/>
          <p:cNvPicPr/>
          <p:nvPr/>
        </p:nvPicPr>
        <p:blipFill>
          <a:blip r:embed="rId1"/>
          <a:stretch/>
        </p:blipFill>
        <p:spPr>
          <a:xfrm>
            <a:off x="4950000" y="2112840"/>
            <a:ext cx="3439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u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o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t uit 2 sluitspieren(sfinc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efecatie pro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rust is de rectumwand ontspannen en is de inwendige sluitspier aangespa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een bepaalde vullingsgraad van het rectum worden reksensoren geprik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inwendige sluitspier ontspant en tegelijkertijd spant zich de uitwendige sluits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 een geschikt moment kan defecatie plaats vi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 van afbraak en opname van voedingsstoffen in ons 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armstelsel"/>
          <p:cNvPicPr/>
          <p:nvPr/>
        </p:nvPicPr>
        <p:blipFill>
          <a:blip r:embed="rId1"/>
          <a:stretch/>
        </p:blipFill>
        <p:spPr>
          <a:xfrm>
            <a:off x="5478480" y="2622600"/>
            <a:ext cx="2379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oodzakelijke voedingsstoff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koolhyd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v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eiw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.vita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6.miner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schuit_40_kcal_2"/>
          <p:cNvPicPr/>
          <p:nvPr/>
        </p:nvPicPr>
        <p:blipFill>
          <a:blip r:embed="rId1"/>
          <a:stretch/>
        </p:blipFill>
        <p:spPr>
          <a:xfrm>
            <a:off x="472428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Noodzakelijke voedings en bouwstoffe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ouw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voor opbouw nieuwe cellen en 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inera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 (aminozu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n (co en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edings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als energieleveranc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antal calorie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alorien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chijf van vij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chijfvvijf"/>
          <p:cNvPicPr/>
          <p:nvPr/>
        </p:nvPicPr>
        <p:blipFill>
          <a:blip r:embed="rId1"/>
          <a:stretch/>
        </p:blipFill>
        <p:spPr>
          <a:xfrm>
            <a:off x="2438280" y="198108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r maken van de grote voedingsmolecu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het kleiner maken van deze moleculen produceert het lichaam een aantal sappen die dit proces volbre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g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rm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vleesklier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3:46Z</dcterms:created>
  <dc:creator> Bugel</dc:creator>
  <dc:description/>
  <dc:language>en-US</dc:language>
  <cp:lastModifiedBy>J.W.P. Bugel</cp:lastModifiedBy>
  <dcterms:modified xsi:type="dcterms:W3CDTF">2014-12-04T19:13:23Z</dcterms:modified>
  <cp:revision>18</cp:revision>
  <dc:subject/>
  <dc:title>Spijsvertering</dc:title>
</cp:coreProperties>
</file>