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6E3-969A-4D42-BD8E-AEFAEB01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A06-9474-4858-A62F-95DCD378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894-E862-49ED-9FBD-3AC1DF67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E50-253A-4D06-BACB-89E896E5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C65C-4720-4143-ACE0-916F9ADD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B982-482D-48DF-9FFB-BEEBDF15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6435-4B32-4C77-9B3B-349058E6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2C44-0DD8-4206-96D8-A749AEDB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006A-627D-4B45-9344-4711EFE8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E778-1297-41F0-A79F-CAA41CB6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460E-F479-4AC8-A9E0-9C5DD113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B93-2778-4507-B694-4FCF4A03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7066-8CEC-4849-A1D1-69F012CD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DDC5-F8A1-4B72-BCE8-2730CEF9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89D7-EE32-421D-BCAB-D21C451C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1980-2CB5-4166-8EBD-03BD5528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AD30-DFF4-4BFF-922F-84F5C3B9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D6F-0E4B-44FB-BA95-E9E1A381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E529-3F1B-409E-97A5-1D071764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BB8-D1E8-4070-8733-7EE28E6D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39E-3D62-4382-9E50-165825DE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43A-1620-42BD-A380-A9F6BFF5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703-2380-47F4-9A6E-DDACAF25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48B-37F9-48AA-9F43-C6E44D75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8C1C-EF08-460C-8AD5-67A3BD0747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200" y="278568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3360" y="274464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7120" y="2642760"/>
                <a:ext cx="9885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16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5360" y="2690640"/>
                <a:ext cx="98856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1920" y="264888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948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532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9215-E1E4-4E93-95D3-A2510F67C8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8000"/>
            <a:ext cx="7772400" cy="228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3366"/>
                </a:solidFill>
                <a:latin typeface="Times New Roman"/>
              </a:rPr>
              <a:t>Spieren en spierstelsel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Motorische uni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Tijdelijke aanduiding voor inhoud 3" descr="synaps_et_spier.jpg"/>
          <p:cNvPicPr/>
          <p:nvPr/>
        </p:nvPicPr>
        <p:blipFill>
          <a:blip r:embed="rId1"/>
          <a:stretch/>
        </p:blipFill>
        <p:spPr>
          <a:xfrm>
            <a:off x="2201760" y="2254320"/>
            <a:ext cx="57150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terkte van de spiercontract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.Impulsfrequ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pier krijgt door de hoge frequentie geen tijd om zich te ont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gn stapeling van contrac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.Aantal motor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een grotere stimulus van uit de hersenen worden er  meer spieren ingez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lad spierweefs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willekeurige 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nig 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ageren tr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al in de wand van org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Afbeelding 3" descr="gladspier.jpg"/>
          <p:cNvPicPr/>
          <p:nvPr/>
        </p:nvPicPr>
        <p:blipFill>
          <a:blip r:embed="rId1"/>
          <a:stretch/>
        </p:blipFill>
        <p:spPr>
          <a:xfrm>
            <a:off x="5214960" y="4381560"/>
            <a:ext cx="2428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Hart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 hiervan lijkt op dat van het dwarsgestreepte spierweef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willekeu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rmoeiba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3" descr="hartspier.jpg"/>
          <p:cNvPicPr/>
          <p:nvPr/>
        </p:nvPicPr>
        <p:blipFill>
          <a:blip r:embed="rId1"/>
          <a:stretch/>
        </p:blipFill>
        <p:spPr>
          <a:xfrm>
            <a:off x="5000760" y="3786120"/>
            <a:ext cx="3500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ynerg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der spieren die samen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gspieren van boven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ekspieren van de 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gspieren van de b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Antagon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jn spieren die met elkaar een beweging mogelij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de ene spier aanspant,ontspant de andere 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b: biceps en tric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2 spieren zorgen voor de buiging en strekking van de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e bekendste antagon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D:\Documents and Settings\bugelj\Mijn documenten\Mijn afbeeldingen\spiers34.jpg"/>
          <p:cNvPicPr/>
          <p:nvPr/>
        </p:nvPicPr>
        <p:blipFill>
          <a:blip r:embed="rId1"/>
          <a:stretch/>
        </p:blipFill>
        <p:spPr>
          <a:xfrm>
            <a:off x="838080" y="1905120"/>
            <a:ext cx="2724120" cy="40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D:\Documents and Settings\bugelj\Mijn documenten\Mijn afbeeldingen\spieren2.jpg"/>
          <p:cNvPicPr/>
          <p:nvPr/>
        </p:nvPicPr>
        <p:blipFill>
          <a:blip r:embed="rId2"/>
          <a:stretch/>
        </p:blipFill>
        <p:spPr>
          <a:xfrm>
            <a:off x="3500280" y="1857240"/>
            <a:ext cx="40863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spanning/tonu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rust heeft lichaam een bepaalde spiert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zorgt voor de handhaving van de lichaams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spasticiteit is de rusttonus te ho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Termen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alys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ier niet bewust kunnen aansp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ier wel kunnen aanspannen,maar geen kr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ieratro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r worden van d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ierhypertro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r worden van d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atrof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Tijdelijke aanduiding voor inhoud 3" descr="spieratrofie.jpg"/>
          <p:cNvPicPr/>
          <p:nvPr/>
        </p:nvPicPr>
        <p:blipFill>
          <a:blip r:embed="rId1"/>
          <a:stretch/>
        </p:blipFill>
        <p:spPr>
          <a:xfrm>
            <a:off x="1928880" y="2071800"/>
            <a:ext cx="2500200" cy="1919160"/>
          </a:xfrm>
          <a:prstGeom prst="rect">
            <a:avLst/>
          </a:prstGeom>
          <a:ln w="0">
            <a:noFill/>
          </a:ln>
        </p:spPr>
      </p:pic>
      <p:pic>
        <p:nvPicPr>
          <p:cNvPr id="172" name="Afbeelding 4" descr="spieratrofie1.jpg"/>
          <p:cNvPicPr/>
          <p:nvPr/>
        </p:nvPicPr>
        <p:blipFill>
          <a:blip r:embed="rId2"/>
          <a:stretch/>
        </p:blipFill>
        <p:spPr>
          <a:xfrm>
            <a:off x="5500800" y="264312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Taak van de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andhouding van de lichaams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bewe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erming  botten en inge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en van de 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Overzicht van de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D:\Documents and Settings\bugelj\Mijn documenten\Mijn afbeeldingen\spieren.jpg"/>
          <p:cNvPicPr/>
          <p:nvPr/>
        </p:nvPicPr>
        <p:blipFill>
          <a:blip r:embed="rId1"/>
          <a:stretch/>
        </p:blipFill>
        <p:spPr>
          <a:xfrm>
            <a:off x="1523880" y="1752480"/>
            <a:ext cx="6400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en kunnen maar 2 ding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trek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lles of niets reg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beweging ontstaat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wisselend aanspannen en ontspannen van de sp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artek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oorten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warsgestreept/willekeu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s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mo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ad/onwillekeu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in de org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za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rmoei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ur lijkt op dat van dwarsgestre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glad spierweef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al een skelet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tten aan het bot vast dmv een p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 beweging mogelijk door contra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llekeurig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activeerd door een motorische zen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zenuw komt vanuit de hers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Tijdelijke aanduiding voor inhoud 3" descr="spiee.jpg"/>
          <p:cNvPicPr/>
          <p:nvPr/>
        </p:nvPicPr>
        <p:blipFill>
          <a:blip r:embed="rId1"/>
          <a:stretch/>
        </p:blipFill>
        <p:spPr>
          <a:xfrm>
            <a:off x="1403280" y="2708280"/>
            <a:ext cx="2306880" cy="2306520"/>
          </a:xfrm>
          <a:prstGeom prst="rect">
            <a:avLst/>
          </a:prstGeom>
          <a:ln w="0">
            <a:noFill/>
          </a:ln>
        </p:spPr>
      </p:pic>
      <p:pic>
        <p:nvPicPr>
          <p:cNvPr id="140" name="Afbeelding 3" descr="dwarsgestreep.jpg"/>
          <p:cNvPicPr/>
          <p:nvPr/>
        </p:nvPicPr>
        <p:blipFill>
          <a:blip r:embed="rId2"/>
          <a:stretch/>
        </p:blipFill>
        <p:spPr>
          <a:xfrm>
            <a:off x="4356000" y="2781360"/>
            <a:ext cx="30322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Opbouw van de 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vez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bu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mgeven door bindweef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omgeven door een bindweefselv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fas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ezels van de fascie komen uit in de pees,die de spier verbindt met het 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Afbeelding 3" descr="spier1.jpg"/>
          <p:cNvPicPr/>
          <p:nvPr/>
        </p:nvPicPr>
        <p:blipFill>
          <a:blip r:embed="rId1"/>
          <a:stretch/>
        </p:blipFill>
        <p:spPr>
          <a:xfrm>
            <a:off x="6443640" y="1341360"/>
            <a:ext cx="21495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Tijdelijke aanduiding voor inhoud 3" descr="spier.jpg"/>
          <p:cNvPicPr/>
          <p:nvPr/>
        </p:nvPicPr>
        <p:blipFill>
          <a:blip r:embed="rId1"/>
          <a:stretch/>
        </p:blipFill>
        <p:spPr>
          <a:xfrm>
            <a:off x="2509920" y="2065320"/>
            <a:ext cx="50864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Motorische unit bestaat uit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torische zen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motorische zenuw aan gestuurde spiervez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grootte van de mototische unit  vari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laats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d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en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9:23:09Z</dcterms:created>
  <dc:creator>custom</dc:creator>
  <dc:description/>
  <dc:language>en-US</dc:language>
  <cp:lastModifiedBy>J.W.P. Bugel</cp:lastModifiedBy>
  <dcterms:modified xsi:type="dcterms:W3CDTF">2012-03-22T10:34:41Z</dcterms:modified>
  <cp:revision>13</cp:revision>
  <dc:subject/>
  <dc:title>Spieren en spierstelsel</dc:title>
</cp:coreProperties>
</file>