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8A3-300A-4F40-B2CE-E1F16592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714-E8EC-41C6-9460-CE3D64C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BB1-2E5E-4249-9DD3-5E0A850D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BFB-8A09-46C3-B4C8-6F157244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D0DB1-1621-42CF-8933-FDA39B88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8067F-D656-4B8A-B41B-2E8091E4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29D16-85A3-41C7-A824-1916FFD8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51E1A-07DC-46EF-AB13-9DED8B67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5160F-C8F4-409B-9FDA-6C736B1C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691B2-27B0-45D0-B1B6-CF16A2A3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73A9B-FD84-4ECC-9239-D4544E4D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7FA-2AB0-4FE2-8F71-537E4369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269D1-39C4-475D-8463-D676D0E9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6B585-0B7F-4E19-8791-81B2D864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7954E-5F97-4CB5-9F7F-17370D31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E59F6-A1C3-4637-B79C-0CE3F9E7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1DBE6-36E1-435C-9557-1ED48770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13BF2-6008-4E46-90E2-74F0E1F3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64ECC-3911-4472-9551-A3AB58E3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F44C2-83D8-4F53-8D51-B589476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A0051-D8C8-49E7-96FD-CAAAFFEB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4B020-F97F-47E9-8B5B-B91C342A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CAD-483D-4772-81AD-2DA875C1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427E5-5866-4312-A0D2-DEA6F579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5ADB2-8B9E-431B-85FD-D71B181E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157D8-E4C7-4BF1-B0BD-EF2F2DF9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6FB1E-8889-45A7-93DD-3148A104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3B894-B9F1-4B02-A782-27E5646E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7CC05-8892-49E2-B26E-66F01214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B9687-5767-460A-AA25-52FC2502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6F4B-8EA3-46B4-A732-C9D9D839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C28D8-5B7D-4B7C-BE1C-2285B7EA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C369-62D0-4F19-A7AB-EE0B6BB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EAE-271C-4CB7-847B-AD4CEB51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C7E63-5236-4A70-A361-26BE3969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CBE9-599C-4291-8401-B20CA901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E672C-A5DA-4499-BC15-BA5B199A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C4F49-3D4D-490E-91A2-CB5B81D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1D02-AF90-4AC7-AF31-748E9184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2041-FD06-40ED-BD27-AF8CB4CB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F503-7ED3-4B54-B9A3-5804066D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C31A-E486-45A2-BF6A-DAC1945A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C2E9B-FC30-4E88-A428-BEACE75A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6AD16-2ED4-41E3-9315-9AF55CB7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285-180D-438E-82D9-E913E253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75E95-C346-4F79-B499-AECA069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D6FEA-5141-4589-A1F8-A407FE1D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EAB0C-2970-4AA6-AAD3-9109729B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6FEC6-D8F2-4C64-95C6-5AB655E0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3AADF-427E-47A8-AA16-65F00D46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B5766-046E-483F-8220-F22F715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68C55-8A1F-4B3C-B1AD-4DD2336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A1DCD-17CF-4D1B-B7A1-000719A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2D1F2-9FB8-4D59-89D2-70C93965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F4E30-44E1-4323-BA95-57480F4D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FCD-69DE-4BDE-941F-B9F3170D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B04EC-F5A8-4E5E-8414-ADD378F9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1B4E8-3B0F-4737-BF88-34C20470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8EEF-B980-4338-9E8F-58FA51D7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221C0-F092-4AAE-8A82-BB73FD0A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98E88-62ED-4C8E-B2FD-E5CDFB28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AB9C-8621-49D3-BFCA-67B81DBF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7EBA8-A8A1-4619-A5DE-C9956A66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6DE3-39A6-4F56-9AFF-23FD29A7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51EAC-E296-4C52-B88F-06114937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FB54D-54D2-4330-8364-03A50660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BEC-282F-4879-8F05-E4E5811A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D2A4-2DD8-44A8-A5FB-4DD34265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ECF2F-C744-4665-BA56-DC4D8A44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F1ADC-0AE1-48F9-B965-05F94A27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E2CC7-A2BA-4B52-A091-67ECC4C7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1C108-157E-4316-86D1-AE496B4C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437ED-6C0D-4A73-8FCC-48E5CAF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C9CC3-C7A4-46F0-879B-DD4CA4EE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8F0FE-CC19-4689-9674-18A6C11A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72AEA-7F98-4807-AA0D-2A5B372C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FC67-D0F5-4ED9-A508-087F4CC1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8EF-9C48-4CD9-8405-5810F54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89C00-A1A6-4AE3-976C-A64334B2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EFA0A-DDAD-46DF-B502-99A4B7A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BF836-8E9B-441C-B276-8B11F8AC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9F9C0-F567-4D8B-B2EF-7B75AB06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8D131-6BE8-462B-B18F-D33824C2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EE7-810F-4962-B358-1403129E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A77B-8C14-42B0-B514-A1075870E8C2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FEDA-A93D-4318-8039-E8BAE5C6D924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2017-C89A-48B8-8A35-79C39575CB26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B5B6-C043-4BCF-98E4-B08D3CEFC0ED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E67D-BAC3-4C67-8E9E-8BCCA616AE70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162E-FECD-4F5D-88DA-CD190925F2AA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89D7-4D98-4D46-894A-F22E2506B2F7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_tfic_F_04g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oTaOhGD-OQ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College anatomie/fysiologie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Basisjaar V&amp;V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Rectangle 24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INDE VLEK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6" name="Picture 4" descr="blinde vlek"/>
          <p:cNvPicPr/>
          <p:nvPr/>
        </p:nvPicPr>
        <p:blipFill>
          <a:blip r:embed="rId1"/>
          <a:stretch/>
        </p:blipFill>
        <p:spPr>
          <a:xfrm>
            <a:off x="685800" y="2209680"/>
            <a:ext cx="4038480" cy="3713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AnatomieOog"/>
          <p:cNvPicPr/>
          <p:nvPr/>
        </p:nvPicPr>
        <p:blipFill>
          <a:blip r:embed="rId2"/>
          <a:stretch/>
        </p:blipFill>
        <p:spPr>
          <a:xfrm>
            <a:off x="4267080" y="2666880"/>
            <a:ext cx="44020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de opening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 zich groter en kleiner maken dmv lengtespiertjes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roter bij minder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leiner bij veel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een reflex (is dus een onwillekeurige spie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zich platter of boller mak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latter voor veraf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oller voor dichtbij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ACHTER DE PUPIL ZIT DE 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44" name="Picture 4" descr="AnatomieOog"/>
          <p:cNvPicPr/>
          <p:nvPr/>
        </p:nvPicPr>
        <p:blipFill>
          <a:blip r:embed="rId1"/>
          <a:stretch/>
        </p:blipFill>
        <p:spPr>
          <a:xfrm>
            <a:off x="4572000" y="3048120"/>
            <a:ext cx="4572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af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Platt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niet veel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ichtbij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oll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meer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ond de ooglens zit  een kringspier die de lens boller of platter kan maken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ij het ouder worden gaat dat steeds moeilijker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emedie: Leesbril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leden-bescherm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spieren(6)-zorgen voor beweging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aanklier-bacteriedodend/bevochtig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enkbrauwen-opvangen stof en 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ULPORGANEN VAN 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9900"/>
                </a:solidFill>
                <a:uFillTx/>
                <a:latin typeface="Franklin Gothic Medium"/>
                <a:hlinkClick r:id="rId1"/>
              </a:rPr>
              <a:t>https://www.youtube.com/watch?v=_tfic_F_04g</a:t>
            </a: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FILMPJ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itte staar is een afwijking van de lens.Het is een vertroebelde 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Is te verhel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ITTE /GRIJZ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57" name="Picture 4" descr="staar"/>
          <p:cNvPicPr/>
          <p:nvPr/>
        </p:nvPicPr>
        <p:blipFill>
          <a:blip r:embed="rId1"/>
          <a:stretch/>
        </p:blipFill>
        <p:spPr>
          <a:xfrm>
            <a:off x="2743200" y="3581280"/>
            <a:ext cx="51166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eveel oogkamer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te hoge druk op het 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slechter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leiden tot blindhe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emedie:toedienen van oogdruppels waardoor de druk afneemt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GROENE STAAR/GLAUCOOM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ROEN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4" name="Picture 1028" descr="glaucoom"/>
          <p:cNvPicPr/>
          <p:nvPr/>
        </p:nvPicPr>
        <p:blipFill>
          <a:blip r:embed="rId1"/>
          <a:stretch/>
        </p:blipFill>
        <p:spPr>
          <a:xfrm>
            <a:off x="2133720" y="1676520"/>
            <a:ext cx="472428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 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opv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Midd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geleid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inn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verwer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4" descr="zintuigen"/>
          <p:cNvPicPr/>
          <p:nvPr/>
        </p:nvPicPr>
        <p:blipFill>
          <a:blip r:embed="rId1"/>
          <a:stretch/>
        </p:blipFill>
        <p:spPr>
          <a:xfrm>
            <a:off x="2286000" y="2514600"/>
            <a:ext cx="46292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uidsgolv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Zijn schommelingen in de luchtdruk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Hebben een snelheid van 330 m/sec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Gaan in alle richting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ADEQUATE PRIKKEL VOOR HET GEHOORORGAAN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4" name="Picture 4" descr="oor1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8" name="Picture 4" descr="oor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rschelp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e gehoorg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2.5 cm la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ommel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 hamer (het eerste middenoorbeentje) zit aan het trommelvlies vas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0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ITWENDIG 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Middenoorbeen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Ham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ambeel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Stijgbeugel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Brengen de geluidsgolven over van het trommelvlies op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sterken het geluid 20 x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MIDDEN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rmt de verbinding tussen het middenoor en de keel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ornaamste taak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uchtdruk aan weerszijden van het trommelvlies gelijk mak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s op middenoorontste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jdelijke aanduiding voor inhoud 4" descr="buis van.jpg"/>
          <p:cNvPicPr/>
          <p:nvPr/>
        </p:nvPicPr>
        <p:blipFill>
          <a:blip r:embed="rId1"/>
          <a:stretch/>
        </p:blipFill>
        <p:spPr>
          <a:xfrm>
            <a:off x="2308320" y="2236680"/>
            <a:ext cx="4552920" cy="3372120"/>
          </a:xfrm>
          <a:prstGeom prst="rect">
            <a:avLst/>
          </a:prstGeom>
          <a:ln w="0">
            <a:noFill/>
          </a:ln>
        </p:spPr>
      </p:pic>
      <p:sp>
        <p:nvSpPr>
          <p:cNvPr id="38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lakkenhui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Omzetting van geluidsgolven in elektrische impulsen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 + voorh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Rotatiezintuig en evenwichtsorga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INNENOOR/LABYRI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mzetting van geluidsgolven in zenuwimpuls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tijgbeugel grenst a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t ovale venster is het begin van het slakkenhu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0" name="Picture 4" descr="slakkenhuis"/>
          <p:cNvPicPr/>
          <p:nvPr/>
        </p:nvPicPr>
        <p:blipFill>
          <a:blip r:embed="rId1"/>
          <a:stretch/>
        </p:blipFill>
        <p:spPr>
          <a:xfrm>
            <a:off x="1619280" y="184464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lgemeen: Zorgen voor contact met de buitenwerel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Factoren die een rol hierbij spel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is slechts gevoelig voor bepaalde prikkel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kan niet alles waarnem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Je kunt de aandacht van de zintuigen stur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Bij uitval nemen andere zintuigen taken gedeeltelijk ov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TAAK VAN DE 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0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pgerolde buis gevuld met vloeist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eze vloeistof beweegt door de bewegingen v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het slakkenhuis zitten zintuigcellen, die bewegingen van de vloeistof omzetten in elektrische impuls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ia de gehoorzenuw gaan deze impulsen naar de hersen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2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WERKING 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4" name="Rechthoek 1"/>
          <p:cNvSpPr/>
          <p:nvPr/>
        </p:nvSpPr>
        <p:spPr>
          <a:xfrm>
            <a:off x="270036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s://www.youtube.com/watch?v=ioTaOhGD-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hof=evenwichts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=rotatie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EVENWICHTSORGAAN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8" name="Picture 4" descr="evenwichtsorgaan"/>
          <p:cNvPicPr/>
          <p:nvPr/>
        </p:nvPicPr>
        <p:blipFill>
          <a:blip r:embed="rId1"/>
          <a:stretch/>
        </p:blipFill>
        <p:spPr>
          <a:xfrm>
            <a:off x="762120" y="3429000"/>
            <a:ext cx="3276360" cy="2978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evenwicht"/>
          <p:cNvPicPr/>
          <p:nvPr/>
        </p:nvPicPr>
        <p:blipFill>
          <a:blip r:embed="rId2"/>
          <a:stretch/>
        </p:blipFill>
        <p:spPr>
          <a:xfrm>
            <a:off x="5486400" y="3505320"/>
            <a:ext cx="2438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roen=zoe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aars=zuu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lauw=zou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ood=bit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3" name="Picture 4" descr="tong"/>
          <p:cNvPicPr/>
          <p:nvPr/>
        </p:nvPicPr>
        <p:blipFill>
          <a:blip r:embed="rId1"/>
          <a:stretch/>
        </p:blipFill>
        <p:spPr>
          <a:xfrm>
            <a:off x="5105520" y="1905120"/>
            <a:ext cx="33652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7" name="Picture 4" descr="neus2"/>
          <p:cNvPicPr/>
          <p:nvPr/>
        </p:nvPicPr>
        <p:blipFill>
          <a:blip r:embed="rId1"/>
          <a:stretch/>
        </p:blipFill>
        <p:spPr>
          <a:xfrm>
            <a:off x="1905120" y="1981080"/>
            <a:ext cx="4952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alleen maar via de neus in het reukslijmvlies.Dit ligt boven in linker en rechter neus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svormige stoff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Neus is erg gevoel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reacties oproe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rak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oductie speeksel of maagsap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/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4" name="Picture 4" descr="neusmond zintuig"/>
          <p:cNvPicPr/>
          <p:nvPr/>
        </p:nvPicPr>
        <p:blipFill>
          <a:blip r:embed="rId1"/>
          <a:stretch/>
        </p:blipFill>
        <p:spPr>
          <a:xfrm>
            <a:off x="1143000" y="1981080"/>
            <a:ext cx="6858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Zie lessen verplaatsingstechnieken en college Hu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AS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Lens minder elastisch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Arcus senilis=afzetting van cholesterol in het hoornvlie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Degeneratie van het netvlies= afname van kegeltjes op de gele vlek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Groen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Witte /grijz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OUDERDOMSVERSCHIJNSELEN VAN HET OOGZINTUI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eid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orsmeerprop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aatjes in het trommelvli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fwijking van de gehoorbeentj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Middenoorontsteki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Pus in het middenoor.Geeft druk op het trommelvlies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Waarnem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uderdomsslechthorend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in het slakkenhuis gaan in functie achteruit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zenuw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centrum hersenen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waai doof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zijn onherstelbaar beschadigd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eenmalig(ontploffing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langdurig(harde muziek of werklawaai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arde 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aa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og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ulporganen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evenwichts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ngere gewenning na veranderen van positie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reuk en smaak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waliteitsverlies van het lev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an gevaarlijk zijn(reukverlies)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UDERDOMSVERSCHIJNSEL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7" name="Picture 1028" descr="AnatomieOog"/>
          <p:cNvPicPr/>
          <p:nvPr/>
        </p:nvPicPr>
        <p:blipFill>
          <a:blip r:embed="rId1"/>
          <a:stretch/>
        </p:blipFill>
        <p:spPr>
          <a:xfrm>
            <a:off x="1676520" y="1905120"/>
            <a:ext cx="6365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it en hard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Voorkant is het hoornvlies/doorzichti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eft stevigheid en beschermin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ARDE OOG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1" name="Picture 4" descr="AnatomieOog"/>
          <p:cNvPicPr/>
          <p:nvPr/>
        </p:nvPicPr>
        <p:blipFill>
          <a:blip r:embed="rId1"/>
          <a:stretch/>
        </p:blipFill>
        <p:spPr>
          <a:xfrm>
            <a:off x="3962520" y="3882960"/>
            <a:ext cx="35812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ziet het oog van blo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eel bloedvat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kant is iris/regenb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t in iris=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VAA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5" name="Picture 4" descr="AnatomieOog"/>
          <p:cNvPicPr/>
          <p:nvPr/>
        </p:nvPicPr>
        <p:blipFill>
          <a:blip r:embed="rId1"/>
          <a:stretch/>
        </p:blipFill>
        <p:spPr>
          <a:xfrm>
            <a:off x="4038480" y="3657600"/>
            <a:ext cx="37162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de iris zitten kleurstoffen. Deze geven de kleur aan je iri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Een albino heeft deze kleurstoffen niet. Dus een ro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RIS EN 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9" name="Picture 4" descr="iris"/>
          <p:cNvPicPr/>
          <p:nvPr/>
        </p:nvPicPr>
        <p:blipFill>
          <a:blip r:embed="rId1"/>
          <a:stretch/>
        </p:blipFill>
        <p:spPr>
          <a:xfrm>
            <a:off x="5219640" y="3933720"/>
            <a:ext cx="28958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le dunne laag ( ong 0,2 mm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125 miljoen staaf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zwart/wit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7 miljoen kegel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kleu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le vlek is meest lichtgevoelige plek met alleen kegeltje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linde vlek is de plek waar d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Medium"/>
              </a:rPr>
              <a:t>oogzenuw 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het oog verlaat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NE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8:11:34Z</dcterms:created>
  <dc:creator>BugelJ</dc:creator>
  <dc:description/>
  <dc:language>en-US</dc:language>
  <cp:lastModifiedBy>J.W.P. Bugel</cp:lastModifiedBy>
  <dcterms:modified xsi:type="dcterms:W3CDTF">2016-02-24T10:35:46Z</dcterms:modified>
  <cp:revision>25</cp:revision>
  <dc:subject/>
  <dc:title>Zintuigen</dc:title>
</cp:coreProperties>
</file>