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4310-A355-47A1-B89A-28FC0DC2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FE50-1C1E-4690-842B-8BA1689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3F1F-30D0-4366-A156-00A6B419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D502-C5BE-4B54-8D84-5789B578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5221-3319-40CF-A3A4-2C01496B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3BD9-9FC7-43AA-93B4-13E62CAA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E902-07E4-4AF1-8375-ED2BA506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9CAF-0DCB-4B04-830E-E48F8E6A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0EFB-D20C-4DB1-A2AB-EE4283A6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264C-34BD-4AD9-B465-9A975A8C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216B-A1F5-4BB0-A4B0-91AE646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3614-9C34-48CF-9E98-64E6A25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7017-2E05-4253-ADA0-646C32EEAB95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Het bewegingsapparaat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Botten,gewrichten,banden en spieren werken samen om beweging mogelijk te ma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p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t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or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regelmatig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verbind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ind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a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z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ewrich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charni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og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Zad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i/elipsvormi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Ro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1" name="Picture 4" descr="gewricht"/>
          <p:cNvPicPr/>
          <p:nvPr/>
        </p:nvPicPr>
        <p:blipFill>
          <a:blip r:embed="rId1"/>
          <a:stretch/>
        </p:blipFill>
        <p:spPr>
          <a:xfrm>
            <a:off x="4211640" y="2341440"/>
            <a:ext cx="4464000" cy="3386160"/>
          </a:xfrm>
          <a:prstGeom prst="rect">
            <a:avLst/>
          </a:prstGeom>
          <a:ln w="0">
            <a:noFill/>
          </a:ln>
        </p:spPr>
      </p:pic>
      <p:sp>
        <p:nvSpPr>
          <p:cNvPr id="82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knie1"/>
          <p:cNvPicPr/>
          <p:nvPr/>
        </p:nvPicPr>
        <p:blipFill>
          <a:blip r:embed="rId1"/>
          <a:stretch/>
        </p:blipFill>
        <p:spPr>
          <a:xfrm>
            <a:off x="1908000" y="1809720"/>
            <a:ext cx="5185080" cy="4226040"/>
          </a:xfrm>
          <a:prstGeom prst="rect">
            <a:avLst/>
          </a:prstGeom>
          <a:ln w="0">
            <a:noFill/>
          </a:ln>
        </p:spPr>
      </p:pic>
      <p:sp>
        <p:nvSpPr>
          <p:cNvPr id="8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nderdelen van het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smalle ruimte tussen de kop en de ko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Gewrichtssmeer  ( is smerende vloeistof 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hulsel van straf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sluit de gewrichtsholte en houdt beide botdelen bij elkaa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 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binnenbekleding van het gewrichtskap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elastisch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voor extra stevigheid van het gewrich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Hier zijn de botuiteinden mee bedek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er voor dat de gewrichtsvlakken beter op elkaar pass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v de meniscus in de kn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afwijk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ontkalking-osteopo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kkeninstabilite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um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rt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Fractuu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tekent letterlijk “poreus bot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lans tussen opbouw en afbraak is nega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lies van kalk in de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 niet meer goed belasting opva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fractu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inza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Minder kal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2" name="Picture 4" descr="Osteoporose"/>
          <p:cNvPicPr/>
          <p:nvPr/>
        </p:nvPicPr>
        <p:blipFill>
          <a:blip r:embed="rId1"/>
          <a:stretch/>
        </p:blipFill>
        <p:spPr>
          <a:xfrm>
            <a:off x="2719440" y="3019320"/>
            <a:ext cx="3095640" cy="1962360"/>
          </a:xfrm>
          <a:prstGeom prst="rect">
            <a:avLst/>
          </a:prstGeom>
          <a:ln w="0">
            <a:noFill/>
          </a:ln>
        </p:spPr>
      </p:pic>
      <p:sp>
        <p:nvSpPr>
          <p:cNvPr id="10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skel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7" name="Picture 4" descr="Skelet1"/>
          <p:cNvPicPr/>
          <p:nvPr/>
        </p:nvPicPr>
        <p:blipFill>
          <a:blip r:embed="rId1"/>
          <a:stretch/>
        </p:blipFill>
        <p:spPr>
          <a:xfrm>
            <a:off x="2556000" y="112536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zakk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5" name="Picture 4" descr="osteovolutie"/>
          <p:cNvPicPr/>
          <p:nvPr/>
        </p:nvPicPr>
        <p:blipFill>
          <a:blip r:embed="rId1"/>
          <a:stretch/>
        </p:blipFill>
        <p:spPr>
          <a:xfrm>
            <a:off x="3244680" y="2038320"/>
            <a:ext cx="204480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8" name="Picture 4" descr="prevalentie osteoporose"/>
          <p:cNvPicPr/>
          <p:nvPr/>
        </p:nvPicPr>
        <p:blipFill>
          <a:blip r:embed="rId1"/>
          <a:stretch/>
        </p:blipFill>
        <p:spPr>
          <a:xfrm>
            <a:off x="1403280" y="1978200"/>
            <a:ext cx="6624720" cy="3617640"/>
          </a:xfrm>
          <a:prstGeom prst="rect">
            <a:avLst/>
          </a:prstGeom>
          <a:ln w="0">
            <a:noFill/>
          </a:ln>
        </p:spPr>
      </p:pic>
      <p:sp>
        <p:nvSpPr>
          <p:cNvPr id="10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eukgre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1" name="Picture 4" descr="osteoporose_broze-botten_fig_02"/>
          <p:cNvPicPr/>
          <p:nvPr/>
        </p:nvPicPr>
        <p:blipFill>
          <a:blip r:embed="rId1"/>
          <a:stretch/>
        </p:blipFill>
        <p:spPr>
          <a:xfrm>
            <a:off x="1322280" y="2332080"/>
            <a:ext cx="5889600" cy="3336840"/>
          </a:xfrm>
          <a:prstGeom prst="rect">
            <a:avLst/>
          </a:prstGeom>
          <a:ln w="0">
            <a:noFill/>
          </a:ln>
        </p:spPr>
      </p:pic>
      <p:sp>
        <p:nvSpPr>
          <p:cNvPr id="11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oorkomen van 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niet volkomen te voork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l te vertra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beweg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rok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calcium(vooral in voeding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itamine 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alprevent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Medicijnen(hormonaal en niet hormonaal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kkeninstabilitei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oderne ziekte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f niet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   wat is dat ??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ijdens zwangerschap verslapping van de banden in het be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slapping symfy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 invloed van hormonale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ierdoor komt er beweging tussen de bekken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in de lage ru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bij symfyse verbind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Klachten bij het lopen etc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BI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xtreme verslapping door vervroegde hormonale wer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rekking van de banden door lichamelijke inspan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4" descr="bekken"/>
          <p:cNvPicPr/>
          <p:nvPr/>
        </p:nvPicPr>
        <p:blipFill>
          <a:blip r:embed="rId1"/>
          <a:stretch/>
        </p:blipFill>
        <p:spPr>
          <a:xfrm>
            <a:off x="5143680" y="2436840"/>
            <a:ext cx="3047760" cy="2857320"/>
          </a:xfrm>
          <a:prstGeom prst="rect">
            <a:avLst/>
          </a:prstGeom>
          <a:ln w="0">
            <a:noFill/>
          </a:ln>
        </p:spPr>
      </p:pic>
      <p:sp>
        <p:nvSpPr>
          <p:cNvPr id="125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hand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Informatie gev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kkenband ter ondersteu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rainingsprogramma voor bil,buik en bekkenbodemspi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oudingstrai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oorkomen van verkeerde beweginge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aatste optie:operati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2" name="Picture 5" descr="artrose1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lijtag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 elkaar schuren va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n tijdens 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ijf en stram gevo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ndsverander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sbeperk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206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f2b20"/>
                </a:solidFill>
                <a:latin typeface="Calibri"/>
              </a:rPr>
              <a:t>Functies van het skele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evigheid en vor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scherm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hechtingsplaats spi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rming bloedcellen en bloedplaatj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orraadplaats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ormaal ouderdomsproc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afbraak van kraakbeen,dan aanmaak va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9" name="Picture 4" descr="artrose"/>
          <p:cNvPicPr/>
          <p:nvPr/>
        </p:nvPicPr>
        <p:blipFill>
          <a:blip r:embed="rId1"/>
          <a:stretch/>
        </p:blipFill>
        <p:spPr>
          <a:xfrm>
            <a:off x="2209680" y="3429000"/>
            <a:ext cx="464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isicofactoren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hronische(over)belas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gew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uma/beschadi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felijkhei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Lage vitamine D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nezing bestaat </a:t>
            </a:r>
            <a:r>
              <a:rPr b="0" lang="nl-NL" sz="22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toide Artritis(Chronische gewrichtsreum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6" name="Picture 4" descr="reuma"/>
          <p:cNvPicPr/>
          <p:nvPr/>
        </p:nvPicPr>
        <p:blipFill>
          <a:blip r:embed="rId1"/>
          <a:stretch/>
        </p:blipFill>
        <p:spPr>
          <a:xfrm>
            <a:off x="1943280" y="1743120"/>
            <a:ext cx="5257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steking 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aardoor productie ontstekingsvo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sting kraakbeen e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estal chronische aandoen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iagn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zwell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op rontgenfot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in het blo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bservatie blijft belangrij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5" name="Picture 7" descr="reuma 2"/>
          <p:cNvPicPr/>
          <p:nvPr/>
        </p:nvPicPr>
        <p:blipFill>
          <a:blip r:embed="rId1"/>
          <a:stretch/>
        </p:blipFill>
        <p:spPr>
          <a:xfrm>
            <a:off x="4869000" y="2763720"/>
            <a:ext cx="3597120" cy="2203560"/>
          </a:xfrm>
          <a:prstGeom prst="rect">
            <a:avLst/>
          </a:prstGeom>
          <a:ln w="0">
            <a:noFill/>
          </a:ln>
        </p:spPr>
      </p:pic>
      <p:sp>
        <p:nvSpPr>
          <p:cNvPr id="156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57" name="Picture 5" descr="reuma 1"/>
          <p:cNvPicPr/>
          <p:nvPr/>
        </p:nvPicPr>
        <p:blipFill>
          <a:blip r:embed="rId2"/>
          <a:stretch/>
        </p:blipFill>
        <p:spPr>
          <a:xfrm>
            <a:off x="533520" y="1600200"/>
            <a:ext cx="3886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breuk/fractuu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het onderbreken van de continuiteit van het bo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eur of gebro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orzaa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Door geweld van buitenaf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roos worden van het bot(oa.osteoporos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xtern gewel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2" name="Picture 4" descr="femurfractuur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4537080"/>
          </a:xfrm>
          <a:prstGeom prst="rect">
            <a:avLst/>
          </a:prstGeom>
          <a:ln w="0">
            <a:noFill/>
          </a:ln>
        </p:spPr>
      </p:pic>
      <p:sp>
        <p:nvSpPr>
          <p:cNvPr id="1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oos worden van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5" name="Picture 4" descr="heup_fractuur2"/>
          <p:cNvPicPr/>
          <p:nvPr/>
        </p:nvPicPr>
        <p:blipFill>
          <a:blip r:embed="rId1"/>
          <a:stretch/>
        </p:blipFill>
        <p:spPr>
          <a:xfrm>
            <a:off x="2373480" y="1700280"/>
            <a:ext cx="4205160" cy="4537080"/>
          </a:xfrm>
          <a:prstGeom prst="rect">
            <a:avLst/>
          </a:prstGeom>
          <a:ln w="0">
            <a:noFill/>
          </a:ln>
        </p:spPr>
      </p:pic>
      <p:sp>
        <p:nvSpPr>
          <p:cNvPr id="16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/geslot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sloten breu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De huid en omliggend weefsel is nog heel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et bot staat </a:t>
            </a:r>
            <a:r>
              <a:rPr b="0" lang="nl-NL" sz="21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 in contact met de buitenluch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9" name="Picture 4" descr="fractuur1"/>
          <p:cNvPicPr/>
          <p:nvPr/>
        </p:nvPicPr>
        <p:blipFill>
          <a:blip r:embed="rId1"/>
          <a:stretch/>
        </p:blipFill>
        <p:spPr>
          <a:xfrm>
            <a:off x="5345280" y="2097000"/>
            <a:ext cx="2644560" cy="3537000"/>
          </a:xfrm>
          <a:prstGeom prst="rect">
            <a:avLst/>
          </a:prstGeom>
          <a:ln w="0">
            <a:noFill/>
          </a:ln>
        </p:spPr>
      </p:pic>
      <p:sp>
        <p:nvSpPr>
          <p:cNvPr id="170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- of been 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uid is niet meer he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steekt door de huid h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is in contact met buitenlu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s op infectie i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gere bothel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en- of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ard en stevi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buigzaa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mass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el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 plaatsen waar stevigheid belangrijk 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Kraakbe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eer lijmstoff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uigzam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iet doorb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voed door synoviale voc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pvangen van druk en scho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schillende ple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Ribb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rvels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Gewricht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Neus,oorschelp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an buiten naar binn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Beenvlies(periost)</a:t>
            </a: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loedvaten en zenuw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chors 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vormende cell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ponsachtige massa(spongiosa)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estaat uit kleine holtes met rood beenmerg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 is dus niet massief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In het rode beenmerg worden rode en witte bloedlichaampjes gemaak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reed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Door de botvormende cellen in de schors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nderarm"/>
          <p:cNvPicPr/>
          <p:nvPr/>
        </p:nvPicPr>
        <p:blipFill>
          <a:blip r:embed="rId1"/>
          <a:stretch/>
        </p:blipFill>
        <p:spPr>
          <a:xfrm>
            <a:off x="4799160" y="2246400"/>
            <a:ext cx="3736800" cy="323856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eng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Groeischijf aan het eind van het bot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4" descr="groeischijf"/>
          <p:cNvPicPr/>
          <p:nvPr/>
        </p:nvPicPr>
        <p:blipFill>
          <a:blip r:embed="rId1"/>
          <a:stretch/>
        </p:blipFill>
        <p:spPr>
          <a:xfrm>
            <a:off x="1547640" y="3430440"/>
            <a:ext cx="2557800" cy="255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groeischijffractuur"/>
          <p:cNvPicPr/>
          <p:nvPr/>
        </p:nvPicPr>
        <p:blipFill>
          <a:blip r:embed="rId2"/>
          <a:stretch/>
        </p:blipFill>
        <p:spPr>
          <a:xfrm>
            <a:off x="6415200" y="1700280"/>
            <a:ext cx="196524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Tijdelijke aanduiding voor voettekst 6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8:51:28Z</dcterms:created>
  <dc:creator>Bugel</dc:creator>
  <dc:description/>
  <dc:language>en-US</dc:language>
  <cp:lastModifiedBy>J.W.P. Bugel</cp:lastModifiedBy>
  <dcterms:modified xsi:type="dcterms:W3CDTF">2014-09-30T09:35:40Z</dcterms:modified>
  <cp:revision>18</cp:revision>
  <dc:subject/>
  <dc:title>Het bewegingsapparaat</dc:title>
</cp:coreProperties>
</file>